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8D7-F9F9-41F0-B5C7-96FB393B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6B70-E03E-4431-BAA3-517829F8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FC9B-218C-4822-912D-CB839A3A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4AC0-DC4E-4A0B-A6CE-2BDFB422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54D1-ED27-468E-B7C9-E304EEE1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9F96-ABDB-41AF-8FC5-4BACF29D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352B-82D7-4B86-BB1E-600D3D16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6343-327D-43E3-9791-A9B5D04C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E03E-4814-4294-8C11-3610CC4D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9EC5-2282-4FC9-AD87-2859714F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CF13-3711-44CE-8F56-F7C24FD5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462-21EE-4491-8156-77391D0B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5E16-820A-4E63-8CC3-89487B831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92468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ngravers MT"/>
              </a:rPr>
              <a:t>Medieval Punish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By: Emma Davis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Engravers MT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l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when kings and queens would rule harshly to stay i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ad to punishments that were sometimes even more violent and more ethically wrong than the cr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of unfairness dealing with soci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ntroversial type of pun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used to acquire information, as a punishment, or to control the group in which the victim belo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used during the                            Spanish In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ell known torture                          device was the 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4120" y="3276720"/>
            <a:ext cx="35431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Devices of 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e we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aratuses for crushing head,                toes, thumbs, and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gue sl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per bo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ish b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8000">
            <a:off x="3505320" y="3885840"/>
            <a:ext cx="182880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534600">
            <a:off x="380520" y="5029200"/>
            <a:ext cx="2381400" cy="1498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2195640" cy="3171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858000" y="1295280"/>
            <a:ext cx="199080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ful tor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a cra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st ri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’s p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781680" y="380880"/>
            <a:ext cx="1865520" cy="2895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breast.JPG (9635 bytes)"/>
          <p:cNvPicPr/>
          <p:nvPr/>
        </p:nvPicPr>
        <p:blipFill>
          <a:blip r:embed="rId2"/>
          <a:stretch/>
        </p:blipFill>
        <p:spPr>
          <a:xfrm>
            <a:off x="3276720" y="2057400"/>
            <a:ext cx="2971800" cy="2476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ar.gif (19191 bytes)"/>
          <p:cNvPicPr/>
          <p:nvPr/>
        </p:nvPicPr>
        <p:blipFill>
          <a:blip r:embed="rId3"/>
          <a:stretch/>
        </p:blipFill>
        <p:spPr>
          <a:xfrm>
            <a:off x="762120" y="3962520"/>
            <a:ext cx="1600200" cy="2666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cat1.jpg (11153 bytes)"/>
          <p:cNvPicPr/>
          <p:nvPr/>
        </p:nvPicPr>
        <p:blipFill>
          <a:blip r:embed="rId4"/>
          <a:stretch/>
        </p:blipFill>
        <p:spPr>
          <a:xfrm>
            <a:off x="6477120" y="3809880"/>
            <a:ext cx="2324160" cy="1898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743200" y="4800600"/>
            <a:ext cx="262908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or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ge confi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to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rligi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whirligig.jpg (16004 bytes)"/>
          <p:cNvPicPr/>
          <p:nvPr/>
        </p:nvPicPr>
        <p:blipFill>
          <a:blip r:embed="rId1"/>
          <a:stretch/>
        </p:blipFill>
        <p:spPr>
          <a:xfrm>
            <a:off x="1143000" y="3429000"/>
            <a:ext cx="2157480" cy="3181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286240" y="1219320"/>
            <a:ext cx="3857760" cy="2090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714840" y="2971800"/>
            <a:ext cx="2577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Facts about 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e chambers-in lower parts of the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e dungeons were very small; some measuring only 11 feet by 7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 to twenty prisoners were confined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e was finally abolished in England in 16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on of executi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on by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ap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g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m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114800" y="2590920"/>
            <a:ext cx="42292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iddle Ages was a very violent and gory time of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re many cruel and brutal pun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our society today still has some cruelties, we have greatly evolved to become much more civiliz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5:37:33Z</dcterms:created>
  <dc:creator>Claire</dc:creator>
  <dc:description/>
  <dc:language>en-US</dc:language>
  <cp:lastModifiedBy>Claire</cp:lastModifiedBy>
  <dcterms:modified xsi:type="dcterms:W3CDTF">2009-09-28T00:17:12Z</dcterms:modified>
  <cp:revision>24</cp:revision>
  <dc:subject/>
  <dc:title>Medieval Punishments</dc:title>
</cp:coreProperties>
</file>