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182-F015-40F5-A237-3A80608F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689-9491-4553-8436-446DA58E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ED8-A041-4286-980B-71C716D9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0D9-A423-4CB9-A18A-53D3303B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6ED-B88F-40FD-9446-C91C8AE0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1AC-D0A9-4CF6-B320-75C2F1DA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F08-1803-4704-9800-0D9104B1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385-0DE8-4DB3-95B3-B6E39A43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491-6923-4AD2-99F0-472C043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B8C-5874-408D-AAFB-53F5D2F5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647-691D-4BAF-BD28-5869DE56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43B-486E-4867-AEC6-4D61871C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0829-7A6A-472E-9321-065DA648E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Medieval Pun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By: Emma Davi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Engravers MT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when kings and queens would rule harshly to stay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punishments that were sometimes even more violent and more ethically wrong than the cr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unfairness dealing with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ntroversial type of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to acquire information, as a punishment, or to control the group in which the victim bel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sed during the                           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ll known torture                          device was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543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evices of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 w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ratuses for crushing head,                toes, thumbs,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gue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b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8000">
            <a:off x="3505320" y="388584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534600">
            <a:off x="380520" y="5029200"/>
            <a:ext cx="2381400" cy="149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2195640" cy="31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0" y="1295280"/>
            <a:ext cx="1990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 cra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st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’s p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86552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east.JPG (9635 bytes)"/>
          <p:cNvPicPr/>
          <p:nvPr/>
        </p:nvPicPr>
        <p:blipFill>
          <a:blip r:embed="rId2"/>
          <a:stretch/>
        </p:blipFill>
        <p:spPr>
          <a:xfrm>
            <a:off x="3276720" y="205740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ar.gif (19191 bytes)"/>
          <p:cNvPicPr/>
          <p:nvPr/>
        </p:nvPicPr>
        <p:blipFill>
          <a:blip r:embed="rId3"/>
          <a:stretch/>
        </p:blipFill>
        <p:spPr>
          <a:xfrm>
            <a:off x="762120" y="3962520"/>
            <a:ext cx="160020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at1.jpg (11153 bytes)"/>
          <p:cNvPicPr/>
          <p:nvPr/>
        </p:nvPicPr>
        <p:blipFill>
          <a:blip r:embed="rId4"/>
          <a:stretch/>
        </p:blipFill>
        <p:spPr>
          <a:xfrm>
            <a:off x="6477120" y="3809880"/>
            <a:ext cx="232416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629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ge con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rlig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whirligig.jpg (16004 bytes)"/>
          <p:cNvPicPr/>
          <p:nvPr/>
        </p:nvPicPr>
        <p:blipFill>
          <a:blip r:embed="rId1"/>
          <a:stretch/>
        </p:blipFill>
        <p:spPr>
          <a:xfrm>
            <a:off x="1143000" y="3429000"/>
            <a:ext cx="2157480" cy="3181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86240" y="1219320"/>
            <a:ext cx="3857760" cy="20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14840" y="2971800"/>
            <a:ext cx="257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 about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chambers-in lower parts of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dungeons were very small; some measuring only 11 feet by 7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to twenty prisoners were confin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was finally abolished in England in 16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of execu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b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m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229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ddle Ages was a very violent and gory time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many cruel and brutal pun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ur society today still has some cruelties, we have greatly evolved to become much more civiliz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37:33Z</dcterms:created>
  <dc:creator>Claire</dc:creator>
  <dc:description/>
  <dc:language>en-US</dc:language>
  <cp:lastModifiedBy>Claire</cp:lastModifiedBy>
  <dcterms:modified xsi:type="dcterms:W3CDTF">2009-09-28T00:17:12Z</dcterms:modified>
  <cp:revision>24</cp:revision>
  <dc:subject/>
  <dc:title>Medieval Punishments</dc:title>
</cp:coreProperties>
</file>