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4.jpeg" ContentType="image/jpe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8.gif" ContentType="image/gif"/>
  <Override PartName="/ppt/media/image6.jpeg" ContentType="image/jpeg"/>
  <Override PartName="/ppt/media/image9.jpeg" ContentType="image/jpeg"/>
  <Override PartName="/ppt/media/image11.jpeg" ContentType="image/jpeg"/>
  <Override PartName="/ppt/media/image13.png" ContentType="image/png"/>
  <Override PartName="/ppt/media/image7.jpeg" ContentType="image/jpeg"/>
  <Override PartName="/ppt/media/image5.png" ContentType="image/pn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7077075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A29DB-3341-4816-B08A-415808B38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A91B1-5DD7-4835-BDB6-CD6EB999F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A3FC7-5C8A-4BCC-86C9-6E6AE7843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305F0-610E-4E5C-BCEB-7E321642C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9AF3E-2810-4BC3-9B44-00007BB2A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C3B97-0943-46E6-A0A6-D716C3BCC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612DD-9B43-4281-B3DF-C928209F4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0BEF9-140F-4D6A-9654-6144B0D76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E5324-02B1-48D9-9012-7EDA79571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3AC5D-5981-4B66-A32C-AD4BC8853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C054C-214C-4BAC-B146-9F1CE06A5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B811C-74FE-4F98-A382-8AD07CDB1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38C6F-7507-4FAB-B7B7-4B285262C2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gif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160" y="685800"/>
            <a:ext cx="7924680" cy="29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Engravers MT"/>
              </a:rPr>
              <a:t>Medieval Punish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ngravers MT"/>
              </a:rPr>
              <a:t>By: Emma Davis 5</a:t>
            </a:r>
            <a:r>
              <a:rPr b="0" lang="en-US" sz="3200" spc="-1" strike="noStrike" baseline="30000">
                <a:solidFill>
                  <a:srgbClr val="000000"/>
                </a:solidFill>
                <a:latin typeface="Engravers MT"/>
              </a:rPr>
              <a:t>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ddle A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me when kings and queens would rule harshly to stay in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lead to punishments that were sometimes even more violent and more ethically wrong than the crime itsel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me of unfairness dealing with social stat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ffcc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r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controversial type of punish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s used to acquire information, as a punishment, or to control the group in which the victim belong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used during the                            Spanish Inqui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well known torture                          device was the r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334120" y="3276720"/>
            <a:ext cx="3543120" cy="31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ffcc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Devices of Tor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e wed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aratuses for crushing head,                toes, thumbs, and f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ngue slic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pper bo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ottish bo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 rot="20568000">
            <a:off x="3505320" y="3885840"/>
            <a:ext cx="1828800" cy="21430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 rot="534600">
            <a:off x="380520" y="5029200"/>
            <a:ext cx="2381400" cy="14986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5715000" y="3276720"/>
            <a:ext cx="2195640" cy="31716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6858000" y="1295280"/>
            <a:ext cx="1990800" cy="16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ffcc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inful tor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da crad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east rip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t’s pa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781680" y="380880"/>
            <a:ext cx="1865520" cy="28958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breast.JPG (9635 bytes)"/>
          <p:cNvPicPr/>
          <p:nvPr/>
        </p:nvPicPr>
        <p:blipFill>
          <a:blip r:embed="rId2"/>
          <a:stretch/>
        </p:blipFill>
        <p:spPr>
          <a:xfrm>
            <a:off x="3276720" y="2057400"/>
            <a:ext cx="2971800" cy="24764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pear.gif (19191 bytes)"/>
          <p:cNvPicPr/>
          <p:nvPr/>
        </p:nvPicPr>
        <p:blipFill>
          <a:blip r:embed="rId3"/>
          <a:stretch/>
        </p:blipFill>
        <p:spPr>
          <a:xfrm>
            <a:off x="762120" y="3962520"/>
            <a:ext cx="1600200" cy="26668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cat1.jpg (11153 bytes)"/>
          <p:cNvPicPr/>
          <p:nvPr/>
        </p:nvPicPr>
        <p:blipFill>
          <a:blip r:embed="rId4"/>
          <a:stretch/>
        </p:blipFill>
        <p:spPr>
          <a:xfrm>
            <a:off x="6477120" y="3809880"/>
            <a:ext cx="2324160" cy="18986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5"/>
          <a:stretch/>
        </p:blipFill>
        <p:spPr>
          <a:xfrm>
            <a:off x="2743200" y="4800600"/>
            <a:ext cx="2629080" cy="16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ffcc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Tor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ge confin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ter tor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rligi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whirligig.jpg (16004 bytes)"/>
          <p:cNvPicPr/>
          <p:nvPr/>
        </p:nvPicPr>
        <p:blipFill>
          <a:blip r:embed="rId1"/>
          <a:stretch/>
        </p:blipFill>
        <p:spPr>
          <a:xfrm>
            <a:off x="1143000" y="3429000"/>
            <a:ext cx="2157480" cy="31813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5286240" y="1219320"/>
            <a:ext cx="3857760" cy="20905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3714840" y="2971800"/>
            <a:ext cx="257796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ff99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Facts about Tor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rture chambers-in lower parts of the cas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rture dungeons were very small; some measuring only 11 feet by 7 f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n to twenty prisoners were confined at the same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rture was finally abolished in England in 164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ff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ec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ition of executio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ecution by f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api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rte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ng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em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4114800" y="2590920"/>
            <a:ext cx="4229280" cy="32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00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iddle Ages was a very violent and gory time of histo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were many cruel and brutal punish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though our society today still has some cruelties, we have greatly evolved to become much more civilize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6T15:37:33Z</dcterms:created>
  <dc:creator>Claire</dc:creator>
  <dc:description/>
  <dc:language>en-US</dc:language>
  <cp:lastModifiedBy>Claire</cp:lastModifiedBy>
  <dcterms:modified xsi:type="dcterms:W3CDTF">2009-09-28T00:17:12Z</dcterms:modified>
  <cp:revision>24</cp:revision>
  <dc:subject/>
  <dc:title>Medieval Punishments</dc:title>
</cp:coreProperties>
</file>