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9417-88FB-4B68-8943-4F0BB1D1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DCEA-96C1-4F3B-AB69-E30CAED9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7FFA-F279-4BB3-B2B4-3DF71430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A891-0517-4949-A119-2D9DA681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922A-0F63-4A1E-B95A-5FCE7775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ACBD-92C6-4FCF-BFE4-8746A06F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99D6-48ED-4AD9-A04A-128BE759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9358-5966-4AEB-B916-8417EC0E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732E-DC38-4F75-992D-4083AF3F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8D12-C019-4D41-AFC8-978E8C0D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3010-40FC-4E70-9EB6-5CC19814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611C-403D-4F41-B885-2E948A0B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B63E-D3F9-4125-A340-0ED6D2C5A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1219320"/>
            <a:ext cx="7086600" cy="274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cc66"/>
                    </a:gs>
                  </a:gsLst>
                  <a:lin ang="5400000"/>
                </a:gradFill>
                <a:latin typeface="Bauhaus 93"/>
              </a:rPr>
              <a:t>Medieval Food</a:t>
            </a:r>
            <a:endParaRPr b="0" lang="en-US" sz="80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cc66"/>
                  </a:gs>
                </a:gsLst>
                <a:lin ang="5400000"/>
              </a:gradFill>
              <a:latin typeface="Bauhaus 93"/>
              <a:ea typeface="Bauhaus 93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3581280"/>
            <a:ext cx="4191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Katie Yoder and Cheryl H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311A-8748-406E-BAB2-EF417D4687F1}" type="datetime3">
              <a:rPr b="0" lang="en-US" sz="2800" spc="-1" strike="noStrike">
                <a:solidFill>
                  <a:srgbClr val="ffcc66"/>
                </a:solidFill>
                <a:latin typeface="Arial"/>
              </a:rPr>
              <a:t>July 31, 20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10080" y="3429000"/>
            <a:ext cx="266724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Morning Hearta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tchen Wil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Morning Heartache (Karaoke Versio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ngray Mus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ous In a Small T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randa Lam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ous In A Small T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randa Lamb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raoke Ver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 Worth Leaving Behi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e Ann Wom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 Worth Leaving Behi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e Ann Wom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e the Pie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rec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e the Pieces  w/o wo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: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day Amer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arl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day Amer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rl Like Me (Bonus Track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randa Lam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035600" cy="6172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419720" y="2209680"/>
            <a:ext cx="4343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 rot="20859000">
            <a:off x="152280" y="152280"/>
            <a:ext cx="6477120" cy="3562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rot="786000">
            <a:off x="5029200" y="1981080"/>
            <a:ext cx="3828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6476760" cy="2193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643480" cy="1979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648320" y="3200400"/>
            <a:ext cx="320040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84836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9933"/>
                </a:solidFill>
                <a:latin typeface="Arial"/>
              </a:rPr>
              <a:t>Ew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819520" y="990720"/>
            <a:ext cx="35049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TEENTH-CENTURY TABLE MAN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ne should take food before the blessing has been ma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 should he take a place other than that assigned to him by the one in charge of the m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rain from eating until the dishes have been placed before yo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et your fingers be clean, and your fingernails well-groo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a morsel has been touched, let it not be returned to the 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touch your ears or nose with your bare h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lean your teeth with a sharp iron while ea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lt is not to be touched with the food where it sits in the salt d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can, I ask again, refrain from belching at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at it is forbidden to put your elbow on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ordered by regulation that you should not put a dish to your mou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ho wishes to drink must first finish what is in his mou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et his lip be wiped fi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 can I avoid mentioning that he should not gnaw a bone with his teeth.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the table is cleared, wash your hands, and have a dr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Jeffrey L. Singman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ily Life in Medieval Euro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estport, Conn.: Greenwood Press, 1999), p. 13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352680" cy="2521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44960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9440" y="757080"/>
            <a:ext cx="8925120" cy="53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648320" cy="3485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05520" y="1981080"/>
            <a:ext cx="318924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755880" cy="4648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343400" y="2895480"/>
            <a:ext cx="449568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235400" cy="5638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952880" y="838080"/>
            <a:ext cx="367992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22:03:34Z</dcterms:created>
  <dc:creator>Katie Yoder</dc:creator>
  <dc:description/>
  <dc:language>en-US</dc:language>
  <cp:lastModifiedBy>Allen Hord</cp:lastModifiedBy>
  <dcterms:modified xsi:type="dcterms:W3CDTF">2009-09-28T23:23:50Z</dcterms:modified>
  <cp:revision>9</cp:revision>
  <dc:subject/>
  <dc:title>Slide 1</dc:title>
</cp:coreProperties>
</file>