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4AF-D6A8-4E5A-A86C-72ACC774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EF8-BBB4-406D-8E3B-E5F1EEE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FF5-DF79-4D61-BA75-0E47728D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6D6-9F0C-4D12-AE34-3F8917F2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618-2ACD-47C5-90BF-0ED7155A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16C-B2AB-493A-BEDA-C9E05000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7CA-4F1D-4DF1-86EA-D2737BF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CD9-E724-4BE8-BEB6-E91387F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807-4600-403F-A193-D08C3118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342-0FB7-4214-9CF1-7BC972B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764-1675-4087-B7D2-4430EC6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7DE-81C7-40B9-8027-DD054CC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AAC-8575-4BF9-962F-2657B096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035-F366-424F-BD6C-08E9EF03EEF7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tchen Wil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 (Karaoke Vers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ngray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aoke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ec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  w/o 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 Like Me (Bonus Trac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Allen Hord</cp:lastModifiedBy>
  <dcterms:modified xsi:type="dcterms:W3CDTF">2009-09-28T23:23:50Z</dcterms:modified>
  <cp:revision>9</cp:revision>
  <dc:subject/>
  <dc:title>Slide 1</dc:title>
</cp:coreProperties>
</file>