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B3E4-D3A7-4C7C-A182-1CCE1E2A2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120E-BE0C-490A-AEC9-184E80C8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FA76-A763-48E5-8FEE-FB6F7348B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5D22-D112-45B0-A366-E7FD4F8E5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D755-B10F-4AF3-9826-24C3E0E4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0038-FCBD-4961-8360-D6B0DE9F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8369-7D52-4FA2-BF52-49AAAC68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2A8C-90EA-45C3-93AC-4E7C5D45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B906-0F88-4E0D-A6F8-E314C5D0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B923-5C66-4398-8A0D-BDB1612D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99C6-32DA-4FC1-B96E-A3207C09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23E3-8E57-440D-89F3-634B5953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0577-6516-445B-A313-FF9076170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1219320"/>
            <a:ext cx="7086600" cy="2743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cc66"/>
                    </a:gs>
                  </a:gsLst>
                  <a:lin ang="5400000"/>
                </a:gradFill>
                <a:latin typeface="Bauhaus 93"/>
              </a:rPr>
              <a:t>Medieval Food</a:t>
            </a:r>
            <a:endParaRPr b="0" lang="en-US" sz="80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cc66"/>
                  </a:gs>
                </a:gsLst>
                <a:lin ang="5400000"/>
              </a:gradFill>
              <a:latin typeface="Bauhaus 93"/>
              <a:ea typeface="Bauhaus 93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3581280"/>
            <a:ext cx="41911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Katie Yoder and Cheryl H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ffcc66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A286-CCA4-4FFD-819C-497EFF0D0436}" type="datetime3">
              <a:rPr b="0" lang="en-US" sz="2800" spc="-1" strike="noStrike">
                <a:solidFill>
                  <a:srgbClr val="ffcc66"/>
                </a:solidFill>
                <a:latin typeface="Arial"/>
              </a:rPr>
              <a:t>July 30, 2026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410080" y="3429000"/>
            <a:ext cx="266724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Morning Heartac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tchen Wil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Morning Heartache (Karaoke Version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ngray Mus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ous In a Small Tow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randa Lamb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ous In A Small Tow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randa Lambe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raoke Ver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hing Worth Leaving Behi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e Ann Wom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hing Worth Leaving Behi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e Ann Wom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ve the Pie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reck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ve the Pieces  w/o wor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:3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day Amer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garl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day Americ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rl Like Me (Bonus Track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randa Lamb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035600" cy="6172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419720" y="2209680"/>
            <a:ext cx="43434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 rot="20859000">
            <a:off x="152280" y="152280"/>
            <a:ext cx="6477120" cy="3562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 rot="786000">
            <a:off x="5029200" y="1981080"/>
            <a:ext cx="38289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6476760" cy="2193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2643480" cy="1979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648320" y="3200400"/>
            <a:ext cx="320040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784836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105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9933"/>
                </a:solidFill>
                <a:latin typeface="Arial"/>
              </a:rPr>
              <a:t>Ewe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819520" y="990720"/>
            <a:ext cx="35049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3059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TEENTH-CENTURY TABLE MAN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ne should take food before the blessing has been mad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 should he take a place other than that assigned to him by the one in charge of the me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rain from eating until the dishes have been placed before yo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et your fingers be clean, and your fingernails well-groom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a morsel has been touched, let it not be returned to the pl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touch your ears or nose with your bare h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lean your teeth with a sharp iron while ea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alt is not to be touched with the food where it sits in the salt d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can, I ask again, refrain from belching at th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that it is forbidden to put your elbow on th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ordered by regulation that you should not put a dish to your mou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who wishes to drink must first finish what is in his mou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et his lip be wiped fir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 can I avoid mentioning that he should not gnaw a bone with his teeth.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the table is cleared, wash your hands, and have a dri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Jeffrey L. Singman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aily Life in Medieval Europ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Westport, Conn.: Greenwood Press, 1999), p. 13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352680" cy="2521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449604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9440" y="757080"/>
            <a:ext cx="8925120" cy="53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4648320" cy="3485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105520" y="1981080"/>
            <a:ext cx="318924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755880" cy="4648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343400" y="2895480"/>
            <a:ext cx="449568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235400" cy="5638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952880" y="838080"/>
            <a:ext cx="367992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6T22:03:34Z</dcterms:created>
  <dc:creator>Katie Yoder</dc:creator>
  <dc:description/>
  <dc:language>en-US</dc:language>
  <cp:lastModifiedBy>Allen Hord</cp:lastModifiedBy>
  <dcterms:modified xsi:type="dcterms:W3CDTF">2009-09-28T23:23:50Z</dcterms:modified>
  <cp:revision>9</cp:revision>
  <dc:subject/>
  <dc:title>Slide 1</dc:title>
</cp:coreProperties>
</file>