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CCBDF-1319-442B-980F-8415365EB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9859-B62A-4956-BB36-0F4FB2318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69AFD-9958-4CF3-A078-4681975AB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00B5C-BC0F-495B-B0E2-881FEC04D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50FFE-C0E0-4C7B-9ACA-E3D039B70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E5167-4493-47C3-B897-F04F3986E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AFFF-D651-456E-AE3E-40D40E41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66652-A3A1-4A2C-852F-CECDD4F3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7BCF-3CE1-43BD-A622-DBFD5D8F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63D8-511A-4551-B5C2-100B5B3F5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E7255-48B9-4B04-B3F1-1C2EB0BA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5E05-22C1-4AC6-BD7E-CE33467AA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8D36-38EC-4E29-B71C-C15EE252A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10-22T00:47:18Z</dcterms:modified>
  <cp:revision>8</cp:revision>
  <dc:subject/>
  <dc:title>Merlin and other Arthurian Legends</dc:title>
</cp:coreProperties>
</file>