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61080-C520-44CD-B1D1-07D15C61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417BB-FC4F-4B60-9A30-F3A94A9A5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3460D-E22A-4A07-8860-C8652818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27499-85F3-4F13-8EBB-7FF446B46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90EE-074B-40B9-9F81-B9C01A37A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7770-5250-4F17-BB7F-96B8125E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E824-1D98-4E3F-80C0-5BCEA8A47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DC9E8-B1EE-48E1-9961-E2FFB987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9EEBE-777D-406E-87B7-8F3CCA5EF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E6CA-91E4-44A3-BD40-2DCD2B6F2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57EB-CED6-4201-8301-B30B36D7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EA12-7ECE-4094-8F78-FBB90E82A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E2CA-F4A2-4859-8FE5-321026603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10-22T00:47:18Z</dcterms:modified>
  <cp:revision>8</cp:revision>
  <dc:subject/>
  <dc:title>Merlin and other Arthurian Legends</dc:title>
</cp:coreProperties>
</file>