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1079E-9F34-41FB-B381-2074D7B7A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1FF5-64FA-49B5-9D05-E696CD17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E5856-D85C-4D00-9FC0-A3755A85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B0386-F743-4F7B-AE3D-6B8390594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6061-A422-48D1-8B2A-26ED5085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D409-3B03-45C4-8A68-DF94DDB8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BDD9-29B7-4C4A-BF74-0C20F7225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9BE3-D759-460B-82C7-4FF4C9CFA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3E73-F536-4276-8533-673E9EDEB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83EE-D57E-470B-ADF7-559E68B2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6643-1F4B-4501-9477-A017FC7B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E99E-E3B9-4A77-AED4-75AAD56C6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622C-D72F-4FE4-AFBB-8635C54408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09-30T01:33:59Z</dcterms:modified>
  <cp:revision>8</cp:revision>
  <dc:subject/>
  <dc:title>Merlin and other Arthurian Legends</dc:title>
</cp:coreProperties>
</file>