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DEC3E-2518-4A81-AD48-8F12BCC09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2011A-9F00-4E34-92C7-927F6F25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27E1-CAE1-4DC2-8A1C-FA704A38F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07C6D-8DCE-45A8-A658-AB71321B2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C447-2DE2-4FFD-9CCA-0BB738CD5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0E955-30EA-4ACE-8E96-B12F8CC24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A982D-99D2-44DE-9406-28F4AEAA6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E16C7-D013-42DF-8B46-A7B0DCB2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98D8-5EA8-4D3C-9F47-2091A3815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A308-338C-4301-85B1-700E2826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0577-EF69-45AE-9C93-1C306BA62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1816-A9EA-441A-87B4-A74A64ED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0BEE-14D0-4620-871C-F0FC24AC7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09-30T01:33:59Z</dcterms:modified>
  <cp:revision>8</cp:revision>
  <dc:subject/>
  <dc:title>Merlin and other Arthurian Legends</dc:title>
</cp:coreProperties>
</file>