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EDC9-ED20-4B61-B5FB-737EC2606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23E8-2D34-4C55-96EC-046489F12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BEE5-5CE0-4DD2-A4FF-B787A4FC0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1E5A-E09F-4F80-B3D9-B42A1685F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CE1D-C6DC-46BF-85E8-FDEE6CF8E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26C5-F9F1-4025-B547-3C75F905C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B3C0-35AE-42FC-A743-A5463570C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30CD-F8F9-494B-81C5-9015C380A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83F9-EDCB-4EE1-B087-250DFA209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1C9E-D657-4D85-A328-C18BBEB7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AE5C-27D9-45A0-A661-FB6C79373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8CA2-B045-4DA5-9C22-D830783AD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EC3DB-5840-4106-B053-1829526DA5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Plac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00"/>
                </a:solidFill>
                <a:latin typeface="Arial"/>
              </a:rPr>
              <a:t>–</a:t>
            </a:r>
            <a:r>
              <a:rPr b="1" i="1" lang="en-US" sz="3200" spc="-1" strike="noStrike">
                <a:solidFill>
                  <a:srgbClr val="ff6600"/>
                </a:solidFill>
                <a:latin typeface="Arial"/>
              </a:rPr>
              <a:t>verb (used with object)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 to appease or pacify, especially by concessions or conciliatory gestures: </a:t>
            </a:r>
            <a:r>
              <a:rPr b="1" i="1" lang="en-US" sz="3200" spc="-1" strike="noStrike">
                <a:solidFill>
                  <a:srgbClr val="ff6600"/>
                </a:solidFill>
                <a:latin typeface="Arial"/>
              </a:rPr>
              <a:t>to placate an outraged citizenr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Origin: 1670–80;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Latin </a:t>
            </a:r>
            <a:r>
              <a:rPr b="1" i="1" lang="en-US" sz="3200" spc="-1" strike="noStrike">
                <a:solidFill>
                  <a:srgbClr val="ff6600"/>
                </a:solidFill>
                <a:latin typeface="Arial"/>
              </a:rPr>
              <a:t>plācā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Sentence: Kathy spoke in a placating manner to the screaming two year old to try to calm him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Synonym: appease, pac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3240000" cy="43149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038480" y="137160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hild is in need of placa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Imp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00"/>
                </a:solidFill>
                <a:latin typeface="Arial"/>
              </a:rPr>
              <a:t>–</a:t>
            </a:r>
            <a:r>
              <a:rPr b="1" i="1" lang="en-US" sz="2800" spc="-1" strike="noStrike">
                <a:solidFill>
                  <a:srgbClr val="ff6600"/>
                </a:solidFill>
                <a:latin typeface="Arial"/>
              </a:rPr>
              <a:t>verb (used with object)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to drive or urge forward; press on; incite or constrain to action.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to drive or cause to move onward; propel; impart motion 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Origin: 1375–1425;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Latin </a:t>
            </a:r>
            <a:r>
              <a:rPr b="1" i="1" lang="en-US" sz="2800" spc="-1" strike="noStrike">
                <a:solidFill>
                  <a:srgbClr val="ff6600"/>
                </a:solidFill>
                <a:latin typeface="Arial"/>
              </a:rPr>
              <a:t>impellere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to strike against, set in motion (transitive), equivalent to </a:t>
            </a:r>
            <a:r>
              <a:rPr b="1" i="1" lang="en-US" sz="2800" spc="-1" strike="noStrike">
                <a:solidFill>
                  <a:srgbClr val="ff6600"/>
                </a:solidFill>
                <a:latin typeface="Arial"/>
              </a:rPr>
              <a:t>im-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+ </a:t>
            </a:r>
            <a:r>
              <a:rPr b="1" i="1" lang="en-US" sz="2800" spc="-1" strike="noStrike">
                <a:solidFill>
                  <a:srgbClr val="ff6600"/>
                </a:solidFill>
                <a:latin typeface="Arial"/>
              </a:rPr>
              <a:t>pellere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to strike, move (someth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Sentence: The attorney used a court order to impel the witness to testify in open cou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Synonym: motivate, comp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4648320" cy="44132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410080" y="1752480"/>
            <a:ext cx="2819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man was reluctant to testify against the criminal. The prosecutor obtained a court order, which impelled her to testif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7T00:13:31Z</dcterms:created>
  <dc:creator>Katie Yoder</dc:creator>
  <dc:description/>
  <dc:language>en-US</dc:language>
  <cp:lastModifiedBy>Katie Yoder</cp:lastModifiedBy>
  <dcterms:modified xsi:type="dcterms:W3CDTF">2010-01-21T00:54:00Z</dcterms:modified>
  <cp:revision>5</cp:revision>
  <dc:subject/>
  <dc:title>Placating</dc:title>
</cp:coreProperties>
</file>