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E02-B2BE-4AE0-9520-8314240D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B5F-4EF0-4D75-BEBD-383A185B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955-5138-4A6B-9897-775C7B01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1CC-37E1-469D-B998-2D35AAF1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21E-74D8-41B9-98A5-813C5B8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64F-EF95-4DCA-82AF-89E50C7D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D7A-C7F7-469D-B32C-85B3D5D8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B66-37D0-4C16-B296-EFB4B86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E3A-46FC-48E3-AB22-01AB5A2B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B0D-7183-49CD-9FC4-C91C84F0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646-ACBB-47D3-8DA3-6781DF6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3E5-7C2F-4BB7-9223-6D379A7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32E3-8B6F-4F82-8B7C-E7C90591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lac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to appease or pacify, especially by concessions or conciliatory gestures: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to placate an outraged citizen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rigin: 1670–80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tin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plācā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ntence: Kathy spoke in a placating manner to the screaming two year old to try to calm hi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ynonym: appease, pa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240000" cy="431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ild is in need of plac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urge forward; press on; incite or constrain to action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cause to move onward; propel; impart moti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igin: 1375–1425;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Latin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 against, set in motion (transitive), equivalent to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, move (some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ntence: The attorney used a court order to impel the witness to testify in ope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onym: motivate, com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4832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7524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man was reluctant to testify against the criminal. The prosecutor obtained a court order, which impelled her to test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13:31Z</dcterms:created>
  <dc:creator>Katie Yoder</dc:creator>
  <dc:description/>
  <dc:language>en-US</dc:language>
  <cp:lastModifiedBy>Katie Yoder</cp:lastModifiedBy>
  <dcterms:modified xsi:type="dcterms:W3CDTF">2010-01-21T00:54:00Z</dcterms:modified>
  <cp:revision>5</cp:revision>
  <dc:subject/>
  <dc:title>Placating</dc:title>
</cp:coreProperties>
</file>