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BE7-7816-42B7-86DB-28F5416A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A11-F602-4913-B7C7-0EA66EEF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34D-9876-4891-A9B0-692A1302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37E-2DB6-4AE8-9859-649DEB2E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76A-1838-48AB-A91F-B4954BD2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0B0-BEE4-48AD-9070-290E00B4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B5B-E79A-4D56-9E9A-4326003F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28E-5673-42B7-879E-AFA4AAC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2AC-482E-480E-B0B2-989E248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25E-5B4E-4693-87B4-21B104B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2E2-4020-4995-B03D-462E9B52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F82-747A-4645-BAF7-115B4321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B81-B4EB-4476-9A1A-63C1277F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lac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to appease or pacify, especially by concessions or conciliatory gestures: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to placate an outraged citizen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rigin: 1670–80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tin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plācā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ntence: Kathy spoke in a placating manner to the screaming two year old to try to calm hi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ynonym: appease, pa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240000" cy="431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1371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ild is in need of plac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m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urge forward; press on; incite or constrain to action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cause to move onward; propel; impart motio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igin: 1375–1425;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Latin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 against, set in motion (transitive), equivalent to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, move (some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ntence: The attorney used a court order to impel the witness to testify in open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onym: motivate, com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648320" cy="441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17524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man was reluctant to testify against the criminal. The prosecutor obtained a court order, which impelled her to test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13:31Z</dcterms:created>
  <dc:creator>Katie Yoder</dc:creator>
  <dc:description/>
  <dc:language>en-US</dc:language>
  <cp:lastModifiedBy>Katie Yoder</cp:lastModifiedBy>
  <dcterms:modified xsi:type="dcterms:W3CDTF">2010-01-21T00:54:00Z</dcterms:modified>
  <cp:revision>5</cp:revision>
  <dc:subject/>
  <dc:title>Placating</dc:title>
</cp:coreProperties>
</file>