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424C-5F9D-474A-A084-1104E72E0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F9CB-61E0-466B-92C2-A413ACBE3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B96B-3687-4141-9166-EEA635FD1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765C-935D-492A-A602-33C27DC07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52BA-781A-4A37-AFDF-3D0F4F22A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E3DF-B244-4EC9-AA22-EDD1199B6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F21D-311F-46BB-AFAB-1424ECAB5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925D-AA02-4AA7-980C-CDD740274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D585-581A-4F36-9C9D-6AD446A30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6890-CE2E-475D-AA77-C46021F8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B7C5-71CE-41C8-8C17-7A73BB3E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F988-E46F-424B-BF53-02264C82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E7B11-5EFD-44CB-940B-84DDA8ADB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Plac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00"/>
                </a:solidFill>
                <a:latin typeface="Arial"/>
              </a:rPr>
              <a:t>–</a:t>
            </a:r>
            <a:r>
              <a:rPr b="1" i="1" lang="en-US" sz="3200" spc="-1" strike="noStrike">
                <a:solidFill>
                  <a:srgbClr val="ff6600"/>
                </a:solidFill>
                <a:latin typeface="Arial"/>
              </a:rPr>
              <a:t>verb (used with object)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 to appease or pacify, especially by concessions or conciliatory gestures: </a:t>
            </a:r>
            <a:r>
              <a:rPr b="1" i="1" lang="en-US" sz="3200" spc="-1" strike="noStrike">
                <a:solidFill>
                  <a:srgbClr val="ff6600"/>
                </a:solidFill>
                <a:latin typeface="Arial"/>
              </a:rPr>
              <a:t>to placate an outraged citizen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Origin: 1670–80;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Latin </a:t>
            </a:r>
            <a:r>
              <a:rPr b="1" i="1" lang="en-US" sz="3200" spc="-1" strike="noStrike">
                <a:solidFill>
                  <a:srgbClr val="ff6600"/>
                </a:solidFill>
                <a:latin typeface="Arial"/>
              </a:rPr>
              <a:t>plācā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Sentence: Kathy spoke in a placating manner to the screaming two year old to try to calm him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Synonym: appease, pac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3240000" cy="43149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038480" y="137160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hild is in need of placa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Imp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00"/>
                </a:solidFill>
                <a:latin typeface="Arial"/>
              </a:rPr>
              <a:t>–</a:t>
            </a:r>
            <a:r>
              <a:rPr b="1" i="1" lang="en-US" sz="2800" spc="-1" strike="noStrike">
                <a:solidFill>
                  <a:srgbClr val="ff6600"/>
                </a:solidFill>
                <a:latin typeface="Arial"/>
              </a:rPr>
              <a:t>verb (used with object)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to drive or urge forward; press on; incite or constrain to action.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to drive or cause to move onward; propel; impart motion 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Origin: 1375–1425;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Latin </a:t>
            </a:r>
            <a:r>
              <a:rPr b="1" i="1" lang="en-US" sz="2800" spc="-1" strike="noStrike">
                <a:solidFill>
                  <a:srgbClr val="ff6600"/>
                </a:solidFill>
                <a:latin typeface="Arial"/>
              </a:rPr>
              <a:t>impellere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to strike against, set in motion (transitive), equivalent to </a:t>
            </a:r>
            <a:r>
              <a:rPr b="1" i="1" lang="en-US" sz="2800" spc="-1" strike="noStrike">
                <a:solidFill>
                  <a:srgbClr val="ff6600"/>
                </a:solidFill>
                <a:latin typeface="Arial"/>
              </a:rPr>
              <a:t>im-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+ </a:t>
            </a:r>
            <a:r>
              <a:rPr b="1" i="1" lang="en-US" sz="2800" spc="-1" strike="noStrike">
                <a:solidFill>
                  <a:srgbClr val="ff6600"/>
                </a:solidFill>
                <a:latin typeface="Arial"/>
              </a:rPr>
              <a:t>pellere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to strike, move (someth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Sentence: The attorney used a court order to impel the witness to testify in open cou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Synonym: motivate, com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4648320" cy="4413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410080" y="1752480"/>
            <a:ext cx="2819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man was reluctant to testify against the criminal. The prosecutor obtained a court order, which impelled her to testif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7T00:13:31Z</dcterms:created>
  <dc:creator>Katie Yoder</dc:creator>
  <dc:description/>
  <dc:language>en-US</dc:language>
  <cp:lastModifiedBy>Katie Yoder</cp:lastModifiedBy>
  <dcterms:modified xsi:type="dcterms:W3CDTF">2010-01-21T00:54:00Z</dcterms:modified>
  <cp:revision>5</cp:revision>
  <dc:subject/>
  <dc:title>Placating</dc:title>
</cp:coreProperties>
</file>