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4041-010D-462B-94A5-513779F95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AE2B-97B8-44CF-8FE0-6BC66A21C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B5EF-C76D-4291-8C2C-96DD9270D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C1EF-A548-4C0B-B48E-510C25BCC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9A1A-FEC9-41F0-A629-73EA4ECD1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F305-05B8-446F-BA1C-1117CA36B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47A0-16D8-4B78-B6F0-4373B0FCA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CA42-B144-4DB5-9023-3D2B5434E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7C2C-A918-4425-AD2E-CDFB2972A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6DF1-2C37-4185-BB6C-83799215D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1F60-FA34-4439-A006-222C5B5BE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5924-7ED0-4513-9ADC-F9722CED9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6BB58-B0CF-48F1-95C0-F7CE7F980D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ose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- adj.; gloomily or sullenly ill-humored, as a person or moo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I saw the dead dog lying in the road, I walked morosely a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343400" y="3549600"/>
            <a:ext cx="4152960" cy="33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8T20:43:07Z</dcterms:created>
  <dc:creator>Emma</dc:creator>
  <dc:description/>
  <dc:language>en-US</dc:language>
  <cp:lastModifiedBy>Emma</cp:lastModifiedBy>
  <dcterms:modified xsi:type="dcterms:W3CDTF">2010-01-19T00:10:56Z</dcterms:modified>
  <cp:revision>2</cp:revision>
  <dc:subject/>
  <dc:title>Morosely</dc:title>
</cp:coreProperties>
</file>