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F57-C80E-49E4-B910-9F1DC5DF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3B3-F653-4A49-952F-9654AF5A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E5D-5BF2-429E-99F9-B99DC2CE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E1A-2DB0-4A14-8F5D-C4A5E32A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5A8-1C28-4E9D-B7A9-5704D469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AA4-DFED-4492-A6AF-75EFEDDC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687-0CA0-494C-AA22-EED9798B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0C9-C73E-4A08-A85C-25968E1F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08F-D2D0-489E-99B0-6F0E97E1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0AA-77F4-41D5-A014-DFE704CA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E34-A6B7-4560-A419-541ADC61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7F7-48DD-4E5B-8021-366CCB95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14D6-5009-4484-9BAB-7FD252CF2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os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- adj.; gloomily or sullenly ill-humored, as a person or m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 saw the dead dog lying in the road, I walked morosely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43400" y="3549600"/>
            <a:ext cx="4152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0:43:07Z</dcterms:created>
  <dc:creator>Emma</dc:creator>
  <dc:description/>
  <dc:language>en-US</dc:language>
  <cp:lastModifiedBy>Emma</cp:lastModifiedBy>
  <dcterms:modified xsi:type="dcterms:W3CDTF">2010-01-19T00:10:56Z</dcterms:modified>
  <cp:revision>2</cp:revision>
  <dc:subject/>
  <dc:title>Morosely</dc:title>
</cp:coreProperties>
</file>