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F05-74CB-4F02-992B-38DC1097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217-0C59-4B2B-87D0-DECEF370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CD1-DA63-4EDA-B1F8-5BBD1F5A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45E-627B-43CE-BA32-18313F55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307-D5BB-46CB-B64B-442C9373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A28-8BA3-40FF-BE0B-DE21292E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4CF-E41A-47B8-BE60-97DA0702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83F-7BDB-4EA4-8A21-DC599F49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769-EF2D-4312-A5A3-BF5A8190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0B7-9946-46EB-B26C-8B8D252B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456-4E05-42EA-A690-FDB8D4C9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1CB-594D-4B83-AB59-30D7B648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0900-759D-4E66-AC8C-F8D8D1469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os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- adj.; gloomily or sullenly ill-humored, as a person or m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 saw the dead dog lying in the road, I walked morosely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43400" y="3549600"/>
            <a:ext cx="41529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0:43:07Z</dcterms:created>
  <dc:creator>Emma</dc:creator>
  <dc:description/>
  <dc:language>en-US</dc:language>
  <cp:lastModifiedBy>Emma</cp:lastModifiedBy>
  <dcterms:modified xsi:type="dcterms:W3CDTF">2010-01-19T00:10:56Z</dcterms:modified>
  <cp:revision>2</cp:revision>
  <dc:subject/>
  <dc:title>Morosely</dc:title>
</cp:coreProperties>
</file>