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D06-05A5-47B1-8ADD-C036DFD0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88C-6ED8-4EAF-9809-4024916F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709-6D82-41C1-9082-C1CB34D0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5A6-4B44-41A7-9DF7-C4FD9466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5F6-48A4-47F1-BCE5-A80EE713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8CA-98DB-4E01-9595-7116888B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C32-543C-4DF6-88A8-BB42BDB2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5E1-0EFC-43EB-8104-188ACC7A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818-C35E-4257-8390-6C8C28B7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665-72CE-45B2-BEFC-3DA3329D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28C-9E73-4045-BF47-2045D7D2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45F-5E59-4D33-899F-2AE20E73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AF27-AC28-434A-9908-CDB193AD5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os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- adj.; gloomily or sullenly ill-humored, as a person or m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 saw the dead dog lying in the road, I walked morosely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43400" y="3549600"/>
            <a:ext cx="41529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0:43:07Z</dcterms:created>
  <dc:creator>Emma</dc:creator>
  <dc:description/>
  <dc:language>en-US</dc:language>
  <cp:lastModifiedBy>Emma</cp:lastModifiedBy>
  <dcterms:modified xsi:type="dcterms:W3CDTF">2010-01-19T00:10:56Z</dcterms:modified>
  <cp:revision>2</cp:revision>
  <dc:subject/>
  <dc:title>Morosely</dc:title>
</cp:coreProperties>
</file>