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1A42-DB39-4148-8466-F9C0029D7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7B29-BADA-4352-B698-BB89D244B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8CD0-D95E-47CC-9A9B-698988D62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3E78-5DCB-401D-9EAE-EC7E23676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B34A-8D1E-48D7-8E95-CB8145CBB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D8FC-B432-4867-96C6-9369889D8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BC63-B767-40A9-A26B-68EEE11D0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C1DD-F85A-43F2-9A41-7731390CD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A13F-DB1A-41D8-879C-AF81571F2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1121-4328-4E41-89EC-50DEDBB2D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7894-FAB4-4E71-83FB-CA03A56AE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1C11-3280-4A5A-8A87-59D73573B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661EE-3E6A-4B4D-9701-0E63E57F15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ose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- adj.; gloomily or sullenly ill-humored, as a person or moo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I saw the dead dog lying in the road, I walked morosely a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343400" y="3549600"/>
            <a:ext cx="4152960" cy="33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8T20:43:07Z</dcterms:created>
  <dc:creator>Emma</dc:creator>
  <dc:description/>
  <dc:language>en-US</dc:language>
  <cp:lastModifiedBy>Emma</cp:lastModifiedBy>
  <dcterms:modified xsi:type="dcterms:W3CDTF">2010-01-19T00:10:56Z</dcterms:modified>
  <cp:revision>2</cp:revision>
  <dc:subject/>
  <dc:title>Morosely</dc:title>
</cp:coreProperties>
</file>