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189-4CD1-4D07-A1B0-89A986BD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E1E-627F-4AD1-BAFF-C6890CE5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453-FA44-4CD6-8FBB-AC7FE57D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A58-74A0-4951-B5A3-0F33F6F4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20F-605F-4E88-B7BB-12ECE82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4C8-D724-4C2A-B565-8972D389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728-6775-4891-B265-34676C9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607-3F29-48B8-9D61-E77F89B7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80C-2570-4A90-BCA1-F259948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CDC-BF1A-4407-8CE4-811BBAA1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ECA-22C0-4F86-9855-39D5569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4DC-78A1-476E-9785-38FFB20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8411-7095-43C7-AB52-6AFD36A202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C7214-F863-477D-9859-79989CFB7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66200" y="789120"/>
            <a:ext cx="62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dj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anc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65080" y="3235320"/>
            <a:ext cx="4684680" cy="2622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6343560" y="2058840"/>
            <a:ext cx="257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Juwon’s landing on “free parking” and collecting the $500 dollars that was in the middle was completel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21258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- adv. With a gloomy or sullen ill humor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morose- adj.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root word- morbid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y- in the manner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17920" y="4983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Juw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ooked at the camera and took a photograph of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7" descr="Photo on 2010-01-17 at 19.52 #2.jpg"/>
          <p:cNvPicPr/>
          <p:nvPr/>
        </p:nvPicPr>
        <p:blipFill>
          <a:blip r:embed="rId1"/>
          <a:srcRect l="0" t="-1087" r="0" b="-1087"/>
          <a:stretch/>
        </p:blipFill>
        <p:spPr>
          <a:xfrm>
            <a:off x="2617920" y="457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0:42:05Z</dcterms:created>
  <dc:creator>Barry Drake</dc:creator>
  <dc:description/>
  <dc:language>en-US</dc:language>
  <cp:lastModifiedBy>GACS</cp:lastModifiedBy>
  <dcterms:modified xsi:type="dcterms:W3CDTF">2010-01-19T16:24:38Z</dcterms:modified>
  <cp:revision>5</cp:revision>
  <dc:subject/>
  <dc:title>Slide 1</dc:title>
</cp:coreProperties>
</file>