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A6CB-D28A-494B-B9F5-C6E32BC5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E27D-FE6A-464B-8414-F13E8A93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0C21-EE1B-44ED-9C86-A9B5B894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D205-C76A-4983-8D2A-274BA9D6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EC41-ECD7-46AC-B34E-65AA4AE6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E440-988B-4A50-8A96-BB35959C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52C4-6966-43CF-A711-32D4C488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98F1-A5E3-4C12-904B-D309FE13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DF11-25FA-4EBF-A975-878E5F5E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5F6D-6F72-4BD3-9EB0-2C915D97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7F57-C858-4866-8A89-626F43D7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7344-AEFE-4B88-AFC1-11ADAB54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C7C080-7A3A-45E0-B938-DEB8E12376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133E09-E666-4AF5-A957-783471B52F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366200" y="789120"/>
            <a:ext cx="621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ingent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adj.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ppening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by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hance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cid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865080" y="3235320"/>
            <a:ext cx="4684680" cy="262260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6343560" y="2058840"/>
            <a:ext cx="2576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Juwon’s landing on “free parking” and collecting the $500 dollars that was in the middle was completely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ntingent</a:t>
            </a:r>
            <a:r>
              <a:rPr b="0" lang="en-US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1760" y="456840"/>
            <a:ext cx="21258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morosely</a:t>
            </a:r>
            <a:r>
              <a:rPr b="0" lang="en-US" sz="28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- adv. With a gloomy or sullen ill humor</a:t>
            </a:r>
            <a:br>
              <a:rPr sz="2800"/>
            </a:br>
            <a:r>
              <a:rPr b="0" lang="en-US" sz="28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morose- adj.</a:t>
            </a:r>
            <a:br>
              <a:rPr sz="2800"/>
            </a:br>
            <a:r>
              <a:rPr b="0" lang="en-US" sz="28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root word- morbid</a:t>
            </a:r>
            <a:br>
              <a:rPr sz="2800"/>
            </a:br>
            <a:r>
              <a:rPr b="0" lang="en-US" sz="28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ly- in the manner 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2617920" y="4983120"/>
            <a:ext cx="606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Juw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moros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looked at the camera and took a photograph of him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Content Placeholder 7" descr="Photo on 2010-01-17 at 19.52 #2.jpg"/>
          <p:cNvPicPr/>
          <p:nvPr/>
        </p:nvPicPr>
        <p:blipFill>
          <a:blip r:embed="rId1"/>
          <a:srcRect l="0" t="-1087" r="0" b="-1087"/>
          <a:stretch/>
        </p:blipFill>
        <p:spPr>
          <a:xfrm>
            <a:off x="2617920" y="457200"/>
            <a:ext cx="5905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00:42:05Z</dcterms:created>
  <dc:creator>Barry Drake</dc:creator>
  <dc:description/>
  <dc:language>en-US</dc:language>
  <cp:lastModifiedBy>GACS</cp:lastModifiedBy>
  <dcterms:modified xsi:type="dcterms:W3CDTF">2010-01-19T16:24:38Z</dcterms:modified>
  <cp:revision>5</cp:revision>
  <dc:subject/>
  <dc:title>Slide 1</dc:title>
</cp:coreProperties>
</file>