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4E3-BE53-4B20-8BC3-53AE26EA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48B7-B46C-4AB2-BCF0-2AFAC95A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784F-CDA2-48D6-AC8E-917C2322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AFCA-7027-46AA-9BAB-A47FD8E2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2EC8-8D52-4CD6-822C-E90DEE7A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759B-3E60-4DAB-AA54-3592ADE3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DE5-9302-428E-A074-B3C508D4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8BC4-C03E-4613-99F0-7917CE27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BF90-1063-4458-9B09-9F06D2B9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2553-5B00-4DFE-9DD3-DC0D0067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FC75-5C64-4535-8DC7-794E7AB4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6187-9E09-4CD4-9402-0A2F0DBF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0A7D8-0E3B-4F02-9E0F-E35487F812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A09148-8291-4451-9942-CAA8BA351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366200" y="789120"/>
            <a:ext cx="621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ingent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adj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ppening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by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hance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cid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865080" y="3235320"/>
            <a:ext cx="4684680" cy="262260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6343560" y="2058840"/>
            <a:ext cx="2576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Juwon’s landing on “free parking” and collecting the $500 dollars that was in the middle was completely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ingent</a:t>
            </a:r>
            <a:r>
              <a:rPr b="0" lang="en-US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456840"/>
            <a:ext cx="21258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morosely</a:t>
            </a:r>
            <a:r>
              <a:rPr b="0" lang="en-US" sz="2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- adv. With a gloomy or sullen ill humor</a:t>
            </a:r>
            <a:br>
              <a:rPr sz="2800"/>
            </a:br>
            <a:r>
              <a:rPr b="0" lang="en-US" sz="2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morose- adj.</a:t>
            </a:r>
            <a:br>
              <a:rPr sz="2800"/>
            </a:br>
            <a:r>
              <a:rPr b="0" lang="en-US" sz="2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root word- morbid</a:t>
            </a:r>
            <a:br>
              <a:rPr sz="2800"/>
            </a:br>
            <a:r>
              <a:rPr b="0" lang="en-US" sz="2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ly- in the manner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617920" y="4983120"/>
            <a:ext cx="606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Juw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moros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looked at the camera and took a photograph of him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Content Placeholder 7" descr="Photo on 2010-01-17 at 19.52 #2.jpg"/>
          <p:cNvPicPr/>
          <p:nvPr/>
        </p:nvPicPr>
        <p:blipFill>
          <a:blip r:embed="rId1"/>
          <a:srcRect l="0" t="-1087" r="0" b="-1087"/>
          <a:stretch/>
        </p:blipFill>
        <p:spPr>
          <a:xfrm>
            <a:off x="2617920" y="457200"/>
            <a:ext cx="5905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0:42:05Z</dcterms:created>
  <dc:creator>Barry Drake</dc:creator>
  <dc:description/>
  <dc:language>en-US</dc:language>
  <cp:lastModifiedBy>GACS</cp:lastModifiedBy>
  <dcterms:modified xsi:type="dcterms:W3CDTF">2010-01-19T16:24:38Z</dcterms:modified>
  <cp:revision>5</cp:revision>
  <dc:subject/>
  <dc:title>Slide 1</dc:title>
</cp:coreProperties>
</file>