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36D-B7A9-4846-87AC-4F9E9AC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5F-F661-4823-8A6D-EB80637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898-E7FC-4B17-B512-267B54B9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F34-7410-4603-B228-197696CE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AB8-C1D0-4B8A-BE95-7AC8825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6EF-4F53-464E-AA40-8B31E53F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85C-5298-4900-9698-29A2FF1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09E-E87B-4C05-9C1B-7DA3233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3D6-D853-48B9-A0B7-9052608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D2B-6318-48C9-9203-1362369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709-1345-4F41-841C-D5019E8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8B3-643C-4D1A-94F3-7D8825B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332F1-6309-41F7-8AF8-75BD927A81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3BA19-7A51-4E78-9B00-BFA8A2542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66200" y="789120"/>
            <a:ext cx="62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dj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in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hanc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65080" y="3235320"/>
            <a:ext cx="4684680" cy="2622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6343560" y="2058840"/>
            <a:ext cx="257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Juwon’s landing on “free parking” and collecting the $500 dollars that was in the middle was completel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ingent</a:t>
            </a:r>
            <a:r>
              <a:rPr b="0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21258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- adv. With a gloomy or sullen ill humor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morose- adj.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root word- morbid</a:t>
            </a:r>
            <a:br>
              <a:rPr sz="2800"/>
            </a:br>
            <a:r>
              <a:rPr b="0" lang="en-US" sz="2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y- in the manner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17920" y="4983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Juw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oros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looked at the camera and took a photograph of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7" descr="Photo on 2010-01-17 at 19.52 #2.jpg"/>
          <p:cNvPicPr/>
          <p:nvPr/>
        </p:nvPicPr>
        <p:blipFill>
          <a:blip r:embed="rId1"/>
          <a:srcRect l="0" t="-1087" r="0" b="-1087"/>
          <a:stretch/>
        </p:blipFill>
        <p:spPr>
          <a:xfrm>
            <a:off x="2617920" y="457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0:42:05Z</dcterms:created>
  <dc:creator>Barry Drake</dc:creator>
  <dc:description/>
  <dc:language>en-US</dc:language>
  <cp:lastModifiedBy>GACS</cp:lastModifiedBy>
  <dcterms:modified xsi:type="dcterms:W3CDTF">2010-01-19T16:24:38Z</dcterms:modified>
  <cp:revision>5</cp:revision>
  <dc:subject/>
  <dc:title>Slide 1</dc:title>
</cp:coreProperties>
</file>