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EFF-96A1-4DAD-9190-E63861BE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161-E943-40A5-B92A-8AD82D9B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239-F452-490B-B70A-D2AE1643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3AF-21FE-448B-89A5-2E9A2652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A97-4B00-4936-8CF8-BE2B18CD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022-FE28-46CB-8332-0CEBE6D3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1E9-96A1-4CFE-9C50-BFE70148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93F-4570-48FF-B7A9-8FD09231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BC3-5A81-473E-A21D-71152526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C58-883C-4FC3-99CD-9E74958D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39A-4BF2-43C7-98C3-4D2A2A6F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6D8F-5206-4F8C-AF5C-0962C768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7940-326D-4A9E-A00C-DB4BB05DB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nie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fastidio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bout Helen’s doing something right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stidious - adj. excessively particular, or demanding; hard to p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tin fastīdium - squeamishness, haughtiness; fastus- disd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s - full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3200400" y="1219320"/>
            <a:ext cx="2895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sula, the wicked sea witch, unleashed h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riel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th – n. strong, stern, or fierce anger; 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English wrǣththu; wrāth -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2438280" y="1295280"/>
            <a:ext cx="4343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oy was filled with ire toward the b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 – n. intense anger; wr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in īra - an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MCj04406740000[1]"/>
          <p:cNvPicPr/>
          <p:nvPr/>
        </p:nvPicPr>
        <p:blipFill>
          <a:blip r:embed="rId1"/>
          <a:stretch/>
        </p:blipFill>
        <p:spPr>
          <a:xfrm>
            <a:off x="2895480" y="16002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7:59:22Z</dcterms:created>
  <dc:creator>Owner</dc:creator>
  <dc:description/>
  <dc:language>en-US</dc:language>
  <cp:lastModifiedBy>GACS</cp:lastModifiedBy>
  <dcterms:modified xsi:type="dcterms:W3CDTF">2010-01-26T19:58:10Z</dcterms:modified>
  <cp:revision>7</cp:revision>
  <dc:subject/>
  <dc:title>Slide 1</dc:title>
</cp:coreProperties>
</file>