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37E-709D-4620-A02B-713BCDA8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B6C-FC49-4DF5-861F-7E02B1E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AED-8BC4-4D50-9FAE-C593AD6E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8CF-6E7E-4418-8600-432306F7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6DA-FB16-4C7F-80D2-C9284DA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F50-9C75-45E0-83CD-895B8508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B9B-C4E4-4760-A8E4-7777E26F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A77-EF24-45D1-BC80-8C77740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7F0-A011-45CD-B12F-F6B75655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84F-3760-412F-9411-B5C3DD3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D4E-9BD9-415A-B07B-24BF588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CC5-B2D6-41D1-B976-3FAD2309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CFD-5B5B-4E71-B947-083EA176F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ie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astidio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bout Helen’s doing something righ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idious - adj. excessively particular, or demanding; hard to p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tin fastīdium - squeamishness, haughtiness; fastus- disd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s - full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89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sula, the wicked sea witch, unleashed 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riel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th – n. strong, stern, or fierce anger; 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English wrǣththu; wrāth -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343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y was filled with ire toward the b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 – n. intense anger;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n īra - an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MCj04406740000[1]"/>
          <p:cNvPicPr/>
          <p:nvPr/>
        </p:nvPicPr>
        <p:blipFill>
          <a:blip r:embed="rId1"/>
          <a:stretch/>
        </p:blipFill>
        <p:spPr>
          <a:xfrm>
            <a:off x="2895480" y="1600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7:59:22Z</dcterms:created>
  <dc:creator>Owner</dc:creator>
  <dc:description/>
  <dc:language>en-US</dc:language>
  <cp:lastModifiedBy>GACS</cp:lastModifiedBy>
  <dcterms:modified xsi:type="dcterms:W3CDTF">2010-01-26T19:58:10Z</dcterms:modified>
  <cp:revision>7</cp:revision>
  <dc:subject/>
  <dc:title>Slide 1</dc:title>
</cp:coreProperties>
</file>