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C1F-4FC4-48C4-BDC7-7CE4A8A7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AC2-0C90-409E-B9D9-87C1CD2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F8F-7112-4A5A-B704-CE217215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387-5E00-4423-A1AD-888C754A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077-EC77-4E73-BCEE-205727F3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5E1-D1B1-4314-8DEC-00E438F7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3C7-52A8-4D12-8700-8F58E9E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50E-DF1D-423D-8C3B-4D1674C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928-4EAC-4089-9E5B-E640BB8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819-FC2A-4A6D-A1C6-2743F5E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E6F-B327-48BC-B432-D7C93FB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D94-4DD6-4916-8561-6FBDE80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679-6474-4934-AF8A-BB37A90B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ie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astidio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ut Helen’s doing something righ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idious - adj. excessively particular, or demanding; hard to p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in fastīdium - squeamishness, haughtiness; fastus- disd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s - full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sula, the wicked sea witch, unleashed 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riel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th – n. strong, stern, or fierce anger; 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English wrǣththu; wrāth -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43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y was filled with ire toward the b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 – n. intense anger;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n īra - an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MCj04406740000[1]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7:59:22Z</dcterms:created>
  <dc:creator>Owner</dc:creator>
  <dc:description/>
  <dc:language>en-US</dc:language>
  <cp:lastModifiedBy>GACS</cp:lastModifiedBy>
  <dcterms:modified xsi:type="dcterms:W3CDTF">2010-01-26T19:58:10Z</dcterms:modified>
  <cp:revision>7</cp:revision>
  <dc:subject/>
  <dc:title>Slide 1</dc:title>
</cp:coreProperties>
</file>