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5BE-31B8-4649-A040-14F14CAC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2B9-4FE7-4B17-A217-CFB59F92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468-D914-4841-A8F0-6362A2C0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2AE-BEC6-4919-B144-7C976AD7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A17-21C9-4B52-8FCC-5366B51B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12F-FB89-4CDC-8F50-01B10D6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608-5DA7-403D-9FB0-6B2BBE24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CD4-FA90-4DBD-9FCE-145730D1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B47-34D2-4A61-B9F8-AE742935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410-6CFC-4DAD-A934-51074CC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57D-C5D0-4A87-B3BD-9AE1DB4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2AB-044C-45E5-AA97-DAEAAEC4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3441-C705-438B-A94E-4A54D240E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nie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fastidio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bout Helen’s doing something righ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idious - adj. excessively particular, or demanding; hard to p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tin fastīdium - squeamishness, haughtiness; fastus- disd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s - full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895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sula, the wicked sea witch, unleashed 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riel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th – n. strong, stern, or fierce anger; 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English wrǣththu; wrāth -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343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y was filled with ire toward the b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 – n. intense anger;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in īra - an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MCj04406740000[1]"/>
          <p:cNvPicPr/>
          <p:nvPr/>
        </p:nvPicPr>
        <p:blipFill>
          <a:blip r:embed="rId1"/>
          <a:stretch/>
        </p:blipFill>
        <p:spPr>
          <a:xfrm>
            <a:off x="2895480" y="1600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7:59:22Z</dcterms:created>
  <dc:creator>Owner</dc:creator>
  <dc:description/>
  <dc:language>en-US</dc:language>
  <cp:lastModifiedBy>GACS</cp:lastModifiedBy>
  <dcterms:modified xsi:type="dcterms:W3CDTF">2010-01-26T19:58:10Z</dcterms:modified>
  <cp:revision>7</cp:revision>
  <dc:subject/>
  <dc:title>Slide 1</dc:title>
</cp:coreProperties>
</file>