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817F-41E2-4850-BE8B-C263F2ED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A0D-2BFD-4FDC-8246-31619930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D77-31F1-46A3-8D8F-D002FF5E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17F-07AC-4770-95F2-C319A516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9D6F-F4A5-47B4-82B1-EBCC1F22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F455-F449-4B64-BFEC-0E917FEE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437-07AF-41CF-B969-AFA9A62D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904B-DE59-47E3-84B1-95B65ADA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C746-1396-4DCA-9EF2-12982892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0EC-B709-41E1-8614-DEB640A1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C8D-45A3-45EC-8C48-43625B5B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8DA-2045-4C8A-A254-8D56070C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A5A1-3BD6-4D61-95E4-71BB639C5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omps.fotosearch.com/comp/BNS/BNS189/mother-trying-feed_~BPH128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t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tinate-ad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the Latin obstinatus or obstinare meaning to set one’s mind to, be determin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mly or stubbornly adhering to one's purpose, opinion, etc.; not yielding to argument, persuasion, or entreat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the mother repeatedly asked the child to eat his dinner, the child was very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bstin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his unwillingness to obli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2438280"/>
            <a:ext cx="380988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ve-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latin contropāre meaning to compare (tropare meaning to f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lan with ingenuity; devise; to p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ttle boy trie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would inable him to easily reach the cookie without his mother kn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... of a young boy thinking"/>
          <p:cNvPicPr/>
          <p:nvPr/>
        </p:nvPicPr>
        <p:blipFill>
          <a:blip r:embed="rId1"/>
          <a:stretch/>
        </p:blipFill>
        <p:spPr>
          <a:xfrm>
            <a:off x="3505320" y="2895480"/>
            <a:ext cx="198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1:52:24Z</dcterms:created>
  <dc:creator> </dc:creator>
  <dc:description/>
  <dc:language>en-US</dc:language>
  <cp:lastModifiedBy> </cp:lastModifiedBy>
  <dcterms:modified xsi:type="dcterms:W3CDTF">2010-01-26T02:05:18Z</dcterms:modified>
  <cp:revision>4</cp:revision>
  <dc:subject/>
  <dc:title>Slide 1</dc:title>
</cp:coreProperties>
</file>