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FCF-16D4-463E-BA95-FC5DDCF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F5A-FEA8-4F51-8B91-747C8A08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A71-748C-4614-9D56-6B957EB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99E-2C1A-462F-B2B8-EF6C409E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C2B-23AB-4E4E-9BFB-4A2D1BD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18F-9722-431D-A9CE-F837FC66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725-C5FF-4D38-A235-B7AB60D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B60-CB73-4FFE-8576-EC4078BE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520-A348-4ED4-B970-F5A6992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6D9-2BE7-4E67-9159-4158D0B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0C5-08EB-4F9C-9A75-90E95E20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102-3506-43A4-8594-4FB5AD1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8776-F223-4309-AC8A-14AB4650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ps.fotosearch.com/comp/BNS/BNS189/mother-trying-feed_~BPH12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tinate-ad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Latin obstinatus or obstinare meaning to set one’s mind to, be deter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ly or stubbornly adhering to one's purpose, opinion, etc.; not yielding to argument, persuasion, or entrea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mother repeatedly asked the child to eat his dinner, the child was ver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tin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his unwillingness to obli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38098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ve-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contropāre meaning to compare (tropare meaning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n with ingenuity; devise; to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tle boy tri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ould inable him to easily reach the cookie without his mother kn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.. of a young boy thinking"/>
          <p:cNvPicPr/>
          <p:nvPr/>
        </p:nvPicPr>
        <p:blipFill>
          <a:blip r:embed="rId1"/>
          <a:stretch/>
        </p:blipFill>
        <p:spPr>
          <a:xfrm>
            <a:off x="3505320" y="2895480"/>
            <a:ext cx="198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52:24Z</dcterms:created>
  <dc:creator> </dc:creator>
  <dc:description/>
  <dc:language>en-US</dc:language>
  <cp:lastModifiedBy> </cp:lastModifiedBy>
  <dcterms:modified xsi:type="dcterms:W3CDTF">2010-01-26T02:05:18Z</dcterms:modified>
  <cp:revision>4</cp:revision>
  <dc:subject/>
  <dc:title>Slide 1</dc:title>
</cp:coreProperties>
</file>