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2A63-EC26-4350-A07B-C602A5DF8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BC74-2D06-462D-915E-5B821AC6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0717-3A75-4B45-A482-A6D7F4FF0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FA49-20E5-409C-BF06-7F6E9B9D5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7648-9A3F-4D39-915E-75444CAC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8116-0414-4971-BF2F-BB383540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8F28-03DC-4CDE-A17D-71E108EC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ECF4-D7FB-471A-9BF9-1D1CF6E7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9BF2-A479-42CB-A591-8973C3D0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7741-67E2-4862-B406-9C5E9867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FDFA-DAB0-417F-BF73-08B57714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705D-8288-476D-A214-B0CF2E04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AC2C-EEB9-4288-ADA1-C65CDD3B5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omps.fotosearch.com/comp/BNS/BNS189/mother-trying-feed_~BPH128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ti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tinate-ad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the Latin obstinatus or obstinare meaning to set one’s mind to, be determin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mly or stubbornly adhering to one's purpose, opinion, etc.; not yielding to argument, persuasion, or entreat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n the mother repeatedly asked the child to eat his dinner, the child was very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bstin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n his unwillingness to oblig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2438280"/>
            <a:ext cx="380988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ve-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latin contropāre meaning to compare (tropare meaning to f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lan with ingenuity; devise; to pl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ittle boy tried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tr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would inable him to easily reach the cookie without his mother kn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... of a young boy thinking"/>
          <p:cNvPicPr/>
          <p:nvPr/>
        </p:nvPicPr>
        <p:blipFill>
          <a:blip r:embed="rId1"/>
          <a:stretch/>
        </p:blipFill>
        <p:spPr>
          <a:xfrm>
            <a:off x="3505320" y="2895480"/>
            <a:ext cx="1989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1:52:24Z</dcterms:created>
  <dc:creator> </dc:creator>
  <dc:description/>
  <dc:language>en-US</dc:language>
  <cp:lastModifiedBy> </cp:lastModifiedBy>
  <dcterms:modified xsi:type="dcterms:W3CDTF">2010-01-26T02:05:18Z</dcterms:modified>
  <cp:revision>4</cp:revision>
  <dc:subject/>
  <dc:title>Slide 1</dc:title>
</cp:coreProperties>
</file>