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A75-CBF3-42BE-9AB4-61994678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9CD-2109-451A-BB1F-4F25578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DE9-D448-4453-BC81-5520CB07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8CC-9C70-43F0-BE06-F80CE960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7ED-A237-47C2-AB18-A9FFFEFB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50A-8D86-46C2-A3CB-F13AEF20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692-020F-47B7-B464-2FA9908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5CF-03F4-412D-B991-DEE32B6C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19B-229F-49F5-8752-C0AC0375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ED8-CAEC-4B0E-8C7C-CCDFD99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20E-AF28-4DFF-966C-F29BFD7F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336-E681-4B0D-8C29-61BEE34F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BA45-A32C-4335-A166-F6A159E2A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mps.fotosearch.com/comp/BNS/BNS189/mother-trying-feed_~BPH12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t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tinate-ad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Latin obstinatus or obstinare meaning to set one’s mind to, be determ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mly or stubbornly adhering to one's purpose, opinion, etc.; not yielding to argument, persuasion, or entrea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the mother repeatedly asked the child to eat his dinner, the child was ver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stin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his unwillingness to obli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438280"/>
            <a:ext cx="380988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ve-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latin contropāre meaning to compare (tropare meaning to f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lan with ingenuity; devise; to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ttle boy tri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ould inable him to easily reach the cookie without his mother kn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... of a young boy thinking"/>
          <p:cNvPicPr/>
          <p:nvPr/>
        </p:nvPicPr>
        <p:blipFill>
          <a:blip r:embed="rId1"/>
          <a:stretch/>
        </p:blipFill>
        <p:spPr>
          <a:xfrm>
            <a:off x="3505320" y="2895480"/>
            <a:ext cx="198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52:24Z</dcterms:created>
  <dc:creator> </dc:creator>
  <dc:description/>
  <dc:language>en-US</dc:language>
  <cp:lastModifiedBy> </cp:lastModifiedBy>
  <dcterms:modified xsi:type="dcterms:W3CDTF">2010-01-26T02:05:18Z</dcterms:modified>
  <cp:revision>4</cp:revision>
  <dc:subject/>
  <dc:title>Slide 1</dc:title>
</cp:coreProperties>
</file>