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jpeg" ContentType="image/jpeg"/>
  <Override PartName="/ppt/media/image21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2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40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20.png" ContentType="image/png"/>
  <Override PartName="/ppt/media/image36.jpeg" ContentType="image/jpeg"/>
  <Override PartName="/ppt/media/image11.jpeg" ContentType="image/jpeg"/>
  <Override PartName="/ppt/media/image9.jpeg" ContentType="image/jpeg"/>
  <Override PartName="/ppt/media/image25.png" ContentType="image/png"/>
  <Override PartName="/ppt/media/image4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BBBB-A104-42AC-BE52-F464BB77C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6E87-D55C-4805-B657-B0CF9DB77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E9F5-EEC0-4E8A-882E-53BBCB751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6AFF-54E7-46DB-81BE-11067A7B1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3454-C6C0-4B39-9974-093DEBCFB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82C6-9500-4753-9B7D-C298C170C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67E1-9356-44D2-A339-B46A9DA5C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8BE6-8A63-4CC6-91F3-1E22F0E21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9278-27F7-4972-AB05-F15DDCBCE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B4E1-233D-4B70-BFE6-3514AE7A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E3D9-A306-482B-A179-5FDCD2C6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5F4A-F6B4-48C3-B53D-48FB4BBD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E8E63-46F9-4FDA-B0CB-F201608AC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1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Image:MORDRED.jpg" TargetMode="External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26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Elan Jose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438280" y="1600200"/>
            <a:ext cx="3610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rthurian Legen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4651200"/>
            <a:ext cx="3276720" cy="2206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208560" y="0"/>
            <a:ext cx="2935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lin and Aurelius’ knights travel to Ire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3143160"/>
            <a:ext cx="3029040" cy="37148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703920" y="3124080"/>
            <a:ext cx="2440080" cy="3733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3124080" y="2448000"/>
            <a:ext cx="352116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knights can’t move the stone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2076480"/>
            <a:ext cx="3898800" cy="47815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14800" y="3086280"/>
            <a:ext cx="502920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lin loads the stones on sh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3086280"/>
            <a:ext cx="5029200" cy="3771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181480" y="3790800"/>
            <a:ext cx="396252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lin rebuilds the Giant’s Ring exactly as it was and is now known as Stonehe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2914560"/>
            <a:ext cx="5257800" cy="3943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288040" y="2590920"/>
            <a:ext cx="38559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hur’s half-sister, Morgause, seduces him and conceives Mord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52280" y="4651200"/>
            <a:ext cx="3276720" cy="2206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05320" y="2895480"/>
            <a:ext cx="2381040" cy="3753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6248520" y="3133800"/>
            <a:ext cx="262548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rdred kills Arthur’s nephew, Sir Gawai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703840" y="2133720"/>
            <a:ext cx="3440160" cy="4724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29973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ng Arthur kills Mordred in the Battle of Camlan, while Arthur is fatally woun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4035600"/>
            <a:ext cx="4191120" cy="28224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762600" y="3105000"/>
            <a:ext cx="2381400" cy="3753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267080" y="3657600"/>
            <a:ext cx="2400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tradition: Isle of Aval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267080" y="4254480"/>
            <a:ext cx="4876920" cy="26035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4035600"/>
            <a:ext cx="419112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r Tristan, his wife, and brother-in-law shipwreck on an is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971800" y="1447920"/>
            <a:ext cx="3038400" cy="25509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[avatar]"/>
          <p:cNvPicPr/>
          <p:nvPr/>
        </p:nvPicPr>
        <p:blipFill>
          <a:blip r:embed="rId2"/>
          <a:stretch/>
        </p:blipFill>
        <p:spPr>
          <a:xfrm>
            <a:off x="0" y="144792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705720" y="1295280"/>
            <a:ext cx="2081160" cy="2857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209680" y="4125960"/>
            <a:ext cx="394344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land known as the Land of Servitude and is ruled by a giant, Nab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3357720" cy="4186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733920" y="2819520"/>
            <a:ext cx="511488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celot’s foster mo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34120" y="2095560"/>
            <a:ext cx="3809880" cy="4762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1238400"/>
            <a:ext cx="338940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stan kills Nabon and frees all the cap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372280" y="4029120"/>
            <a:ext cx="3771720" cy="28288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1219320"/>
            <a:ext cx="3038400" cy="25509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2743200" y="3733920"/>
            <a:ext cx="25066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thur is nicknamed “the Wart” as a child and has a dog named Cab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666880" y="2014560"/>
            <a:ext cx="6477120" cy="48434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45720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lin would change Arthur into many cr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743440" y="4408560"/>
            <a:ext cx="3400560" cy="24494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52280" y="3219480"/>
            <a:ext cx="4457880" cy="36385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4667400" y="1295280"/>
            <a:ext cx="447660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celot tries to stifle his desire for Guinevere by going on long que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3733920"/>
            <a:ext cx="2847960" cy="3124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410160" y="3048120"/>
            <a:ext cx="2733840" cy="38098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590920" y="1219320"/>
            <a:ext cx="3809880" cy="25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celot loses virginity to Elaine and enters a relationship with Guinev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048120" y="1295280"/>
            <a:ext cx="2828880" cy="2602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3733920"/>
            <a:ext cx="2847960" cy="3124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6410160" y="3048120"/>
            <a:ext cx="27338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celot tears the iron bars out of Guinevere’s window to be with 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3733920"/>
            <a:ext cx="2847960" cy="31240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410160" y="3048120"/>
            <a:ext cx="2733840" cy="38098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2819520" y="1066680"/>
            <a:ext cx="351936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thur sends his knights on a quest for the Holy Gra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4191120" cy="28224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943600" y="1371600"/>
            <a:ext cx="3029040" cy="37148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154400" y="4343400"/>
            <a:ext cx="17049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celot tries to end affair, but his attempt fai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4514760" cy="49528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029200" y="1447920"/>
            <a:ext cx="3881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 of the affair is the way Arthur’s enemies are able to destroy hi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400480" y="1219320"/>
            <a:ext cx="4109760" cy="54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2743200" y="1447920"/>
            <a:ext cx="2800440" cy="268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THE END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celot saves Guinev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3333600" cy="3657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410160" y="3048120"/>
            <a:ext cx="2733840" cy="3809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429000" y="1219320"/>
            <a:ext cx="27432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celot is the most handsome kn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2333520"/>
            <a:ext cx="5257800" cy="45244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810400" y="3200400"/>
            <a:ext cx="3333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celot changes a dragon back to a girl with a ki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0" y="2971800"/>
            <a:ext cx="4572000" cy="3886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3666960"/>
            <a:ext cx="457200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lin foretold doom if Arthur married Guinev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703920" y="3124080"/>
            <a:ext cx="2440080" cy="3733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3048120"/>
            <a:ext cx="2733840" cy="3809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743200" y="3981600"/>
            <a:ext cx="392436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g Arthur’s uncle King Aurelius Ambrosi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610160" cy="3429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086520" y="2286000"/>
            <a:ext cx="3057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g Aurelius asks Merlin to design a monumen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124080"/>
            <a:ext cx="2440080" cy="3733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086520" y="2286000"/>
            <a:ext cx="3057480" cy="4572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2590920" y="2481120"/>
            <a:ext cx="329544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rlin suggests the Giant’s 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703920" y="3124080"/>
            <a:ext cx="2440080" cy="3733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04920" y="2685960"/>
            <a:ext cx="556236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6T12:57:58Z</dcterms:created>
  <dc:creator>GACS</dc:creator>
  <dc:description/>
  <dc:language>en-US</dc:language>
  <cp:lastModifiedBy>wks1</cp:lastModifiedBy>
  <dcterms:modified xsi:type="dcterms:W3CDTF">2008-11-11T13:17:22Z</dcterms:modified>
  <cp:revision>3</cp:revision>
  <dc:subject/>
  <dc:title>Slide 1</dc:title>
</cp:coreProperties>
</file>