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4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9F8-51AD-4CB3-8511-E214CDDB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AC2C-4C43-4453-8EBF-85D74233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32E-75BB-4AB0-912B-1CAB289C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04E-ABD2-4E91-A773-074DE542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CF7-849A-45FD-B115-E2640500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516-6D9E-4E56-8F4F-067BB7F9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788-8243-4FC1-BD49-6C2AF464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C5A-8FB2-4B39-A62F-21B537E7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368-6A73-421E-BE23-8A62B846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5C3-EA1E-4096-B45B-384358E3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DD5-48FB-42E7-8976-C955E0F3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D62-614C-434E-9F2F-EE104C2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3964-24FE-4D80-8D7E-9718015C8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MORDRED.jpg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6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lan Jose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38280" y="1600200"/>
            <a:ext cx="36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rthurian Legen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651200"/>
            <a:ext cx="32767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08560" y="0"/>
            <a:ext cx="293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lin and Aurelius’ knights travel to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143160"/>
            <a:ext cx="3029040" cy="3714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70392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124080" y="2448000"/>
            <a:ext cx="352116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knights can’t move the ston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076480"/>
            <a:ext cx="3898800" cy="478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lin loads the stones on 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08628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81480" y="3790800"/>
            <a:ext cx="39625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lin rebuilds the Giant’s Ring exactly as it was and is now known as Stoneh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91456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88040" y="2590920"/>
            <a:ext cx="3855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ur’s half-sister, Morgause, seduces him and conceives Mord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4651200"/>
            <a:ext cx="3276720" cy="2206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2895480"/>
            <a:ext cx="2381040" cy="375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248520" y="3133800"/>
            <a:ext cx="2625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dred kills Arthur’s nephew, Sir Gaw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03840" y="2133720"/>
            <a:ext cx="3440160" cy="472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997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Arthur kills Mordred in the Battle of Camlan, while Arthur is fatally wou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035600"/>
            <a:ext cx="4191120" cy="282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62600" y="3105000"/>
            <a:ext cx="2381400" cy="375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267080" y="3657600"/>
            <a:ext cx="240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adition: Isle of Av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67080" y="4254480"/>
            <a:ext cx="4876920" cy="2603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4035600"/>
            <a:ext cx="41911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 Tristan, his wife, and brother-in-law shipwreck on an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038400" cy="2550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[avatar]"/>
          <p:cNvPicPr/>
          <p:nvPr/>
        </p:nvPicPr>
        <p:blipFill>
          <a:blip r:embed="rId2"/>
          <a:stretch/>
        </p:blipFill>
        <p:spPr>
          <a:xfrm>
            <a:off x="0" y="14479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705720" y="1295280"/>
            <a:ext cx="2081160" cy="2857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209680" y="4125960"/>
            <a:ext cx="39434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nd known as the Land of Servitude and is ruled by a giant, Na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357720" cy="4186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733920" y="2819520"/>
            <a:ext cx="51148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celot’s foster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2095560"/>
            <a:ext cx="3809880" cy="4762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238400"/>
            <a:ext cx="33894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stan kills Nabon and frees all the cap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72280" y="402912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3038400" cy="2550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743200" y="3733920"/>
            <a:ext cx="2506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hur is nicknamed “the Wart” as a child and has a dog named Cab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66880" y="2014560"/>
            <a:ext cx="6477120" cy="4843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lin would change Arthur into many cr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43440" y="4408560"/>
            <a:ext cx="3400560" cy="2449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2280" y="3219480"/>
            <a:ext cx="4457880" cy="3638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67400" y="1295280"/>
            <a:ext cx="4476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celot tries to stifle his desire for Guinevere by going on long 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8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590920" y="1219320"/>
            <a:ext cx="38098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celot loses virginity to Elaine and enters a relationship with Guin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2828880" cy="2602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28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celot tears the iron bars out of Guinevere’s window to be with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8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819520" y="1066680"/>
            <a:ext cx="35193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hur sends his knights on a quest for the Holy Gr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91120" cy="2822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3029040" cy="371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154400" y="4343400"/>
            <a:ext cx="1704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celot tries to end affair, but his attempt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4514760" cy="4952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88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the affair is the way Arthur’s enemies are able to destroy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00480" y="1219320"/>
            <a:ext cx="410976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743200" y="1447920"/>
            <a:ext cx="2800440" cy="26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celot saves Guinev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33360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429000" y="1219320"/>
            <a:ext cx="2743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celot is the most handsome k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333520"/>
            <a:ext cx="5257800" cy="4524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10400" y="3200400"/>
            <a:ext cx="3333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celot changes a dragon back to a girl with a ki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666960"/>
            <a:ext cx="4572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lin foretold doom if Arthur married Guin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392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743200" y="3981600"/>
            <a:ext cx="39243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Arthur’s uncle King Aurelius Ambros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61016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6520" y="2286000"/>
            <a:ext cx="305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Aurelius asks Merlin to design a monu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6520" y="2286000"/>
            <a:ext cx="3057480" cy="457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90920" y="2481120"/>
            <a:ext cx="329544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lin suggests the Giant’s 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70392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68596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2:57:58Z</dcterms:created>
  <dc:creator>GACS</dc:creator>
  <dc:description/>
  <dc:language>en-US</dc:language>
  <cp:lastModifiedBy>wks1</cp:lastModifiedBy>
  <dcterms:modified xsi:type="dcterms:W3CDTF">2008-11-11T13:17:22Z</dcterms:modified>
  <cp:revision>3</cp:revision>
  <dc:subject/>
  <dc:title>Slide 1</dc:title>
</cp:coreProperties>
</file>