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DD1-58D0-4B69-8E8A-E7131273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FAE-BDF6-4755-A7DA-29202896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5BC-5621-4EE9-95FB-38D61E94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91F-BB05-4FA4-A06C-0720DD87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E46-DC00-4836-B3ED-D8D3667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F38-39E3-4802-B89A-4E90115D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5C1-9FAA-4DDA-A856-E0882BEE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BD8-8AEA-4B6E-BAD4-FE75466F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222-FA35-417C-A70C-E3103E2A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BF9-9DDA-42F0-9862-AD6D93F1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CC9-F897-4FD5-A7E9-8D1DC737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247-494B-4F4B-9F6B-E47DC96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5BEF-AE14-47AF-B402-B78B80485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MORDRED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6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lan Jose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1600200"/>
            <a:ext cx="36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thurian Legen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512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08560" y="0"/>
            <a:ext cx="293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and Aurelius’ knights travel to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143160"/>
            <a:ext cx="3029040" cy="371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124080" y="2448000"/>
            <a:ext cx="352116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nights can’t move the ston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076480"/>
            <a:ext cx="3898800" cy="478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lin loads the stones on 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08628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1480" y="3790800"/>
            <a:ext cx="39625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lin rebuilds the Giant’s Ring exactly as it was and is now known as Stoneh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88040" y="2590920"/>
            <a:ext cx="3855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ur’s half-sister, Morgause, seduces him and conceives Mord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46512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2895480"/>
            <a:ext cx="2381040" cy="375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48520" y="3133800"/>
            <a:ext cx="2625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dred kills Arthur’s nephew, Sir Gaw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03840" y="2133720"/>
            <a:ext cx="3440160" cy="472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997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Arthur kills Mordred in the Battle of Camlan, while Arthur is fatally wou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35600"/>
            <a:ext cx="4191120" cy="282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62600" y="3105000"/>
            <a:ext cx="2381400" cy="375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240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adition: Isle of Av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67080" y="4254480"/>
            <a:ext cx="4876920" cy="260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035600"/>
            <a:ext cx="41911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Tristan, his wife, and brother-in-law shipwreck on an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038400" cy="2550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[avatar]"/>
          <p:cNvPicPr/>
          <p:nvPr/>
        </p:nvPicPr>
        <p:blipFill>
          <a:blip r:embed="rId2"/>
          <a:stretch/>
        </p:blipFill>
        <p:spPr>
          <a:xfrm>
            <a:off x="0" y="1447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08116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209680" y="4125960"/>
            <a:ext cx="39434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nd known as the Land of Servitude and is ruled by a giant, Na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357720" cy="4186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33920" y="2819520"/>
            <a:ext cx="5114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lot’s foster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209556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238400"/>
            <a:ext cx="3389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tan kills Nabon and frees all the cap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72280" y="402912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038400" cy="2550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43200" y="3733920"/>
            <a:ext cx="2506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is nicknamed “the Wart” as a child and has a dog named Cab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2014560"/>
            <a:ext cx="6477120" cy="484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lin would change Arthur into many cr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43440" y="4408560"/>
            <a:ext cx="3400560" cy="244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280" y="3219480"/>
            <a:ext cx="4457880" cy="363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67400" y="1295280"/>
            <a:ext cx="4476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celot tries to stifle his desire for Guinevere by going on long 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90920" y="1219320"/>
            <a:ext cx="3809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lot loses virginity to Elaine and enters a relationship with Guin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828880" cy="2602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lot tears the iron bars out of Guinevere’s window to be with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8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3519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hur sends his knights on a quest for the Holy Gr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91120" cy="2822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30290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154400" y="4343400"/>
            <a:ext cx="1704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lot tries to end affair, but his attemp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514760" cy="4952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8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the affair is the way Arthur’s enemies are able to destroy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00480" y="1219320"/>
            <a:ext cx="410976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743200" y="1447920"/>
            <a:ext cx="2800440" cy="26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celot saves Guinev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3336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1016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29000" y="1219320"/>
            <a:ext cx="2743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lot is the most handsome k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333520"/>
            <a:ext cx="5257800" cy="4524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10400" y="3200400"/>
            <a:ext cx="333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celot changes a dragon back to a girl with a ki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666960"/>
            <a:ext cx="4572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foretold doom if Arthur married Guin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743200" y="3981600"/>
            <a:ext cx="39243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Arthur’s uncle King Aurelius Ambros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61016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6520" y="2286000"/>
            <a:ext cx="305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Aurelius asks Merlin to design a monu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6520" y="2286000"/>
            <a:ext cx="3057480" cy="457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90920" y="2481120"/>
            <a:ext cx="32954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lin suggests the Giant’s 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03920" y="3124080"/>
            <a:ext cx="244008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68596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2:57:58Z</dcterms:created>
  <dc:creator>GACS</dc:creator>
  <dc:description/>
  <dc:language>en-US</dc:language>
  <cp:lastModifiedBy>wks1</cp:lastModifiedBy>
  <dcterms:modified xsi:type="dcterms:W3CDTF">2008-11-11T13:17:22Z</dcterms:modified>
  <cp:revision>3</cp:revision>
  <dc:subject/>
  <dc:title>Slide 1</dc:title>
</cp:coreProperties>
</file>