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242-4129-4C4D-8768-85C14A86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54A-B55B-40E9-8B86-27C45935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22F-488B-4E90-8C3B-FE27F3E9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7EE-3FF2-4FEB-98CB-76F4FC88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2D8-F589-4135-B3A8-005551B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2B4-F971-4929-BD35-0AA4FEB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3C5-A2F6-46A9-BAD3-A6F464A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375-AA12-415D-BE78-47E84FB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86A-CED6-4833-B506-72A16FA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280-32A7-4AD6-9348-B00FF8D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954-989D-4365-8A64-1E0105A7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C2C-FF32-4EFE-8D05-A5EB411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430-9711-4F74-B1FE-FE7F7DE1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3B2B-06FE-4A71-A3A2-88AB2F1A1716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0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Katie Yoder</cp:lastModifiedBy>
  <dcterms:modified xsi:type="dcterms:W3CDTF">2009-09-30T00:13:46Z</dcterms:modified>
  <cp:revision>8</cp:revision>
  <dc:subject/>
  <dc:title>Slide 1</dc:title>
</cp:coreProperties>
</file>