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015-C06D-43A0-9F50-97154418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55B-FCC1-4A33-B08A-9AFDCACA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2CF-6CAC-44BC-AECE-949C09EC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CCF-5422-49C4-8167-6F6789F3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501-16C1-4AD1-9905-A9D436AD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F64-6C77-4D6B-9012-96250BEB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277-73AC-44BD-A816-8C37F226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E9A-DC38-4165-8096-52B60A9B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179-72C3-49AF-B28B-BE2F2C66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AB2-BFE3-4147-B6BB-85323D31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4E0-5AC1-4617-A8AC-4AB6D6C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4CA-9AA1-48F9-8D42-C5C03980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66CC-6B81-42B3-AB4A-2CED99484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19320"/>
            <a:ext cx="70866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Bauhaus 93"/>
              </a:rPr>
              <a:t>Medieval Food</a:t>
            </a:r>
            <a:endParaRPr b="0" lang="en-US" sz="8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cc66"/>
                  </a:gs>
                </a:gsLst>
                <a:lin ang="5400000"/>
              </a:gradFill>
              <a:latin typeface="Bauhaus 93"/>
              <a:ea typeface="Bauhaus 93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581280"/>
            <a:ext cx="4191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atie Yoder and Cheryl 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0EB1-A84B-47D1-9852-4AA36F19024A}" type="datetime3">
              <a:rPr b="0" lang="en-US" sz="2800" spc="-1" strike="noStrike">
                <a:solidFill>
                  <a:srgbClr val="ffcc66"/>
                </a:solidFill>
                <a:latin typeface="Arial"/>
              </a:rPr>
              <a:t>July 31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6672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5600" cy="617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859000">
            <a:off x="152280" y="152280"/>
            <a:ext cx="6477120" cy="3562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786000">
            <a:off x="5029200" y="1981080"/>
            <a:ext cx="38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476760" cy="2193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200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33"/>
                </a:solidFill>
                <a:latin typeface="Arial"/>
              </a:rPr>
              <a:t>Ew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TEENTH-CENTURY TABLE M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should take food before the blessing has been ma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should he take a place other than that assigned to him by the one in charge of the m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ain from eating until the dishes have been placed before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your fingers be clean, and your fingernails well-groo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rsel has been touched, let it not be returned to th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touch your ears or nose with your bare h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lean your teeth with a sharp iron while 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lt is not to be touched with the food where it sits in the salt d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an, I ask again, refrain from belching at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at it is forbidden to put your elbow o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rdered by regulation that you should not put a dish to your m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ho wishes to drink must first finish what is in his mou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his lip be wipe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can I avoid mentioning that he should not gnaw a bone with his teeth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table is cleared, wash your hands, and have a dr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Jeffrey L. Singman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ily Life in Medieval Euro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stport, Conn.: Greenwood Press, 1999), p. 1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35268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9440" y="757080"/>
            <a:ext cx="89251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1892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755880" cy="4648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44956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3540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6799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2:03:34Z</dcterms:created>
  <dc:creator>Katie Yoder</dc:creator>
  <dc:description/>
  <dc:language>en-US</dc:language>
  <cp:lastModifiedBy>Katie Yoder</cp:lastModifiedBy>
  <dcterms:modified xsi:type="dcterms:W3CDTF">2009-09-30T00:13:46Z</dcterms:modified>
  <cp:revision>8</cp:revision>
  <dc:subject/>
  <dc:title>Slide 1</dc:title>
</cp:coreProperties>
</file>