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CCB9-0259-4345-AC7A-B626FCCE9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5856-6EF7-4AB8-BEA3-7D80D1B20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2043-7D8C-4DC2-8B81-A79BBC37E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D98A-A3BE-4561-B331-B59DFFF38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61F8-AADA-4AB1-9516-01FC8B7A1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88C9-99E4-4711-BAB8-FD3C3A990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324B-87A5-4281-A3DC-33B4105A9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4D71-2A5A-437E-8B1B-AEF38F03F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F8E6-F981-4ECD-9EED-536B8C333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60F2-9995-4C5D-82A6-AA4EFAF77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85F2-0B73-414A-9E86-1614EB4B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FC0C-D6C4-4E6F-9DEF-835F1496E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28D1F-7D2E-4C36-8587-442FF9989C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90720" y="1219320"/>
            <a:ext cx="7086600" cy="2743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cc66"/>
                    </a:gs>
                  </a:gsLst>
                  <a:lin ang="5400000"/>
                </a:gradFill>
                <a:latin typeface="Bauhaus 93"/>
              </a:rPr>
              <a:t>Medieval Food</a:t>
            </a:r>
            <a:endParaRPr b="0" lang="en-US" sz="80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100000">
                    <a:srgbClr val="ffcc66"/>
                  </a:gs>
                </a:gsLst>
                <a:lin ang="5400000"/>
              </a:gradFill>
              <a:latin typeface="Bauhaus 93"/>
              <a:ea typeface="Bauhaus 93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3581280"/>
            <a:ext cx="41911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Katie Yoder and Cheryl H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ffcc66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CBDE0-E9E6-4478-B043-EC5784E58337}" type="datetime3">
              <a:rPr b="0" lang="en-US" sz="2800" spc="-1" strike="noStrike">
                <a:solidFill>
                  <a:srgbClr val="ffcc66"/>
                </a:solidFill>
                <a:latin typeface="Arial"/>
              </a:rPr>
              <a:t>July 31, 2026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410080" y="3429000"/>
            <a:ext cx="2667240" cy="17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035600" cy="61722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419720" y="2209680"/>
            <a:ext cx="434340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 rot="20859000">
            <a:off x="152280" y="152280"/>
            <a:ext cx="6477120" cy="35625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 rot="786000">
            <a:off x="5029200" y="1981080"/>
            <a:ext cx="38289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6476760" cy="2193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80880" y="3886200"/>
            <a:ext cx="2643480" cy="1979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648320" y="3200400"/>
            <a:ext cx="3200400" cy="24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7848360" cy="52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105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9933"/>
                </a:solidFill>
                <a:latin typeface="Arial"/>
              </a:rPr>
              <a:t>Ewer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819520" y="990720"/>
            <a:ext cx="350496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3059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TEENTH-CENTURY TABLE MAN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one should take food before the blessing has been mad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 should he take a place other than that assigned to him by the one in charge of the me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rain from eating until the dishes have been placed before you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let your fingers be clean, and your fingernails well-groom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e a morsel has been touched, let it not be returned to the pl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touch your ears or nose with your bare ha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clean your teeth with a sharp iron while ea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alt is not to be touched with the food where it sits in the salt di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can, I ask again, refrain from belching at the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that it is forbidden to put your elbow on the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ordered by regulation that you should not put a dish to your mou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who wishes to drink must first finish what is in his mout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let his lip be wiped fir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 can I avoid mentioning that he should not gnaw a bone with his teeth.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e the table is cleared, wash your hands, and have a drin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Jeffrey L. Singman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aily Life in Medieval Europ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Westport, Conn.: Greenwood Press, 1999), p. 13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3352680" cy="2521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038480" y="3200400"/>
            <a:ext cx="449604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9440" y="757080"/>
            <a:ext cx="8925120" cy="53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4648320" cy="3485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105520" y="1981080"/>
            <a:ext cx="318924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3755880" cy="4648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343400" y="2895480"/>
            <a:ext cx="4495680" cy="36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235400" cy="5638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952880" y="838080"/>
            <a:ext cx="3679920" cy="49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6T22:03:34Z</dcterms:created>
  <dc:creator>Katie Yoder</dc:creator>
  <dc:description/>
  <dc:language>en-US</dc:language>
  <cp:lastModifiedBy>Katie Yoder</cp:lastModifiedBy>
  <dcterms:modified xsi:type="dcterms:W3CDTF">2009-09-30T00:13:46Z</dcterms:modified>
  <cp:revision>8</cp:revision>
  <dc:subject/>
  <dc:title>Slide 1</dc:title>
</cp:coreProperties>
</file>