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9B47-E0F6-47DB-83A1-6A0C130A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3E37-804E-4DE2-9F94-3DAA010C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A01B-935C-4BA4-BE93-48488C82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7EA2-AF2A-46F6-89DF-9C2DB3991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748D-85AF-4F19-99DE-F4DA730A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1402-08CB-420D-A1D6-6B44B718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25E5-CD85-4755-A1C8-EEBAB59E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FB71-FA4E-42AF-8079-C71F5CBC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2E9A-482B-4739-97D7-8ECBBEA3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6930-6724-45D3-A291-053F9B11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4CBE-37D0-4F26-A809-279803D9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EA0D-33B1-497E-B082-CA064258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B648-D1C4-4758-AF91-99CAE8EB9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1219320"/>
            <a:ext cx="7086600" cy="274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cc66"/>
                    </a:gs>
                  </a:gsLst>
                  <a:lin ang="5400000"/>
                </a:gradFill>
                <a:latin typeface="Bauhaus 93"/>
              </a:rPr>
              <a:t>Medieval Food</a:t>
            </a:r>
            <a:endParaRPr b="0" lang="en-US" sz="80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cc66"/>
                  </a:gs>
                </a:gsLst>
                <a:lin ang="5400000"/>
              </a:gradFill>
              <a:latin typeface="Bauhaus 93"/>
              <a:ea typeface="Bauhaus 93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3581280"/>
            <a:ext cx="4191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Katie Yoder and Cheryl H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233E-6708-4E0D-AAF5-52E66291516B}" type="datetime3">
              <a:rPr b="0" lang="en-US" sz="2800" spc="-1" strike="noStrike">
                <a:solidFill>
                  <a:srgbClr val="ffcc66"/>
                </a:solidFill>
                <a:latin typeface="Arial"/>
              </a:rPr>
              <a:t>July 30, 20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10080" y="3429000"/>
            <a:ext cx="266724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035600" cy="6172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419720" y="2209680"/>
            <a:ext cx="4343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 rot="20859000">
            <a:off x="152280" y="152280"/>
            <a:ext cx="6477120" cy="3562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rot="786000">
            <a:off x="5029200" y="1981080"/>
            <a:ext cx="3828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6476760" cy="2193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643480" cy="1979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648320" y="3200400"/>
            <a:ext cx="320040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84836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9933"/>
                </a:solidFill>
                <a:latin typeface="Arial"/>
              </a:rPr>
              <a:t>Ew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819520" y="990720"/>
            <a:ext cx="35049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TEENTH-CENTURY TABLE MAN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ne should take food before the blessing has been ma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 should he take a place other than that assigned to him by the one in charge of the m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rain from eating until the dishes have been placed before yo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et your fingers be clean, and your fingernails well-groo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a morsel has been touched, let it not be returned to the 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touch your ears or nose with your bare h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lean your teeth with a sharp iron while ea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lt is not to be touched with the food where it sits in the salt d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can, I ask again, refrain from belching at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at it is forbidden to put your elbow on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ordered by regulation that you should not put a dish to your mou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ho wishes to drink must first finish what is in his mou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et his lip be wiped fi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 can I avoid mentioning that he should not gnaw a bone with his teeth.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the table is cleared, wash your hands, and have a dr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Jeffrey L. Singman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ily Life in Medieval Euro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estport, Conn.: Greenwood Press, 1999), p. 13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352680" cy="2521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44960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9440" y="757080"/>
            <a:ext cx="8925120" cy="53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648320" cy="3485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05520" y="1981080"/>
            <a:ext cx="318924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755880" cy="4648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343400" y="2895480"/>
            <a:ext cx="449568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235400" cy="5638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952880" y="838080"/>
            <a:ext cx="367992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22:03:34Z</dcterms:created>
  <dc:creator>Katie Yoder</dc:creator>
  <dc:description/>
  <dc:language>en-US</dc:language>
  <cp:lastModifiedBy>Katie Yoder</cp:lastModifiedBy>
  <dcterms:modified xsi:type="dcterms:W3CDTF">2009-09-30T00:13:46Z</dcterms:modified>
  <cp:revision>8</cp:revision>
  <dc:subject/>
  <dc:title>Slide 1</dc:title>
</cp:coreProperties>
</file>