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EE9-AB87-426C-9510-D050B150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455-6278-49D3-B1FD-E81B5DDF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954-376C-4B00-94EB-19003606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995-9A28-47E8-A927-1C285857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1A1A-FABE-45E4-A5F1-A9C8117F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EE26-57AD-4540-B6E1-51DE5508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35DE-4AF5-4794-B7C8-8BB9A44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3B5B-83ED-4880-ACF0-3E851FB1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79EA-4538-46A2-BAC7-D3638B7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E2EB-9814-4E14-B83C-A080BFDA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9B27-B414-43B7-84F3-C4FF0629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65B-9587-4AB6-94F8-117CF29D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CC81-11F8-4ED7-AD36-5E6BCBD1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A09F-7C60-4F7D-B7D2-CAD6AD63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7D0F-DD12-4F29-BD8C-CF18479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CE4D-2713-4245-93A6-AE185B78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BCED-C0C4-4923-B5EB-D64A9F50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484-129C-4AC8-9F0E-EDB4B674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D2B-FE7A-4F61-AFE5-F2CB054D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934-F35C-49F9-93C5-1205E3F6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D0B-3D65-4BD1-BAD7-9647CC33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12A-A351-4284-AAFB-B75ABA53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ADA-AF8E-4673-9D9F-2C825125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7F2-05BF-44B4-A3CF-8CBED5B1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E5D8-5A68-465B-AC76-F96037F0D5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20B0-6A95-4CA8-98A2-69A467D9E5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 &amp; 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: Chris Pet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ty; me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little value or import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ve-cent pie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hing of very little value; a trif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threw away a little picayunish wrapper that I found ,but little did I know that it was actually the winning lottery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31904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00800" y="228600"/>
            <a:ext cx="25146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or characterized by taking pains or trouble; expending or showing diligent care and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and diligent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ith painstaking precision the Blue Angels finished their intricate aerial performance with a loop and a sonic bo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3160" y="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05720" y="49528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28800" y="5457960"/>
            <a:ext cx="1866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8:14:39Z</dcterms:created>
  <dc:creator>Chris Petrus</dc:creator>
  <dc:description/>
  <dc:language>en-US</dc:language>
  <cp:lastModifiedBy>Chris Petrus</cp:lastModifiedBy>
  <dcterms:modified xsi:type="dcterms:W3CDTF">2010-01-16T19:16:02Z</dcterms:modified>
  <cp:revision>2</cp:revision>
  <dc:subject/>
  <dc:title>Picayunish &amp; Painstakingly</dc:title>
</cp:coreProperties>
</file>