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EFFB-7CDE-46A2-A27D-86F58FAF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134-86D0-4D74-83D6-6FDCFABB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C4A3-F1E4-478E-9E85-25FE3C98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492-255F-4D9A-825C-34CDE268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913C-B6A4-4110-A4FC-10902C78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68DC-3998-4696-9D13-5C64CD55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DEF8-A3B4-4524-BEFD-E29DE1BF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AF55-CF66-4099-BACA-D3082016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59AB-F701-4D56-A868-6FD5B0C1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B071-BDBF-4ADD-96C8-474449CD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D09E-B662-42E0-9375-AE07151E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66B6-7F61-4DB5-87A4-7D6D1D22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AB31-552C-4BFB-895F-08A40208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BC81-4C45-462E-B063-4B531F59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10D2-6E04-4BA7-AF6A-72E5C8AE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F959-4D6A-4AAD-A91F-543528A8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0BCF-8170-43E2-8A8E-C6713795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53D-5CF0-4E2D-B400-AD1D34C9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53B-02B2-4E74-BBBF-94B0036F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2F49-601D-4960-AD8A-7BA98407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4DB8-0F56-4DCE-BAF1-14F45DBE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6E4-AEC3-4553-BF9C-C866D214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E39-395D-4F6F-A25D-99A993E3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DB75-D681-484F-AD58-716FB5FD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AC5D-1766-410B-9F6D-7CCAF91F27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2559-E9FB-4C15-A95B-63D7177CD6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cayunish &amp; Painstaking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9880" y="571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: Chris Petr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cayunis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tty; me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little value or import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ve-cent pie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hing of very little value; a trif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threw away a little picayunish wrapper that I found ,but little did I know that it was actually the winning lottery tick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5257800"/>
            <a:ext cx="1319040" cy="1322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400800" y="228600"/>
            <a:ext cx="25146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instaking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73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ing or characterized by taking pains or trouble; expending or showing diligent care and eff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eful and diligent eff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ith painstaking precision the Blue Angels finished their intricate aerial performance with a loop and a sonic bo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3160" y="0"/>
            <a:ext cx="1320840" cy="198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705720" y="495288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828800" y="5457960"/>
            <a:ext cx="18669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8:14:39Z</dcterms:created>
  <dc:creator>Chris Petrus</dc:creator>
  <dc:description/>
  <dc:language>en-US</dc:language>
  <cp:lastModifiedBy>Chris Petrus</cp:lastModifiedBy>
  <dcterms:modified xsi:type="dcterms:W3CDTF">2010-01-16T19:16:02Z</dcterms:modified>
  <cp:revision>2</cp:revision>
  <dc:subject/>
  <dc:title>Picayunish &amp; Painstakingly</dc:title>
</cp:coreProperties>
</file>