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5D6-0F1B-4B93-B458-C3C6B194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935-1507-4368-9E5C-88897FAC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23A-0EEB-4699-BF40-EAC04E7A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2C3-C1BF-439C-8F5F-0BA2478C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F135-8596-4A06-8B6A-33F032D9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DCD5-7064-4BC8-A4E7-0EB3F706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5908-3826-464D-B99D-314E01E6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0641-8E37-486E-ACD5-F661121B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1847-FB2C-42A6-A8F5-48570149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C9FD-85FE-4417-B7A5-B0A2FC61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4C33-5551-443C-A84E-282AB75A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C40-2D27-4F63-A4D2-8179FE86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A89B-1CDD-4F9B-89B6-F3483BB4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B476-E646-4E74-9679-6E8DB6E5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21FF-349E-49EF-8FC6-96245E71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22A1-EA20-4B12-9912-349FB50E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4E18-E25A-4CD9-94D0-94D6863E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730-2C9F-44AF-A074-1E4A5E08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E63-4B85-4EC2-AF5E-53E320DF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591-8369-465B-B492-D63827ED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D25-FCBA-46B6-91D1-68254EE2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90E-D38F-423B-876E-4E4B6ED0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C02-0B6A-4C78-A1BE-03EFB96B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34A-2B37-498F-8C89-FD0E5F9A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AED0-A3B1-4478-9064-B453C6C156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B1E8-C338-4D76-887B-4483D86465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ayunish &amp; Painstaking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988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: Chris Petr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ayun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tty; me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little value or import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ve-cent pie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hing of very little value; a trif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threw away a little picayunish wrapper that I found ,but little did I know that it was actually the winning lottery ti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319040" cy="1322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00800" y="228600"/>
            <a:ext cx="25146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instaking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ing or characterized by taking pains or trouble; expending or showing diligent care and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and diligent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ith painstaking precision the Blue Angels finished their intricate aerial performance with a loop and a sonic bo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3160" y="0"/>
            <a:ext cx="132084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05720" y="49528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828800" y="5457960"/>
            <a:ext cx="1866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8:14:39Z</dcterms:created>
  <dc:creator>Chris Petrus</dc:creator>
  <dc:description/>
  <dc:language>en-US</dc:language>
  <cp:lastModifiedBy>Chris Petrus</cp:lastModifiedBy>
  <dcterms:modified xsi:type="dcterms:W3CDTF">2010-01-16T19:16:02Z</dcterms:modified>
  <cp:revision>2</cp:revision>
  <dc:subject/>
  <dc:title>Picayunish &amp; Painstakingly</dc:title>
</cp:coreProperties>
</file>