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61A-938D-4A50-B597-968E9157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74A-587A-4DF5-A12B-9CEB54B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9A9-C146-4A6F-A799-69304452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9A8-EE51-4B08-BB4D-B4CD660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36E2-F1B2-46FF-BE5D-3A1D450C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B104-BFEF-4547-8D1E-87E6CF0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0E61-4BD6-4141-846D-A1BDAE18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7F16-EB4F-438E-9989-515CAC6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726-1C73-4E17-8901-DCFFB36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109-FED4-4CB8-BD7A-2914F55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76E-7738-4D46-8C16-46110F7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56B-F2AA-4EA6-8F60-6D2D09E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0643-93D4-47AC-86F1-3AB636F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C229-A4C2-42AA-9F4F-C7B983A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30C5-A224-4C8C-9B60-15D321E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11E9-8E20-4A47-B4DB-46739704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C424-B58C-4AE4-8E09-40299319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595-FF56-4D3B-BDAD-22C8A41B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BC0-A129-4132-930B-CE3133E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A09-A1D4-426C-BE2A-3C4645D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013-80C4-4AD8-8093-9754A35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931-A1F9-4A46-B6E3-0F484A2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4C7-FF26-4296-BF00-958466B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2D2-1BD6-4AB5-B809-3B8755B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5EC-D8B2-48A3-8A2A-313678523A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81F4-D1D4-4576-8312-6753112FE8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 &amp; 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Chris Pet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ayun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ty; me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ttle value or import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ve-cent pie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of very little value; a trif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threw away a little picayunish wrapper that I found ,but little did I know that it was actually the winning lottery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31904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514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instaking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or characterized by taking pains or trouble; expending or showing diligent care and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nd dilig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 painstaking precision the Blue Angels finished their intricate aerial performance with a loop and a sonic b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3160" y="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9528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28800" y="5457960"/>
            <a:ext cx="1866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14:39Z</dcterms:created>
  <dc:creator>Chris Petrus</dc:creator>
  <dc:description/>
  <dc:language>en-US</dc:language>
  <cp:lastModifiedBy>Chris Petrus</cp:lastModifiedBy>
  <dcterms:modified xsi:type="dcterms:W3CDTF">2010-01-16T19:16:02Z</dcterms:modified>
  <cp:revision>2</cp:revision>
  <dc:subject/>
  <dc:title>Picayunish &amp; Painstakingly</dc:title>
</cp:coreProperties>
</file>