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31B-353D-45D3-B2EE-89AFE9B6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756-B0D6-4292-8E34-8D13A5DC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CB5-F544-48E2-BA60-E86EBCDD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A7D-B1F4-4055-8DCC-F716A5C9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8B98-55BB-4A4D-94EB-B61021DF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085A-B678-48AC-961E-48408C07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8DB1-5F14-4EB0-852D-F1DCB221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9BC7-4190-476F-A58F-B9DFDAC9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32B3-6510-4E45-9DA6-5A40D76A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137B-60B8-4554-A9C6-B66303F2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202B-8AD3-46AD-A60B-8E52E8D2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723-1FF5-4B02-9338-0A06B3EF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F7E1-1C18-4E77-B3FD-710B1901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C364-E9C0-4673-B26E-59383E59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22B6-6BAB-4DF5-A7BD-3F85A32A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534D-6E33-4010-9533-ABE3FC6A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44D8-C0F0-4AA6-92BB-11C8937A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9CF-D149-4687-B4AB-094D501E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E42-1FBD-4D53-9547-274E65FA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7FC-86B7-464B-A4BD-FF643A68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DC9-2E5E-4F4B-B96E-39B50129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61F-2736-425D-BE4C-3ADFAC75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3BD-8E33-47CE-8E3A-F06B4EC9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0C8-430C-427A-BE50-DE76BD5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3254-D161-4F4A-BC2D-778801A00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4513-C450-40CF-96C8-EFC501A134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191120" y="1599840"/>
            <a:ext cx="3962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Bell MT"/>
              </a:rPr>
              <a:t>placat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Bell MT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Bell MT"/>
              </a:rPr>
              <a:t>verb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; to appease or pacify, especially through concessions or conciliatory gestur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1994040" cy="1994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4191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Example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The airline attempted to </a:t>
            </a:r>
            <a:r>
              <a:rPr b="1" lang="en-US" sz="2900" spc="-1" strike="noStrike">
                <a:solidFill>
                  <a:srgbClr val="ffffff"/>
                </a:solidFill>
                <a:latin typeface="Bell MT"/>
              </a:rPr>
              <a:t>placate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 it’s irritated costumers by offering free drink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0:40:24Z</dcterms:created>
  <dc:creator>Christine/Wilson</dc:creator>
  <dc:description/>
  <dc:language>en-US</dc:language>
  <cp:lastModifiedBy>Christine/Wilson</cp:lastModifiedBy>
  <dcterms:modified xsi:type="dcterms:W3CDTF">2010-01-19T10:52:39Z</dcterms:modified>
  <cp:revision>1</cp:revision>
  <dc:subject/>
  <dc:title>PowerPoint Presentation</dc:title>
</cp:coreProperties>
</file>