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DF9-A227-45E1-93D3-B815A77E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138-7EBB-433F-B9C1-BCE3866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DC8-0046-4DD7-998B-BC9D18E1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DFD-CBA9-44AC-8B30-C2195509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DC32-EB80-40F0-9E18-3DE0E29C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15A-A383-4CC0-8318-7CAA3B3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16D5-712C-4B1E-80B0-C6682689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BC40-9BFE-493F-8CB5-1678944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5953-080E-4C74-ACED-B3F88C5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1CCD-FE17-469F-A79F-5DD57F17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C777-194A-4B46-A53C-A2B17C3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CA2-E527-4650-BF2E-C49177E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0FB-484E-4916-B9A2-A9D12E3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8592-9507-4D9F-9F68-E8215B8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D53-64D6-4903-A0DF-1A1138B8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F2CD-E115-43D2-9190-7B4F6B78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5BA8-A6B5-4555-B0FD-A36C0A9B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CB0-1541-4ED4-82B1-0B60347F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5B1-743D-495F-B560-7E68612C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9B4-D429-4833-907A-A793E079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F5F-0886-42E0-8361-53E0FF2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600-6289-4604-A991-C6DD7264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221-98D0-4D46-97CA-F707386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6EE-AAD9-4A49-A7E6-F678B72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175-7F1A-48C0-8A8B-A58C2A462D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6275-B4E0-4D7D-B772-C73594DB4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91120" y="159984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verb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; to appease or pacify, especially through concessions or conciliatory gestur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1994040" cy="199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Example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The airline attempted to </a:t>
            </a: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e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 it’s irritated costumers by offering free drink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0:40:24Z</dcterms:created>
  <dc:creator>Christine/Wilson</dc:creator>
  <dc:description/>
  <dc:language>en-US</dc:language>
  <cp:lastModifiedBy>Christine/Wilson</cp:lastModifiedBy>
  <dcterms:modified xsi:type="dcterms:W3CDTF">2010-01-19T10:52:39Z</dcterms:modified>
  <cp:revision>1</cp:revision>
  <dc:subject/>
  <dc:title>PowerPoint Presentation</dc:title>
</cp:coreProperties>
</file>