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7CFD-4DCB-468C-A110-0075BBEEB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38390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1887-28C6-454A-87D2-F8B2E7D0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340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704B-7144-4CDE-9DA1-34B7C2321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832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28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832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28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F39E-8687-46AD-982E-173D1B603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C2AA-388E-402A-A8D4-F6AB14C31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98A1C-9E6E-48FA-A580-786FF1B3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77A0-5235-4122-A33A-91909713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0F50-5BE5-463B-8B2E-5CCC3A0D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6146C-3F33-4EFE-A0F3-D7C0788B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5438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FD22-680A-43C1-B8A4-3B82A41B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4B09-77F1-41A3-827F-4E66B07B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9E42-65AB-4FA6-BE64-16A3B3A4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340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968A-1E13-447E-BCB1-07E5FD95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C050-7EB8-4C68-9C2D-021EBC44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37720" y="38390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7EFE-EDF1-4F77-8AEF-1A63B685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0340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E888A-086F-49A1-B2E3-E24872490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8832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928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3772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8832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928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53D4A-2B34-42DA-A839-8D5815A0C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84D8-7FF4-482A-98AC-99994044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74CB-CECE-467F-B4D7-32049F9A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FF23-9B17-4954-8815-4C66E771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5438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BB6D-6140-40F0-BC13-D3F10928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11C6-74D4-4234-9AA2-99CC4943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340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9D17-8B2C-4602-9D17-F99A7A5E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4A2D-A12A-4679-931C-906AC5CB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67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E00D-3C65-4722-9F98-7A44D6449B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98108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3bdb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C8FF-3FB7-4116-8602-F5952EC753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191120" y="1599840"/>
            <a:ext cx="39621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Bell MT"/>
              </a:rPr>
              <a:t>placating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ffff"/>
                </a:solidFill>
                <a:latin typeface="Bell MT"/>
              </a:rPr>
              <a:t>	</a:t>
            </a:r>
            <a:r>
              <a:rPr b="0" i="1" lang="en-US" sz="2900" spc="-1" strike="noStrike">
                <a:solidFill>
                  <a:srgbClr val="ffffff"/>
                </a:solidFill>
                <a:latin typeface="Bell MT"/>
              </a:rPr>
              <a:t>verb</a:t>
            </a:r>
            <a:r>
              <a:rPr b="0" lang="en-US" sz="2900" spc="-1" strike="noStrike">
                <a:solidFill>
                  <a:srgbClr val="ffffff"/>
                </a:solidFill>
                <a:latin typeface="Bell MT"/>
              </a:rPr>
              <a:t>; to appease or pacify, especially through concessions or conciliatory gesture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600200" y="1752480"/>
            <a:ext cx="1994040" cy="19940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14400" y="4191120"/>
            <a:ext cx="73915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ll MT"/>
              </a:rPr>
              <a:t>Example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ll M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ll MT"/>
              </a:rPr>
              <a:t>The airline attempted to </a:t>
            </a:r>
            <a:r>
              <a:rPr b="1" lang="en-US" sz="2900" spc="-1" strike="noStrike">
                <a:solidFill>
                  <a:srgbClr val="ffffff"/>
                </a:solidFill>
                <a:latin typeface="Bell MT"/>
              </a:rPr>
              <a:t>placate</a:t>
            </a:r>
            <a:r>
              <a:rPr b="0" lang="en-US" sz="2900" spc="-1" strike="noStrike">
                <a:solidFill>
                  <a:srgbClr val="ffffff"/>
                </a:solidFill>
                <a:latin typeface="Bell MT"/>
              </a:rPr>
              <a:t> it’s irritated costumers by offering free drink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10:40:24Z</dcterms:created>
  <dc:creator>Christine/Wilson</dc:creator>
  <dc:description/>
  <dc:language>en-US</dc:language>
  <cp:lastModifiedBy>Christine/Wilson</cp:lastModifiedBy>
  <dcterms:modified xsi:type="dcterms:W3CDTF">2010-01-19T10:52:39Z</dcterms:modified>
  <cp:revision>1</cp:revision>
  <dc:subject/>
  <dc:title>PowerPoint Presentation</dc:title>
</cp:coreProperties>
</file>