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0F4A-66F5-48CE-A3FF-28A4D80D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ECD-2FB1-47D2-8215-5D287B9C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D7A-06B1-401E-80C7-C6397237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0CB-8211-437A-ABE2-5B040F91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C272-2854-46AB-92ED-57480B70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65ED-5A7E-4497-A533-1A801E27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797F-AF06-44D7-9C3C-A82EF5C3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AFD4-250C-4BC3-8EA4-644B82C8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F290-469A-4D21-852F-4DA726AF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6207-DA2F-42B3-BA99-874DA3DC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3925-BFB8-4338-8C2D-3DA7B3F9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D80-94C4-45AB-B522-8795E22B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B871-17D1-47B5-8C30-30E379C2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9FD5-262D-45C5-ABCF-7F540AD4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9C41-3007-47AA-9E34-98994DA7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A4EE-72BE-4BB7-A571-05EDA5E8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FFE1-1EE4-456C-B9B2-0175B920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E01-E49A-4DBF-AD2E-8B32EC2C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FCB-400A-40F5-B671-A038CF91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405-AAA8-4CC2-8E88-08D2FD93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04CD-5426-45D7-B6C0-D96C8CFE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632-978F-4C82-87FF-3DF87764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8181-7858-439E-B854-7F468264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603-EAF2-41BB-A751-5856A41E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8606-A3BF-46B4-B605-1DFAF9FC1C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F06B-AF37-407D-9FA4-9C6355B7F3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191120" y="1599840"/>
            <a:ext cx="3962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Bell MT"/>
              </a:rPr>
              <a:t>placat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Bell MT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Bell MT"/>
              </a:rPr>
              <a:t>verb</a:t>
            </a:r>
            <a:r>
              <a:rPr b="0" lang="en-US" sz="2900" spc="-1" strike="noStrike">
                <a:solidFill>
                  <a:srgbClr val="ffffff"/>
                </a:solidFill>
                <a:latin typeface="Bell MT"/>
              </a:rPr>
              <a:t>; to appease or pacify, especially through concessions or conciliatory gestur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1994040" cy="1994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4191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ll MT"/>
              </a:rPr>
              <a:t>Example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ll M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ll MT"/>
              </a:rPr>
              <a:t>The airline attempted to </a:t>
            </a:r>
            <a:r>
              <a:rPr b="1" lang="en-US" sz="2900" spc="-1" strike="noStrike">
                <a:solidFill>
                  <a:srgbClr val="ffffff"/>
                </a:solidFill>
                <a:latin typeface="Bell MT"/>
              </a:rPr>
              <a:t>placate</a:t>
            </a:r>
            <a:r>
              <a:rPr b="0" lang="en-US" sz="2900" spc="-1" strike="noStrike">
                <a:solidFill>
                  <a:srgbClr val="ffffff"/>
                </a:solidFill>
                <a:latin typeface="Bell MT"/>
              </a:rPr>
              <a:t> it’s irritated costumers by offering free drink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0:40:24Z</dcterms:created>
  <dc:creator>Christine/Wilson</dc:creator>
  <dc:description/>
  <dc:language>en-US</dc:language>
  <cp:lastModifiedBy>Christine/Wilson</cp:lastModifiedBy>
  <dcterms:modified xsi:type="dcterms:W3CDTF">2010-01-19T10:52:39Z</dcterms:modified>
  <cp:revision>1</cp:revision>
  <dc:subject/>
  <dc:title>PowerPoint Presentation</dc:title>
</cp:coreProperties>
</file>