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D027-7A1D-43AF-B033-55EC2D056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DB36-2DB7-4511-938C-16C46C320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849B-6278-424D-9DC9-6F2833DC4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E1D9-8122-4B72-A422-B93C4C98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5E1-C152-4F3D-A279-94337F0A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12D3-DF3B-4615-8D17-5E2CD846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4DE-C6CE-42CA-8C7B-D84D6577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F6D-63E8-4AF9-8156-1311A81B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58E-5240-4B67-8934-F193C6E5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97EC-6E0E-4664-9B15-E9D9C907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567-ED8C-489C-A2EE-7C5C0A0E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77E-BD58-4B99-B0D4-F1501379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BF2-4330-4CCA-8E4F-6701419A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F36-F73D-48DD-B727-D7485B29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3C18-B500-4F77-821A-A43F260C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ACFF-5787-4EEB-8A10-069843995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an Ma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articu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articulate-Adj.-lacking the ability to express oneself, esp. in clear and effective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ecause the pig was inarticulate, no one could understand him.</a:t>
            </a:r>
            <a:r>
              <a:rPr b="0" i="1" lang="en-US" sz="2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Looney-Tunes---Porky-Pig--C11754811"/>
          <p:cNvPicPr/>
          <p:nvPr/>
        </p:nvPicPr>
        <p:blipFill>
          <a:blip r:embed="rId1"/>
          <a:stretch/>
        </p:blipFill>
        <p:spPr>
          <a:xfrm>
            <a:off x="5943600" y="304920"/>
            <a:ext cx="27147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20:59:45Z</dcterms:created>
  <dc:creator>Shripal Makim</dc:creator>
  <dc:description/>
  <dc:language>en-US</dc:language>
  <cp:lastModifiedBy>GACS</cp:lastModifiedBy>
  <dcterms:modified xsi:type="dcterms:W3CDTF">2010-01-20T19:41:33Z</dcterms:modified>
  <cp:revision>5</cp:revision>
  <dc:subject/>
  <dc:title>Vocab word</dc:title>
</cp:coreProperties>
</file>