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4AB8-0BBF-4FC4-BB3E-49813BBED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F74D-3CD3-4583-AE46-F393C6CB4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9308-0A8D-4112-B574-9B7715429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F364-1CDD-4030-9E6E-442DD02D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0362-E96B-499D-872D-F55F2C7A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8135-9657-4C6F-A211-D38A1E0B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5B0B-78B4-492E-8605-83E0F4DF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8410-0E21-48E9-BC51-D15719B6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B6CC-212A-4C8D-9E48-7E61830F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B2C5-EA0D-47D6-8835-8B23BEF1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4361-282A-4DB6-B627-A4660C1F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1F44-3CB6-4E68-80C0-C5926298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7B3F-F56A-4D08-8FC6-415DE83E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608E-385A-4F19-935C-B09EC680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940C-7807-473A-95AF-C2656EAC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9C89-B384-475F-B0DC-E1EB31F26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an Mak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articu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articulate-Adj.-lacking the ability to express oneself, esp. in clear and effective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ecause the pig was inarticulate, no one could understand him.</a:t>
            </a:r>
            <a:r>
              <a:rPr b="0" i="1" lang="en-US" sz="28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Looney-Tunes---Porky-Pig--C11754811"/>
          <p:cNvPicPr/>
          <p:nvPr/>
        </p:nvPicPr>
        <p:blipFill>
          <a:blip r:embed="rId1"/>
          <a:stretch/>
        </p:blipFill>
        <p:spPr>
          <a:xfrm>
            <a:off x="5943600" y="304920"/>
            <a:ext cx="27147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20:59:45Z</dcterms:created>
  <dc:creator>Shripal Makim</dc:creator>
  <dc:description/>
  <dc:language>en-US</dc:language>
  <cp:lastModifiedBy>GACS</cp:lastModifiedBy>
  <dcterms:modified xsi:type="dcterms:W3CDTF">2010-01-20T19:41:33Z</dcterms:modified>
  <cp:revision>5</cp:revision>
  <dc:subject/>
  <dc:title>Vocab word</dc:title>
</cp:coreProperties>
</file>