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254-262A-4F76-B33E-AB6C8100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183-CF8B-401B-AA85-7F0483795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EC8-28E3-45D8-AE48-5D73A469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6F5-D24B-4002-82F9-D07EC8C4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ECA-ABEC-4DBF-B96A-164FDA7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E1F-B60A-4108-83C3-53CBEDDB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51A-8669-4D65-9087-BC64AD2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55C-BAAE-4DF3-A247-784686C7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32F-ACB7-45CA-92B8-6AED142C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AFD-56F4-4F9F-8AA4-C3E728D7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6BB-1255-4789-A4F4-AB28CF9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A9A-2B99-4D5B-A447-FAC438C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C62-E05A-4047-B137-C5485019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F84-FFC8-4A79-B3B1-08410D7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134-FD21-456F-838A-A2B51EE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927-A72D-4A7C-8790-B8BD96AD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n Ma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articulate-Adj.-lacking the ability to express oneself, esp. in clear and effectiv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cause the pig was inarticulate, no one could understand him.</a:t>
            </a:r>
            <a:r>
              <a:rPr b="0" i="1" lang="en-US" sz="2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oney-Tunes---Porky-Pig--C11754811"/>
          <p:cNvPicPr/>
          <p:nvPr/>
        </p:nvPicPr>
        <p:blipFill>
          <a:blip r:embed="rId1"/>
          <a:stretch/>
        </p:blipFill>
        <p:spPr>
          <a:xfrm>
            <a:off x="5943600" y="304920"/>
            <a:ext cx="2714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0:59:45Z</dcterms:created>
  <dc:creator>Shripal Makim</dc:creator>
  <dc:description/>
  <dc:language>en-US</dc:language>
  <cp:lastModifiedBy>GACS</cp:lastModifiedBy>
  <dcterms:modified xsi:type="dcterms:W3CDTF">2010-01-20T19:41:33Z</dcterms:modified>
  <cp:revision>5</cp:revision>
  <dc:subject/>
  <dc:title>Vocab word</dc:title>
</cp:coreProperties>
</file>