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DA0-C494-42DF-B198-E7CAFB7A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78B2-AC35-4CBB-A548-C25C24A8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AB58-AFF9-4FE6-9F0E-B0CDA1AC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C3B-894C-45E2-B9B8-2719F10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4AC-E21D-4BBB-A13E-A6C2EB2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38D-FF66-4331-ACFD-126F2D09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790-C386-495A-8BA5-C7BBA3D8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4CA-A8C5-4203-801B-ED4F021D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ABF-EA65-490F-B0D3-57DEBE9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2EE-A2E2-4F8C-A248-E9CC808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19E-76D3-4FBB-870E-7FAA40C5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9D5-2DE0-4A20-B52B-7148618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77A-72E8-4B11-AE21-57696BA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72D-D0D1-4DBC-9B8E-DCCD4FB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57B-8D34-42B6-846C-81EC204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9D05-D200-4DA9-9BA3-B377EB8B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articulate-Adj.-lacking the ability to express oneself, esp. in clear and effec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cause the pig was inarticulate, no one could understand him.</a:t>
            </a:r>
            <a:r>
              <a:rPr b="0" i="1" lang="en-US" sz="2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oney-Tunes---Porky-Pig--C11754811"/>
          <p:cNvPicPr/>
          <p:nvPr/>
        </p:nvPicPr>
        <p:blipFill>
          <a:blip r:embed="rId1"/>
          <a:stretch/>
        </p:blipFill>
        <p:spPr>
          <a:xfrm>
            <a:off x="5943600" y="304920"/>
            <a:ext cx="2714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59:45Z</dcterms:created>
  <dc:creator>Shripal Makim</dc:creator>
  <dc:description/>
  <dc:language>en-US</dc:language>
  <cp:lastModifiedBy>GACS</cp:lastModifiedBy>
  <dcterms:modified xsi:type="dcterms:W3CDTF">2010-01-20T19:41:33Z</dcterms:modified>
  <cp:revision>5</cp:revision>
  <dc:subject/>
  <dc:title>Vocab word</dc:title>
</cp:coreProperties>
</file>