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98A-DFA9-4DAA-8946-CFE11D05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738-FE2E-4E0D-A954-4CFD7C9D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96E-65AD-4C82-96E5-B1B88D54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C5E-5E2A-4DE9-9622-0D5E7C40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BAA-CE1D-4329-B5BF-D331BAB5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15B-EC68-4566-864D-DE412B60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528-CB0F-4C46-BB1D-61DE47D1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D09-3127-4DF6-A9F8-3F662F42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A38-779C-456C-BCF2-1BF289BC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6C7-5F6A-4C68-A6C9-D329764C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D4D-3411-421F-AC90-22A1A0EC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455-7D6C-4B2A-8885-97277437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D053-56D7-4A68-9467-15FC70084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Punishment/Torture in the 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By: Braxton P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vQest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65480" cy="480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378480" y="2819520"/>
            <a:ext cx="2765520" cy="4038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505320" y="2743200"/>
            <a:ext cx="241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Ord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Ordeals were simple ways to test whether an oath-taker was telling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Accused would offer an oath then be tested phys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It was believed that God would intervene and decide whether the accused was guilty or inno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Ord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 two main types of ordeals were by cold water and hot i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 hot irons ordeal was used mainly for those of higher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 cold water ordeal was used more for those of commo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orture was sometimes used to get the accused to admit to a 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 court would display torture devices to scare the accused and if that failed, they went on to to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A person of any social class could be tor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orture was eventually improved to more mechanic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If the accused confessed, then he was given a day’s rest and asked to repeat the con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Other reasons for torture were to intimidate, convince someone to change views on a subject, revenge, execution, or to pu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Most common use was for a tortur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Built by William the Conqueror after the Battle of Ha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Many places inside the tower were named such as: The Bloody Tower, The Devereux Tower, and ‘Little Eas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Pun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re were four main levels of punish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Qes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Qest"/>
              </a:rPr>
              <a:t>Church punishment (allowed accused to remain in commun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Qes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Qest"/>
              </a:rPr>
              <a:t>Disgrace (lowered accused social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Qes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Qest"/>
              </a:rPr>
              <a:t>Mutilations (marked accused as dead within community) or actual ban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Qes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Qest"/>
              </a:rPr>
              <a:t>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Pun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Imprisonment wasn’t used often and when it was, it was to get money or property from the accused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Bodily punishments such as mutilations, branding and flogging were more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Fines and church punishments were also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2139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2819520" cy="240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819520" y="2209680"/>
            <a:ext cx="3828960" cy="2409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581880" y="0"/>
            <a:ext cx="2562120" cy="3048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715080" y="3886200"/>
            <a:ext cx="242892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752480" y="4610160"/>
            <a:ext cx="4191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0:57:38Z</dcterms:created>
  <dc:creator>Braxton Pugh</dc:creator>
  <dc:description/>
  <dc:language>en-US</dc:language>
  <cp:lastModifiedBy>Braxton Pugh</cp:lastModifiedBy>
  <dcterms:modified xsi:type="dcterms:W3CDTF">2009-09-28T02:55:36Z</dcterms:modified>
  <cp:revision>3</cp:revision>
  <dc:subject/>
  <dc:title>Punishment/Torture in the Middle Ages</dc:title>
</cp:coreProperties>
</file>