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jpeg" ContentType="image/jpeg"/>
  <Override PartName="/ppt/media/image7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7019925" cy="93059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A667D-5CFF-4289-A5DC-BDDB5A19A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021D0-C897-4001-A9E8-0B96BFE22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A9B3C-D4E8-4CBE-8C84-22486F60C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523B6-BE26-4939-AE94-745D3681F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DCABA-1F14-45EC-A187-9EE9BDFEB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BE9F9-B06F-491C-8CA2-6F2C28776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699E6-707F-4A23-9365-31A4417A1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D85CA-FA0C-4124-BC87-10C530D10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DAE5E-EE0F-4937-A550-5329C9D90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39F4F-A696-47F0-969B-3B7696BF3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F0CD5-D3F7-448B-8FCC-3BF3984E6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ED57C-56B0-4A77-AC80-7881D74EE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D653B-1EA0-457C-87C2-742B0AC5E7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vQest"/>
              </a:rPr>
              <a:t>Punishment/Torture in the Middle A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vQest"/>
              </a:rPr>
              <a:t>By: Braxton Pu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vQest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vQest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AvQest"/>
              </a:rPr>
              <a:t> Peri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165480" cy="48006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5486400" y="0"/>
            <a:ext cx="3657600" cy="24382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6378480" y="2819520"/>
            <a:ext cx="2765520" cy="40384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3505320" y="2743200"/>
            <a:ext cx="24112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vQest"/>
              </a:rPr>
              <a:t>Orde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vQes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vQest"/>
              </a:rPr>
              <a:t>Ordeals were simple ways to test whether an oath-taker was telling the tru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vQes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vQest"/>
              </a:rPr>
              <a:t>Accused would offer an oath then be tested physic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vQes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vQest"/>
              </a:rPr>
              <a:t>It was believed that God would intervene and decide whether the accused was guilty or innoc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vQest"/>
              </a:rPr>
              <a:t>Orde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vQes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vQest"/>
              </a:rPr>
              <a:t>The two main types of ordeals were by cold water and hot ir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vQes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vQest"/>
              </a:rPr>
              <a:t>The hot irons ordeal was used mainly for those of higher stat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vQes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vQest"/>
              </a:rPr>
              <a:t>The cold water ordeal was used more for those of common stat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vQest"/>
              </a:rPr>
              <a:t>Tor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vQes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vQest"/>
              </a:rPr>
              <a:t>Torture was sometimes used to get the accused to admit to a cr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vQes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vQest"/>
              </a:rPr>
              <a:t>The court would display torture devices to scare the accused and if that failed, they went on to tor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vQes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vQest"/>
              </a:rPr>
              <a:t>A person of any social class could be tortu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vQest"/>
              </a:rPr>
              <a:t>Tor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vQes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vQest"/>
              </a:rPr>
              <a:t>Torture was eventually improved to more mechanical fo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vQes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vQest"/>
              </a:rPr>
              <a:t>If the accused confessed, then he was given a day’s rest and asked to repeat the conf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vQes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vQest"/>
              </a:rPr>
              <a:t>Other reasons for torture were to intimidate, convince someone to change views on a subject, revenge, execution, or to puni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vQest"/>
              </a:rPr>
              <a:t>Tower of Lond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vQes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vQest"/>
              </a:rPr>
              <a:t>Most common use was for a torture cen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vQes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vQest"/>
              </a:rPr>
              <a:t>Built by William the Conqueror after the Battle of Has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vQes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vQest"/>
              </a:rPr>
              <a:t>Many places inside the tower were named such as: The Bloody Tower, The Devereux Tower, and ‘Little Ease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vQest"/>
              </a:rPr>
              <a:t>Punish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vQes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vQest"/>
              </a:rPr>
              <a:t>There were four main levels of punishmen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vQes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vQest"/>
              </a:rPr>
              <a:t>Church punishment (allowed accused to remain in communit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vQes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vQest"/>
              </a:rPr>
              <a:t>Disgrace (lowered accused social statu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vQes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vQest"/>
              </a:rPr>
              <a:t>Mutilations (marked accused as dead within community) or actual banish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vQes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vQest"/>
              </a:rPr>
              <a:t>Dea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vQest"/>
              </a:rPr>
              <a:t>Punish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vQes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vQest"/>
              </a:rPr>
              <a:t>Imprisonment wasn’t used often and when it was, it was to get money or property from the accused fami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vQes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vQest"/>
              </a:rPr>
              <a:t>Bodily punishments such as mutilations, branding and flogging were more popul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vQes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vQest"/>
              </a:rPr>
              <a:t>Fines and church punishments were also popul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029200" cy="21398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0" y="2133720"/>
            <a:ext cx="2819520" cy="24048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2819520" y="2209680"/>
            <a:ext cx="3828960" cy="24098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4"/>
          <a:stretch/>
        </p:blipFill>
        <p:spPr>
          <a:xfrm>
            <a:off x="6581880" y="0"/>
            <a:ext cx="2562120" cy="30481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5"/>
          <a:stretch/>
        </p:blipFill>
        <p:spPr>
          <a:xfrm>
            <a:off x="6715080" y="3886200"/>
            <a:ext cx="2428920" cy="29718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6"/>
          <a:stretch/>
        </p:blipFill>
        <p:spPr>
          <a:xfrm>
            <a:off x="1752480" y="4610160"/>
            <a:ext cx="4191120" cy="22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8T00:57:38Z</dcterms:created>
  <dc:creator>Braxton Pugh</dc:creator>
  <dc:description/>
  <dc:language>en-US</dc:language>
  <cp:lastModifiedBy>Braxton Pugh</cp:lastModifiedBy>
  <dcterms:modified xsi:type="dcterms:W3CDTF">2009-09-28T02:55:36Z</dcterms:modified>
  <cp:revision>3</cp:revision>
  <dc:subject/>
  <dc:title>Punishment/Torture in the Middle Ages</dc:title>
</cp:coreProperties>
</file>