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B4E-9AEB-4987-88AB-EA7ADD9A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0CF-E0F9-4762-A54F-525CB60F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9B2-3B83-4465-977E-3BEB7142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EA7-D964-4CB5-978E-0EA4BBDD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7C3-7AB7-44AE-A1D6-D168C021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97F-92C8-42AB-B8BF-7CFFAC65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D62-8D35-4D14-8464-E653C68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570-9E99-4170-ADD4-5B884D67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7CA-2B53-4A58-A21B-9163C27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289-F35C-4934-87F8-D3AAABA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46C-D74A-4BDC-8DED-6B390C31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C5A-B50E-4B28-B63C-40A5340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2D65-556E-4F08-BB29-C66671B50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/Torture in the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y: Braxton P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vQes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548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78480" y="2819520"/>
            <a:ext cx="2765520" cy="40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05320" y="2743200"/>
            <a:ext cx="241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rdeals were simple ways to test whether an oath-taker was telling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ccused would offer an oath then be tested phys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t was believed that God would intervene and decide whether the accused was guilty or 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two main types of ordeals were by cold water and hot i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hot irons ordeal was used mainly for those of high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ld water ordeal was used more for those of commo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sometimes used to get the accused to admit to a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urt would display torture devices to scare the accused and if that failed, they went on to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 person of any social class could be tor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eventually improved to more mechanic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f the accused confessed, then he was given a day’s rest and asked to repeat the 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ther reasons for torture were to intimidate, convince someone to change views on a subject, revenge, execution, or to pu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ost common use was for a tortur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uilt by William the Conqueror after the Battle of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any places inside the tower were named such as: The Bloody Tower, The Devereux Tower, and ‘Little Eas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re were four main levels of punish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Church punishment (allowed accused to remain in comm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isgrace (lowered accused social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Mutilations (marked accused as dead within community) or actual ba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mprisonment wasn’t used often and when it was, it was to get money or property from the accused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odily punishments such as mutilations, branding and flogging wer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Fines and church punishments were also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213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240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828960" cy="24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581880" y="0"/>
            <a:ext cx="256212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15080" y="3886200"/>
            <a:ext cx="24289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75248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0:57:38Z</dcterms:created>
  <dc:creator>Braxton Pugh</dc:creator>
  <dc:description/>
  <dc:language>en-US</dc:language>
  <cp:lastModifiedBy>Braxton Pugh</cp:lastModifiedBy>
  <dcterms:modified xsi:type="dcterms:W3CDTF">2009-09-28T02:55:36Z</dcterms:modified>
  <cp:revision>3</cp:revision>
  <dc:subject/>
  <dc:title>Punishment/Torture in the Middle Ages</dc:title>
</cp:coreProperties>
</file>