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B59-0460-489E-8079-315E0BB6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CC6-121B-4315-AFFD-D8193041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C3B-2531-4485-8AB9-063885E3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542-C805-4EB1-9DBE-D80E7036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5A8-62FA-4B5E-A550-A1D8B8A6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156-D0ED-4B2E-BF56-E521060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2EA-8E73-4DBA-8862-4C4746F4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8E1-71BA-49F8-8619-6F69AE9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FE1-4429-4112-84F2-6D385B4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057-0A8F-4B7D-ACF4-A798307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E1F-2FE5-4781-976F-1CEEFAA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43D-1F59-4CB4-B888-D9B01A6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9ACF-7195-4885-A636-924C8FD5F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/Torture in th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y: Braxton P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vQes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78480" y="2819520"/>
            <a:ext cx="2765520" cy="40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2743200"/>
            <a:ext cx="241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rdeals were simple ways to test whether an oath-taker was telling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ccused would offer an oath then be tested phys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t was believed that God would intervene and decide whether the accused was guilty or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Or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two main types of ordeals were by cold water and hot i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hot irons ordeal was used mainly for those of high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ld water ordeal was used more for those of comm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sometimes used to get the accused to admit to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 court would display torture devices to scare the accused and if that failed, they went on to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A person of any social class could be tor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orture was eventually improved to more mechan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f the accused confessed, then he was given a day’s rest and asked to repeat the 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Other reasons for torture were to intimidate, convince someone to change views on a subject, revenge, execution, or to pu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ost common use was for a tortur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uilt by William the Conqueror after 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Many places inside the tower were named such as: The Bloody Tower, The Devereux Tower, and ‘Little Eas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There were four main levels of punish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Church punishment (allowed accused to remain in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isgrace (lowered accused social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Mutilations (marked accused as dead within community) or actual ba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Qes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Qest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Qest"/>
              </a:rPr>
              <a:t>Pun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Imprisonment wasn’t used often and when it was, it was to get money or property from the accuse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Bodily punishments such as mutilations, branding and flogging wer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Qe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Qest"/>
              </a:rPr>
              <a:t>Fines and church punishments were also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213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240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82896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581880" y="0"/>
            <a:ext cx="256212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15080" y="3886200"/>
            <a:ext cx="24289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75248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0:57:38Z</dcterms:created>
  <dc:creator>Braxton Pugh</dc:creator>
  <dc:description/>
  <dc:language>en-US</dc:language>
  <cp:lastModifiedBy>Braxton Pugh</cp:lastModifiedBy>
  <dcterms:modified xsi:type="dcterms:W3CDTF">2009-09-28T02:55:36Z</dcterms:modified>
  <cp:revision>3</cp:revision>
  <dc:subject/>
  <dc:title>Punishment/Torture in the Middle Ages</dc:title>
</cp:coreProperties>
</file>