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0BCA-81B0-41A9-8811-8125FA998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5E47-01C4-41AF-9900-E7B93085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B355-8325-434B-870C-8A1005DCC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5F4E-3CAA-4F62-B55F-B182554DC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2704-FBFA-4853-875D-868B33744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3EC8-C5FA-4797-BE6F-0627E3D5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D526-B29F-4751-9693-6FCCDD48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9DB5-3D0F-4A35-89D0-5163509A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22CE-D8F1-49F0-8BF1-20B3F27C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6495-12AA-4B54-8CDF-B6F9EC5A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2EFA-DD0C-4A31-A77F-11F97814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B733-68CD-476B-86D5-1BE1020C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C532-B5C6-4823-BE41-C36A4BCE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9952-7DCA-4E68-A6B8-25F89FBB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CFAB-A064-4E83-BC43-E618B549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4970-6CF3-41E2-BADF-809901379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493C-FEEA-48C1-8C07-D5EFF76DE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6C05-FCDB-4DFE-BF43-9847962C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2118-B077-4BD1-94B0-5100A902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F3D4-6A28-4452-8C0C-4E22D194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B9AC-A60E-44EA-94C8-F64FCC50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A118-A016-4CA6-AE2A-E7C34CBA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488C-37E1-4083-8EE1-8FB49417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720A-1EE6-42BD-908D-79F42495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2A13-5C7B-444D-AFEF-C18BD0338F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252F-A31A-4444-87CA-F52170A5A7B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Wittenberg_Schlosskirche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Lutherrose.svg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Matura MT Script Capitals"/>
              </a:rPr>
              <a:t>Religions and Superstition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647960" y="601956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Matthew Simpson and Monique Singh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2</a:t>
            </a:r>
            <a:r>
              <a:rPr b="0" lang="en-US" sz="1600" spc="-1" strike="noStrike" baseline="30000">
                <a:solidFill>
                  <a:srgbClr val="ffffff"/>
                </a:solidFill>
                <a:latin typeface="Rockwell"/>
              </a:rPr>
              <a:t>nd</a:t>
            </a: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 peri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2743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Protestant Reform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Martin Luth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isagreeing with other relig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95 The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eople accepted his belie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34120" y="1828800"/>
            <a:ext cx="2867040" cy="37339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105520" y="5943600"/>
            <a:ext cx="3124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voiceofthesheep.wordpress.com/2007/10/04/did-luther-nail-or-mail-his-95-theses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Reasons for Reform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dulg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urga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acra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0574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572000" y="624852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en.wikipedia.org/wiki/All_Saints%27_Church,_Wittenbe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After Effec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4114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till exists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ied on faith al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2362320"/>
            <a:ext cx="3124080" cy="3124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095880" y="6095880"/>
            <a:ext cx="27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en.wikipedia.org/wiki/Luther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Matura MT Script Capitals"/>
              </a:rPr>
              <a:t>Judaism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Beginnings and New Identit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t first wel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rst Crus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New pract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095800" y="2151000"/>
            <a:ext cx="3143160" cy="3429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952880" y="5791320"/>
            <a:ext cx="4191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www.historyforkids.org/learn/religion/jews/middleages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Later Problem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ading Support from the monarc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ght against heres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e Black De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686480" y="1600200"/>
            <a:ext cx="3962160" cy="45306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724280" y="6324480"/>
            <a:ext cx="418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dancutlermedicalart.com/AlbertEinstein'sZionism/01EinsteinBeforeZionism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2971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Isla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uhamma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Gabri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Koran (Qur’a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4647960" cy="3492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0" y="5943600"/>
            <a:ext cx="358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www.humanityquest.com/themes/inspiration/Paintings/Arabic/index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ligion Continue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igion exists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inued to spread after Muhammad’s de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257800" y="1295280"/>
            <a:ext cx="3400560" cy="47628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181480" y="6019920"/>
            <a:ext cx="3505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ttp://atheism.about.com/od/prophetmuhammadofislam/ig/Muhammad-Drawings-Pictures/Muhammad-Teaching-About-Islam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4066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Matura MT Script Capitals"/>
              </a:rPr>
              <a:t>Catholicism 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Matura MT Script Capitals"/>
              </a:rPr>
              <a:t>Superstition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Monst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4038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Vampi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Incubi and Succub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48320" y="1720800"/>
            <a:ext cx="4038480" cy="42894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323320" y="6172200"/>
            <a:ext cx="27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www.zainescu.com/_romania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Sal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62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Meanings of sa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Evil’s of sa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alt can bring lu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Reversing bad lu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289480" y="1676520"/>
            <a:ext cx="3284640" cy="38098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410080" y="5791320"/>
            <a:ext cx="3048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www.virginmedia.com/homefamily/house/superstitions.php?ssid=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Alchem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4038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Reasons for its popula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Doctr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257800" y="2008080"/>
            <a:ext cx="2819520" cy="37148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486400" y="5867280"/>
            <a:ext cx="3270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www.channel4.com/science/microsites/S/spellbinder/images/alchemy-symbols.gi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Clov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62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eliefs of lu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ove-div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-leaf clo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257800" y="1600200"/>
            <a:ext cx="3409920" cy="33908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715000" y="5791320"/>
            <a:ext cx="281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www.eotr.com/4_Leaf_Clover_p_757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Ca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38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Reasons for the superst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Modern superst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3571920" cy="42865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800600" y="6248520"/>
            <a:ext cx="3952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imagecache2.allposters.com/images/pic/IMC/P5882~Big-White-Cat-Small-Black-Cat-Posters.jp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Horsesho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91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orseshoes are considered lucky in some pl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an be found in the middle of the str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029200" y="1752480"/>
            <a:ext cx="3809880" cy="30225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105520" y="5410080"/>
            <a:ext cx="373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www.horsekeeping.com/hoof_care_and_lameness/good_shoeing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Walking Under Ladd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Gall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oly Tri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ays to reverse lu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190760" cy="34113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029200" y="5715000"/>
            <a:ext cx="358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www.old-picture.com/civil-war/Gallows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Mirro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1981080"/>
            <a:ext cx="36576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" y="1752480"/>
            <a:ext cx="3886200" cy="26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irrors can cause bad lu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an reverse lu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809880" cy="25909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952880" y="5181480"/>
            <a:ext cx="373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nagfa.blogspot.com/2008/06/nac-march-2008-nastybasty-mirror-mirror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Witchcraf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91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Not all women were acc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wo different types of wit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5562720"/>
            <a:ext cx="274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atheism.about.com/od/christianityviolence/ig/Christian-Persecution-Witches/Witches-Hanging-Burning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876920" y="1295280"/>
            <a:ext cx="4267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Matura MT Script Capitals"/>
              </a:rPr>
              <a:t>Beginnings of the Holy Roman Empir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King Clovis and the first dynas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all of the first dynasty and Charlemag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e crowning of the first holy Roman Emp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783400" y="1905120"/>
            <a:ext cx="1768320" cy="3919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915440" y="5942880"/>
            <a:ext cx="347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www.homeofourfathers.com/.../charlemagn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The First Div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038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Eastern Roman Emp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 new chu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rmal sepa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114800" y="2279520"/>
            <a:ext cx="4724280" cy="2770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104440" y="5257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www.thelatinlibrary.com/imperialism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Crusad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384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Good  Beginn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Ulterior mo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762440" y="2374920"/>
            <a:ext cx="3810240" cy="29811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029200" y="563868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www.burningcross.net/crusades/christian-missionary-atrocities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Flourishing Churc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40384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wo new 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Liter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Univers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48320" y="2227320"/>
            <a:ext cx="4038480" cy="3276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639680" y="5638680"/>
            <a:ext cx="398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www.starlight-tower.com/Divine_Comedy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Declining Churc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onflict with the royal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Divided Cardi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Pope Clement 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Babylonian Captivity and its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479920" y="1960560"/>
            <a:ext cx="2374920" cy="3809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105520" y="6248520"/>
            <a:ext cx="386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www.avignon-et-provence.com/avignon-tourism/popes-avignon/pope-clement-v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The Great Schis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talian Mob during vo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leeing of the Avignon Cardinals and the second p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ouncil at Pisa and third p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mperor’s 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The Black Deat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40388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Death of many pri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ppointment of unqualified pri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762440" y="1960560"/>
            <a:ext cx="3810240" cy="38098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339800" y="5943600"/>
            <a:ext cx="483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history.howstuffworks.com/middle-ages/black-death1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02:41:34Z</dcterms:created>
  <dc:creator>Authorized Simpson Brick User</dc:creator>
  <dc:description/>
  <dc:language>en-US</dc:language>
  <cp:lastModifiedBy>Rishi Singhal</cp:lastModifiedBy>
  <dcterms:modified xsi:type="dcterms:W3CDTF">2008-11-18T02:18:22Z</dcterms:modified>
  <cp:revision>11</cp:revision>
  <dc:subject/>
  <dc:title>Religion and Superstition</dc:title>
</cp:coreProperties>
</file>