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A5F-CBED-4E7F-9A7A-BE3CC26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EE7-1C9F-4684-AF7C-6A265751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001-7CAF-4833-9DB5-AA073085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F02-2F7D-407B-9178-771F313E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1AFD-6317-4D18-8F7E-4F00A024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D973-B78E-4A3B-898E-12FB676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A23E-2249-4835-9E47-26E73C0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F4F-C901-47A8-8A3E-30BD58C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5BF-A45F-4393-8DDC-C12BE8B8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F94-5056-4FB0-A7E4-F2FA2E2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35A8-3C80-4DCC-B7ED-149A35F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CD0-C579-431A-B896-B84A157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6C2-A2BC-4E1C-A370-503AD53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FEE4-6B8E-4985-8DA9-EBC058F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065-4772-4637-81AD-6BA0D7F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0FE-B598-4C91-A867-F90E91E3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355-0AD4-4FAB-B277-41B8CCE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859-CC01-4E3D-8CC1-B04E15D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D58-CE7C-4514-8627-599225C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3B4-AAD4-49D8-8029-8C06F285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543-EBEB-44CE-AEA0-7BBA25F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F5F-F881-4C2A-B12D-DD3F1C7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67-A91E-4879-AD2B-B9D4890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438-95B1-409F-91F7-88D8A27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1816-557A-4E4B-8BB7-A60998A723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6AA-BA2D-4880-9400-41F565805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ittenberg_Schlosskirch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utherros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Religions and 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47960" y="6019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tthew Simpson and Monique Singh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Rockwell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 peri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Protestant Re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artin Lu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greeing with other reli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5 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ople accepted hi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86704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5943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voiceofthesheep.wordpress.com/2007/10/04/did-luther-nail-or-mail-his-95-these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Reasons for Refor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rg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cr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6248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All_Saints%27_Church,_Witte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fter Effe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d on faith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5880" y="60958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Luther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Juda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Beginnings and New Ident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 first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ew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95800" y="215100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791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istoryforkids.org/learn/religion/jews/middleage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Later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ding Support from the mon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ght against her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Black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6480" y="1600200"/>
            <a:ext cx="396216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6324480"/>
            <a:ext cx="418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dancutlermedicalart.com/AlbertEinstein'sZionism/01EinsteinBeforeZionis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Isl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b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ran (Qur’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349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59436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umanityquest.com/themes/inspiration/Paintings/Arabic/index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spread after Muhammad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40056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81480" y="60199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atheism.about.com/od/prophetmuhammadofislam/ig/Muhammad-Drawings-Pictures/Muhammad-Teaching-About-Isla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Catholicism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ons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a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ubi and Succub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20800"/>
            <a:ext cx="4038480" cy="428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23320" y="617220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zainescu.com/_romania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Sa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eaning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vil’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alt can bring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versing bad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89480" y="1676520"/>
            <a:ext cx="32846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57913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virginmedia.com/homefamily/house/superstitions.php?ssid=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lch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its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20080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86400" y="5867280"/>
            <a:ext cx="32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channel4.com/science/microsites/S/spellbinder/images/alchemy-symbols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lo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liefs of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ve-div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-leaf c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09920" cy="33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15000" y="57913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eotr.com/4_Leaf_Clover_p_757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the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odern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71920" cy="4286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0600" y="6248520"/>
            <a:ext cx="395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imagecache2.allposters.com/images/pic/IMC/P5882~Big-White-Cat-Small-Black-Cat-Posters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Horsesho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rseshoes are considered lucky in some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be found in the middle of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05520" y="5410080"/>
            <a:ext cx="373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orsekeeping.com/hoof_care_and_lameness/good_shoe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alking Under Ladd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ly Tr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ys to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41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29200" y="5715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old-picture.com/civil-war/Gallow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i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3657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752480"/>
            <a:ext cx="38862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rrors can cause 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52880" y="5181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gfa.blogspot.com/2008/06/nac-march-2008-nastybasty-mirror-mirror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itch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all women w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different types of 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56272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atheism.about.com/od/christianityviolence/ig/Christian-Persecution-Witches/Witches-Hanging-Burn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atura MT Script Capitals"/>
              </a:rPr>
              <a:t>Beginnings of the Holy Roman Emp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ing Clovis and the first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ll of the first dynasty and Charlemag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crowning of the first holy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05120"/>
            <a:ext cx="1768320" cy="391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5440" y="594288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www.homeofourfathers.com/.../charlemag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First 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stern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new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m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279520"/>
            <a:ext cx="4724280" cy="277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4440" y="5257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thelatinlibrary.com/imperialis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rusa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ood  Beg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lterior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2440" y="2374920"/>
            <a:ext cx="381024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29200" y="5638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burningcross.net/crusades/christian-missionary-atrocitie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Flourish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wo new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39680" y="5638680"/>
            <a:ext cx="39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starlight-tower.com/Divine_Comedy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Declin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nflict with the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vided Card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pe Clement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abylonian Captivity and its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79920" y="1960560"/>
            <a:ext cx="237492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6248520"/>
            <a:ext cx="38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vignon-et-provence.com/avignon-tourism/popes-avignon/pope-clement-v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Great Schi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alian Mob during v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ing of the Avignon Cardinals and the secon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ncil at Pisa and thir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peror’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Black De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ath of many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ppointment of unqualified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440" y="196056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9800" y="59436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history.howstuffworks.com/middle-ages/black-death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41:34Z</dcterms:created>
  <dc:creator>Authorized Simpson Brick User</dc:creator>
  <dc:description/>
  <dc:language>en-US</dc:language>
  <cp:lastModifiedBy>Rishi Singhal</cp:lastModifiedBy>
  <dcterms:modified xsi:type="dcterms:W3CDTF">2008-11-18T02:18:22Z</dcterms:modified>
  <cp:revision>11</cp:revision>
  <dc:subject/>
  <dc:title>Religion and Superstition</dc:title>
</cp:coreProperties>
</file>