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710-8AC8-4C12-9667-3B3F065D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265-38B4-4106-B625-EF32C53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BA7-573B-4F85-B6EB-A463F381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884-71D5-440A-ABED-B36BEA9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E804-C67E-41DA-B448-8769CF92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9E94-578F-406A-AFB4-1F4E6A6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F8CD-5E8F-43C7-BF82-E235BD0C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1C0-5046-4AB2-B50D-70C5904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FAD-3EE5-4372-B812-7ECA020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AF42-F473-4506-9A4C-13990DEC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419-D0A3-43F9-A9BB-36D109C4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1F1-EB28-4D76-B8AF-0D42761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FD3-5E74-4E1A-A0CF-94E9683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8356-E034-4FF8-84F1-4144C8D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676-7E6C-4D3D-B097-01A7680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44A4-26E3-4082-B6FF-650CC457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9FF2-C8C7-4D66-BD6F-6A11468C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684-0505-41D8-AC51-DD568A15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886-2C34-4501-92EF-2D62E14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20B-DAC4-4C8B-8151-37DDC39A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E1E-8D7A-4F29-BA72-A0B8DA1A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04B-7562-4F74-A422-A897413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A59-1870-4B23-9A49-540DFB0B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43-B382-400B-977E-19206E4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DF0-8080-418C-B48A-AB3B93BC6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906-BD1F-444C-BE96-2A25DA7E86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ittenberg_Schlosskirch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utherros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Religions and 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47960" y="6019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tthew Simpson and Monique Singh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Rockwell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 peri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Protestant Re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artin Lu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greeing with other reli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5 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ople accepted hi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86704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5520" y="5943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voiceofthesheep.wordpress.com/2007/10/04/did-luther-nail-or-mail-his-95-theses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Reasons for Refor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rg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cr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6248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All_Saints%27_Church,_Witte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fter Effe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d on faith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5880" y="60958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en.wikipedia.org/wiki/Luther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Juda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Beginnings and New Ident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 first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ew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95800" y="215100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791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istoryforkids.org/learn/religion/jews/middleage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Later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ding Support from the mon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ght against her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Black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6480" y="1600200"/>
            <a:ext cx="396216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6324480"/>
            <a:ext cx="418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dancutlermedicalart.com/AlbertEinstein'sZionism/01EinsteinBeforeZionis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Isl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b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ran (Qur’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349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59436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umanityquest.com/themes/inspiration/Paintings/Arabic/index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exist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spread after Muhammad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40056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81480" y="60199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atheism.about.com/od/prophetmuhammadofislam/ig/Muhammad-Drawings-Pictures/Muhammad-Teaching-About-Islam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Catholicism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atura MT Script Capitals"/>
              </a:rPr>
              <a:t>Superst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ons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a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ubi and Succub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20800"/>
            <a:ext cx="4038480" cy="428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23320" y="617220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zainescu.com/_romania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Sa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eaning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vil’s of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alt can bring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versing bad 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89480" y="1676520"/>
            <a:ext cx="32846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57913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virginmedia.com/homefamily/house/superstitions.php?ssid=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Alche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its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2008080"/>
            <a:ext cx="2819520" cy="371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86400" y="5867280"/>
            <a:ext cx="32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channel4.com/science/microsites/S/spellbinder/images/alchemy-symbols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lo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liefs of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ve-div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-leaf c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09920" cy="33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15000" y="57913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eotr.com/4_Leaf_Clover_p_757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asons for the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odern superst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71920" cy="4286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0600" y="6248520"/>
            <a:ext cx="395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imagecache2.allposters.com/images/pic/IMC/P5882~Big-White-Cat-Small-Black-Cat-Posters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Horsesho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rseshoes are considered lucky in some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be found in the middle of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02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05520" y="5410080"/>
            <a:ext cx="373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horsekeeping.com/hoof_care_and_lameness/good_shoe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alking Under Ladd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ly Tr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ays to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41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29200" y="5715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old-picture.com/civil-war/Gallow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Mirr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3657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752480"/>
            <a:ext cx="38862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rrors can cause 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n reverse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52880" y="51814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gfa.blogspot.com/2008/06/nac-march-2008-nastybasty-mirror-mirror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Witch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 all women w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different types of 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56272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atheism.about.com/od/christianityviolence/ig/Christian-Persecution-Witches/Witches-Hanging-Burn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atura MT Script Capitals"/>
              </a:rPr>
              <a:t>Beginnings of the Holy Roman Emp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ing Clovis and the first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all of the first dynasty and Charlemag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crowning of the first holy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05120"/>
            <a:ext cx="1768320" cy="391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5440" y="594288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www.homeofourfathers.com/.../charlemag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First 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stern Rom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new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mal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279520"/>
            <a:ext cx="4724280" cy="277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4440" y="5257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thelatinlibrary.com/imperialis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Crusa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ood  Begin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lterior mo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2440" y="2374920"/>
            <a:ext cx="381024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29200" y="56386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burningcross.net/crusades/christian-missionary-atrocitie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Flourish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wo new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39680" y="5638680"/>
            <a:ext cx="39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starlight-tower.com/Divine_Comedy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Declining Churc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nflict with the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vided Card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pe Clement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abylonian Captivity and its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79920" y="1960560"/>
            <a:ext cx="237492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6248520"/>
            <a:ext cx="38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vignon-et-provence.com/avignon-tourism/popes-avignon/pope-clement-v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Great Schi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alian Mob during v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ing of the Avignon Cardinals and the secon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ncil at Pisa and third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peror’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atura MT Script Capitals"/>
              </a:rPr>
              <a:t>The Black De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ath of many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ppointment of unqualified pri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440" y="196056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9800" y="59436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history.howstuffworks.com/middle-ages/black-death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2:41:34Z</dcterms:created>
  <dc:creator>Authorized Simpson Brick User</dc:creator>
  <dc:description/>
  <dc:language>en-US</dc:language>
  <cp:lastModifiedBy>Rishi Singhal</cp:lastModifiedBy>
  <dcterms:modified xsi:type="dcterms:W3CDTF">2008-11-18T02:18:22Z</dcterms:modified>
  <cp:revision>11</cp:revision>
  <dc:subject/>
  <dc:title>Religion and Superstition</dc:title>
</cp:coreProperties>
</file>