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956-3963-4759-8DF1-7104DBDF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AB8-6FEF-48B4-AD7F-E7CE4152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E0A-BCC6-4EE8-9C9C-1DD39218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05F-78E5-4FBC-BA19-C018D90F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CB3F-FD6E-42EC-AC96-DBB424F0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CD3E-A484-4F32-BD55-13F3D195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D930-C071-409E-8CAC-EE7B930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49C3-70E9-44AF-B941-69984194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FCBE-9325-497B-B7E0-042339D3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363-7A38-40B4-9BCE-AB59398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8808-904D-418B-8BE2-43C8DF1E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A9F-F26F-4B3C-8610-93EB65BE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351-5A53-4B93-8BA9-B58758D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65EE-F2A6-492F-B621-3DFB11E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DB36-7F80-4D7B-8589-AE62593F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304-B2CF-4121-86CF-7A5C78BF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482D-D337-49D8-A498-7F36AFF5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F15-AC23-4AA3-B3AE-FF3AEA9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30A-1366-4AAD-B63E-49943EA4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B88-BE1E-48F3-A855-DE55820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E78-1DD3-4D59-B639-F6D8BB2A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728-C117-4F07-95CE-B352B20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0B0-06B2-403C-AE8E-967F20B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4CA-A285-4EDE-8C1B-5CE3E16C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B60E-8182-4E50-820F-DF819EDCD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8AE-62E6-4F9B-87D9-E82FC5FEC2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ittenberg_Schlosskirch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utherrose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Religions and 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47960" y="6019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tthew Simpson and Monique Singh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Rockwell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 peri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Protestant Refor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artin Lu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greeing with other reli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95 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ople accepted his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86704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5520" y="5943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voiceofthesheep.wordpress.com/2007/10/04/did-luther-nail-or-mail-his-95-theses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Reasons for Refor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rg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acr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057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6248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All_Saints%27_Church,_Wittenbe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fter Effe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ll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d on faith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5880" y="60958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Luther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Juda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Beginnings and New Ident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t first wel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rst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ew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95800" y="2151000"/>
            <a:ext cx="314316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5791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istoryforkids.org/learn/religion/jews/middleage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Later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ding Support from the mon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ght against her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Black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6480" y="1600200"/>
            <a:ext cx="396216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24280" y="6324480"/>
            <a:ext cx="418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dancutlermedicalart.com/AlbertEinstein'sZionism/01EinsteinBeforeZionis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Isl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hamm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br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oran (Qur’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349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0" y="59436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umanityquest.com/themes/inspiration/Paintings/Arabic/index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spread after Muhammad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40056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81480" y="60199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atheism.about.com/od/prophetmuhammadofislam/ig/Muhammad-Drawings-Pictures/Muhammad-Teaching-About-Isla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Catholicism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ons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Vamp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ubi and Succub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20800"/>
            <a:ext cx="4038480" cy="428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23320" y="6172200"/>
            <a:ext cx="27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zainescu.com/_romania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Sal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eaning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vil’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alt can bring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versing bad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89480" y="1676520"/>
            <a:ext cx="32846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10080" y="57913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virginmedia.com/homefamily/house/superstitions.php?ssid=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lche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its popu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oct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57800" y="2008080"/>
            <a:ext cx="2819520" cy="3714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86400" y="5867280"/>
            <a:ext cx="32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channel4.com/science/microsites/S/spellbinder/images/alchemy-symbols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lo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liefs of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ve-div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-leaf cl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09920" cy="33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15000" y="57913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eotr.com/4_Leaf_Clover_p_757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a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the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odern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71920" cy="4286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0600" y="6248520"/>
            <a:ext cx="395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imagecache2.allposters.com/images/pic/IMC/P5882~Big-White-Cat-Small-Black-Cat-Posters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Horsesho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rseshoes are considered lucky in some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be found in the middle of the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02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05520" y="5410080"/>
            <a:ext cx="373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orsekeeping.com/hoof_care_and_lameness/good_shoe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alking Under Ladd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ly Tr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ays to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341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29200" y="57150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old-picture.com/civil-war/Gallow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i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81080"/>
            <a:ext cx="3657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752480"/>
            <a:ext cx="38862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rrors can cause 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52880" y="51814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nagfa.blogspot.com/2008/06/nac-march-2008-nastybasty-mirror-mirror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itchcraf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all women w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o different types of 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56272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atheism.about.com/od/christianityviolence/ig/Christian-Persecution-Witches/Witches-Hanging-Burn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atura MT Script Capitals"/>
              </a:rPr>
              <a:t>Beginnings of the Holy Roman Empi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King Clovis and the first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ll of the first dynasty and Charlemag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crowning of the first holy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05120"/>
            <a:ext cx="1768320" cy="3919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5440" y="5942880"/>
            <a:ext cx="34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www.homeofourfathers.com/.../charlemag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First Div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astern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new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mal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279520"/>
            <a:ext cx="4724280" cy="2770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4440" y="5257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thelatinlibrary.com/imperialis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rusa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ood  Begin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lterior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62440" y="2374920"/>
            <a:ext cx="381024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29200" y="5638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burningcross.net/crusades/christian-missionary-atrocities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Flourish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wo new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222732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39680" y="5638680"/>
            <a:ext cx="39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starlight-tower.com/Divine_Comedy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Declin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nflict with the r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ivided Card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pe Clement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abylonian Captivity and its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79920" y="1960560"/>
            <a:ext cx="237492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6248520"/>
            <a:ext cx="38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avignon-et-provence.com/avignon-tourism/popes-avignon/pope-clement-v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Great Schi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alian Mob during v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ing of the Avignon Cardinals and the secon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ncil at Pisa and thir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peror’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Black De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ath of many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ppointment of unqualified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440" y="196056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39800" y="5943600"/>
            <a:ext cx="48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history.howstuffworks.com/middle-ages/black-death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41:34Z</dcterms:created>
  <dc:creator>Authorized Simpson Brick User</dc:creator>
  <dc:description/>
  <dc:language>en-US</dc:language>
  <cp:lastModifiedBy>Rishi Singhal</cp:lastModifiedBy>
  <dcterms:modified xsi:type="dcterms:W3CDTF">2008-11-18T02:18:22Z</dcterms:modified>
  <cp:revision>11</cp:revision>
  <dc:subject/>
  <dc:title>Religion and Superstition</dc:title>
</cp:coreProperties>
</file>