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AB1-9FF4-40C6-B4BE-552A126E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DCA7-7F3B-4E45-8898-6D646874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09A6-1A91-474F-8E0F-9B3AB25D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4C0-AE7C-4407-8481-A5CD7B2E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EB1-2021-4B55-8823-014C810A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9A7-31FE-4CD6-8EB2-347B8A2C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31E-AB16-477F-B9CD-748DA95E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144B-0749-45A3-98B4-3523C131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02BA-7760-4303-8A47-868533D9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AFF-5175-4BA4-8E31-201B86F8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1FF-010B-4E66-A648-0DB18A93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AB4-AF05-459C-89B6-C5F600FB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59559-903D-4828-91E0-1D3C9B0DC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lled to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ustin Martin and Bradley Wilki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rry was a banker at Tellson’s bank in England, and he was workaholic and a strict businessm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eventually becomes good friends with the Manet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cie recalls Lorry to life by igniting compassion in his heart and it leads to him being a great help to their fami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own possessions, safety, life, he would hazarded for Lucie and her child, without a moment’s demur…” pg 26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erry Crunc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uncher is another worker at the bank. He is large, but not very smart and is used as Lorry’s bodygu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abuses his wife on occasion because of her praying and is a grave robber by night, to make more money on the 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is recalled to life by his decision torenounce his grave robbing habits to be a regular grave digger, in an attempt to make up for the grave he has dug u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let that father go into the line of reg’lardiggin’, and make amends for he would have un-dug…” (pg 3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Blackoak Std"/>
                <a:ea typeface="Blackoak Std"/>
              </a:rPr>
              <a:t>THE </a:t>
            </a:r>
            <a:br>
              <a:rPr sz="8000"/>
            </a:br>
            <a:r>
              <a:rPr b="0" lang="en-US" sz="8000" spc="-1" strike="noStrike">
                <a:solidFill>
                  <a:srgbClr val="660066"/>
                </a:solidFill>
                <a:latin typeface="Blackoak Std"/>
                <a:ea typeface="Blackoak Std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. Mane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d a life of solitude in prison for 18 years because he knew that the Marquis St. Evremonde raped a woman and was hiding his cr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lost his sanity and previous doctor skills and became fragile;  only knowing his shoe making tools and his ben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4588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ucie recalls him to life by showing him love and compassion and renewing his old love for her, over ti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ly his daughter had the power of charming this black brooding from his mind.” (pg 8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becomes a strong willed man with a fierce passion for what he believes in because of the pass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cie is a beautiful young woman that has never known her father. Lorry summons her to save her father who has been under the care of Def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dedicated to helping her father grow stronger and more like the man he was before he was impriso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recalled to life by Manette because he agrees to let Darnay marry her: like her father, Lucie needed someone to love and care for 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felt that your life should not be wasted…struck aside from the natural order of things–for my sake.” pg 1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rn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rnay is the son of a rich aristocrat from France that moves to England, and rejects his name and inherit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marries Lucie, and hides his true identity from 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5252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rnay is recalled to life by going back to France in order to save his friend Gabelle, even with the high risk of being arres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left all that was dear on earth behind him and floated away for the Loadstone Rock” (pg 24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ton has wasted his life on things that have no substance and is called the Jackal because he does the dirty work for Stryver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past is not described in detail except for the fact that his parents died when he was yo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45252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ton recalls himself to life by sacrificing his own life because of his love for Lucie and for her happiness with Darn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the glorious sun, rising, seemed to strike those words, the burden of the night, straight to his heart in its long bright rays” (pg 32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s walk in the morning makes him see what was on his father’s tombstone about the resurrection and he ultimately decides give his lif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54:58Z</dcterms:created>
  <dc:creator>Bradley Ross Wilkinson</dc:creator>
  <dc:description/>
  <dc:language>en-US</dc:language>
  <cp:lastModifiedBy>EMORY UNIVERSITY</cp:lastModifiedBy>
  <dcterms:modified xsi:type="dcterms:W3CDTF">2010-02-24T03:03:20Z</dcterms:modified>
  <cp:revision>3</cp:revision>
  <dc:subject/>
  <dc:title>Recalled to Life</dc:title>
</cp:coreProperties>
</file>