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6D6-82AE-4CEA-B914-4E67287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46F-BE23-4A66-9211-7F3A340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554-70DF-4167-94CE-CEF1C98C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34F-FD50-457C-9274-0F5F900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F54-5EDE-4895-B79F-A6D0C39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0A3-FB59-40B7-ADBB-8A38CDF9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9CA-BDFE-4143-8382-5845872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AEA-892F-41DF-819C-3302350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448-3330-4213-BD95-554500DE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2ED-E6C8-480C-92C2-4C080FF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A2D-DA42-4626-8F48-D5E6BEF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681-12D3-416C-ABAE-7D4FEE0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F3866-AAED-447C-822F-67562D2C4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ed to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stin Martin and Bradley Wil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ry was a banker at Tellson’s bank in England, and he was workaholic and a strict business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eventually becomes good friends with the Man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recalls Lorry to life by igniting compassion in his heart and it leads to him being a great help to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own possessions, safety, life, he would hazarded for Lucie and her child, without a moment’s demur…” pg 2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ry Crun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ncher is another worker at the bank. He is large, but not very smart and is used as Lorry’s bodygu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buses his wife on occasion because of her praying and is a grave robber by night, to make more money on th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recalled to life by his decision torenounce his grave robbing habits to be a regular grave digger, in an attempt to make up for the grave he has dug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let that father go into the line of reg’lardiggin’, and make amends for he would have un-dug…” (pg 3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THE </a:t>
            </a:r>
            <a:br>
              <a:rPr sz="8000"/>
            </a:br>
            <a:r>
              <a:rPr b="0" lang="en-US" sz="8000" spc="-1" strike="noStrike">
                <a:solidFill>
                  <a:srgbClr val="660066"/>
                </a:solidFill>
                <a:latin typeface="Blackoak Std"/>
                <a:ea typeface="Blackoak Std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. Ma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a life of solitude in prison for 18 years because he knew that the Marquis St. Evremonde raped a woman and was hiding his cr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ost his sanity and previous doctor skills and became fragile;  only knowing his shoe making tools and his ben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4588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ucie recalls him to life by showing him love and compassion and renewing his old love for her,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his daughter had the power of charming this black brooding from his mind.” (pg 8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omes a strong willed man with a fierce passion for what he believes in because of the pas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cie is a beautiful young woman that has never known her father. Lorry summons her to save her father who has been under the care of Def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dedicated to helping her father grow stronger and more like the man he was before he was impriso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recalled to life by Manette because he agrees to let Darnay marry her: like her father, Lucie needed someone to love and care for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elt that your life should not be wasted…struck aside from the natural order of things–for my sake.” pg 1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n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the son of a rich aristocrat from France that moves to England, and rejects his name and inheri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marries Lucie, and hides his true identity from 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nay is recalled to life by going back to France in order to save his friend Gabelle, even with the high risk of being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ft all that was dear on earth behind him and floated away for the Loadstone Rock” (pg 2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ton has wasted his life on things that have no substance and is called the Jackal because he does the dirty work for Stryv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ast is not described in detail except for the fact that his parents died when he was 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2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ton recalls himself to life by sacrificing his own life because of his love for Lucie and for her happiness with Darn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the glorious sun, rising, seemed to strike those words, the burden of the night, straight to his heart in its long bright rays” (pg 32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walk in the morning makes him see what was on his father’s tombstone about the resurrection and he ultimately decides give his lif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54:58Z</dcterms:created>
  <dc:creator>Bradley Ross Wilkinson</dc:creator>
  <dc:description/>
  <dc:language>en-US</dc:language>
  <cp:lastModifiedBy>EMORY UNIVERSITY</cp:lastModifiedBy>
  <dcterms:modified xsi:type="dcterms:W3CDTF">2010-02-24T03:03:20Z</dcterms:modified>
  <cp:revision>3</cp:revision>
  <dc:subject/>
  <dc:title>Recalled to Life</dc:title>
</cp:coreProperties>
</file>