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652-32CC-40EB-8134-E82BCE30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AB33-4743-42D0-8D68-00F5D9D4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68C-CA51-4EF7-ADA8-8160FF90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AE4-E0BA-46FF-BA79-BE5C4B60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1C7-A78E-4D80-BC85-0A97D5DD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FB4-41AD-4764-91D4-DAAA316D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9DC-1282-4764-97D9-FC55C31A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569-1A70-4173-9B7A-E584EC5F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202-FFF7-4237-B777-E75B5CDA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1BA-7E8D-4A54-A4F2-166DFCF5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DE77-671A-4D95-97E2-7FE0D15D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FE4-C7AC-4F0B-B597-B56C8C55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28AFA-B46C-4BAC-8C27-FF3E3C5BF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lled to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stin Martin and Bradley Wilki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rry was a banker at Tellson’s bank in England, and he was workaholic and a strict businessm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eventually becomes good friends with the Manet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cie recalls Lorry to life by igniting compassion in his heart and it leads to him being a great help to their fam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own possessions, safety, life, he would hazarded for Lucie and her child, without a moment’s demur…” pg 2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rry Crunc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ncher is another worker at the bank. He is large, but not very smart and is used as Lorry’s bodygu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abuses his wife on occasion because of her praying and is a grave robber by night, to make more money on the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recalled to life by his decision torenounce his grave robbing habits to be a regular grave digger, in an attempt to make up for the grave he has dug 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let that father go into the line of reg’lardiggin’, and make amends for he would have un-dug…” (pg 3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Blackoak Std"/>
                <a:ea typeface="Blackoak Std"/>
              </a:rPr>
              <a:t>THE </a:t>
            </a:r>
            <a:br>
              <a:rPr sz="8000"/>
            </a:br>
            <a:r>
              <a:rPr b="0" lang="en-US" sz="8000" spc="-1" strike="noStrike">
                <a:solidFill>
                  <a:srgbClr val="660066"/>
                </a:solidFill>
                <a:latin typeface="Blackoak Std"/>
                <a:ea typeface="Blackoak Std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. Mane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d a life of solitude in prison for 18 years because he knew that the Marquis St. Evremonde raped a woman and was hiding his cr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lost his sanity and previous doctor skills and became fragile;  only knowing his shoe making tools and his ben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4588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ucie recalls him to life by showing him love and compassion and renewing his old love for her, over ti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his daughter had the power of charming this black brooding from his mind.” (pg 8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becomes a strong willed man with a fierce passion for what he believes in because of the pass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cie is a beautiful young woman that has never known her father. Lorry summons her to save her father who has been under the care of Def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dedicated to helping her father grow stronger and more like the man he was before he was impriso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recalled to life by Manette because he agrees to let Darnay marry her: like her father, Lucie needed someone to love and care for 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felt that your life should not be wasted…struck aside from the natural order of things–for my sake.” pg 1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rn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rnay is the son of a rich aristocrat from France that moves to England, and rejects his name and inheri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marries Lucie, and hides his true identity from 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5252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rnay is recalled to life by going back to France in order to save his friend Gabelle, even with the high risk of being arres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left all that was dear on earth behind him and floated away for the Loadstone Rock” (pg 24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ton has wasted his life on things that have no substance and is called the Jackal because he does the dirty work for Stryver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past is not described in detail except for the fact that his parents died when he was yo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5252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ton recalls himself to life by sacrificing his own life because of his love for Lucie and for her happiness with Darn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the glorious sun, rising, seemed to strike those words, the burden of the night, straight to his heart in its long bright rays” (pg 32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s walk in the morning makes him see what was on his father’s tombstone about the resurrection and he ultimately decides give his lif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54:58Z</dcterms:created>
  <dc:creator>Bradley Ross Wilkinson</dc:creator>
  <dc:description/>
  <dc:language>en-US</dc:language>
  <cp:lastModifiedBy>EMORY UNIVERSITY</cp:lastModifiedBy>
  <dcterms:modified xsi:type="dcterms:W3CDTF">2010-02-24T03:03:20Z</dcterms:modified>
  <cp:revision>3</cp:revision>
  <dc:subject/>
  <dc:title>Recalled to Life</dc:title>
</cp:coreProperties>
</file>