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5D8-801A-44D9-B603-5E43552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C08-6D77-410C-9CDE-F6D8C2C4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C6E-09CA-4926-BF04-59200C5F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7BE-8B07-4F84-8743-8D39AF86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EEF7-C672-49D5-9A55-692EA060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707-19B3-4A83-B283-1423BAA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54F-6D5C-4A78-90B8-90C14C8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A2D-E860-4947-B6E7-E7FCEC0C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1C6-DFAC-4172-AF30-B838C24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B3AB-B67F-402A-8C36-8684570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1955-0799-401D-B6A3-10AF625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919-3B9C-4010-A5F8-367E01D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4DE0-DAD2-4384-AC29-14C77E7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7A37-1936-44EF-B7D7-FDA4EB1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D158-A71B-49DB-9455-9F56F8A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C15-29BA-44D1-881F-7B287CEE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421-35FA-4B4A-B320-CF9D258F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323-371B-4A7E-BAB3-41A2DCA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EAD-28D2-4939-8674-EF4EEFB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5E8-B11B-451A-BFEA-AF270FC6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3D3-8939-409D-ADA8-DF37B10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6A0-FEE9-4E75-8453-6D581D1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AF2-014E-4E05-B339-3658259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F3C-068A-4058-B7B5-2122083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0CF-2C6B-4A89-9741-10E373BA18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84E9-117C-4EE3-B756-DC8D324F76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ligion and Superstitions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: Lindsey Shirle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i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-5-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464000"/>
            <a:ext cx="2057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in Medieval Tim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a bigger role in Medieval times then it does tod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ther you were a king or a peasant everyone believed in God and the existence of heaven and h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ere taught that the only way to get to heaven was if the Roman Catholic Church allowed you to g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 was one of the only reasons people attended chu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alth of the Chur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one had to pay 10% of their money to the church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had to pay for baptisms, marriages, and buri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did not have to pay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edr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ed the wealth of the chu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built to last for centu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be only in  important c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drals were bigger than any royal pa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ize meant that they could be seen from miles away and would remind everyone of the great power of the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33920" cy="27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55627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doors alone are over 20 feet tall, while the 'porch' which surrounds it makes this doorway nearly 60 feet t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294360" cy="441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697120" cy="403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39117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264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astic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of the Desert and his disciple, Pachomius, are considered the founders of Christian monasticis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vement is based Mathew 19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felt that church was losing its true purpo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caused large numbers of people to join monaster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11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a Monaster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live a life of prayer, obedience, chastity, an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ing, eating, and sleeping was kept to a minim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ay of prayer began at 2 a.m. and ended at sun dow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also went through lectures on the Bible and reading and writing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riority of a monk or nun was to live as God’s servan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Day of Pray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95280"/>
          <a:ext cx="8762760" cy="52959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541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i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reet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praise God for bringing a new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bless the day of work ah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A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cknowledge the founding of the Christian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x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honor God’s divine light at its highest in the s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recognize the hour Jesus d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p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ive thanks for the benefits of creation and redemp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s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confess the sins of the day and receive forg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ersti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closely related with mag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said to come from the “ignorance of the workings of nature” and fear of the unkn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ianity was believed to be a superstitions by nonbelievers in Medieval Times because people were believing in someone that can not be se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81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43:55Z</dcterms:created>
  <dc:creator>a</dc:creator>
  <dc:description/>
  <dc:language>en-US</dc:language>
  <cp:lastModifiedBy>a</cp:lastModifiedBy>
  <dcterms:modified xsi:type="dcterms:W3CDTF">2008-11-05T02:42:40Z</dcterms:modified>
  <cp:revision>13</cp:revision>
  <dc:subject/>
  <dc:title>Religion and Superstitions </dc:title>
</cp:coreProperties>
</file>