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F2A-933F-4F13-90D0-4090BB89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E13-4D26-4CBC-A7B6-E05742A4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50E-704F-4C7F-8C24-4931C99E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7F1-1208-480A-94D5-E0ED3530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4300-87E5-4505-9CD5-0DC1584D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6DD8-815A-4498-95B4-585AFFA4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E944-6181-420A-B172-3482C97B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5225-265D-4B22-8D33-84F3582C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03F2-4EB0-4A43-90D4-AC44FC2F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602C-89E1-4254-A828-209DE04B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FAB9-F66C-4E5D-A7D5-0D9B7BC3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AA3-7AC3-4A56-953A-9EB82AF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B2CA-54B3-4AF5-BB53-BF3BCC7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670F-E36D-4FC1-9B6A-E3BB1365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BC55-E39D-4808-818B-C045D23E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6EA7-ECAA-4CBB-8CA8-0D326F6A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4DAC-89E1-4488-A20F-205D5AC8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304-6D2C-435C-A2FB-12871C82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8F9-27C9-4AC6-8693-6A2A9D0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DF0-07DC-4802-9868-B8354594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6EF-3BF0-4327-AAA3-3EC88C29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595-3F30-4CFF-A757-0594E80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389-0984-4EB5-8482-115B6D2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2A4-CCE9-4E0C-9B06-EDC8636D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D33F-F27E-4E54-BD94-3240877AFD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1FB8-1F33-461A-B18D-7317C02113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Religion and Superstitions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y: Lindsey Shirle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erio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-5-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4464000"/>
            <a:ext cx="2057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in Medieval Tim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a bigger role in Medieval times then it does tod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ther you were a king or a peasant everyone believed in God and the existence of heaven and h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ere taught that the only way to get to heaven was if the Roman Catholic Church allowed you to g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ar was one of the only reasons people attended chu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alth of the Church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one had to pay 10% of their money to the church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had to pay for baptisms, marriages, and buri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es did not have to pay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48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thedr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ed the wealth of the chur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re built to last for centu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uld be only in  important ci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hedrals were bigger than any royal pa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size meant that they could be seen from miles away and would remind everyone of the great power of the chu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733920" cy="277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556272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doors alone are over 20 feet tall, while the 'porch' which surrounds it makes this doorway nearly 60 feet tal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294360" cy="441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2697120" cy="403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67080" y="391176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48520" y="152280"/>
            <a:ext cx="2641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astic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of the Desert and his disciple, Pachomius, are considered the founders of Christian monasticis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vement is based Mathew 19: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 felt that church was losing its true purpo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caused large numbers of people to join monasterie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114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fe in a Monaster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ks live a life of prayer, obedience, chastity, and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king, eating, and sleeping was kept to a minim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ay of prayer began at 2 a.m. and ended at sun dow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ks also went through lectures on the Bible and reading and writing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p priority of a monk or nun was to live as God’s servan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227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Day of Pray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295280"/>
          <a:ext cx="8762760" cy="529596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541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i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A.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greet the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praise God for bringing a new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A.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bless the day of work ah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A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acknowledge the founding of the Christian Chur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x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honor God’s divine light at its highest in the sk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recognize the hour Jesus di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sp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give thanks for the benefits of creation and redemp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se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confess the sins of the day and receive forgiv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perstit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closely related with mag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said to come from the “ignorance of the workings of nature” and fear of the unknow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istianity was believed to be a superstitions by nonbelievers in Medieval Times because people were believing in someone that can not be se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981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0:43:55Z</dcterms:created>
  <dc:creator>a</dc:creator>
  <dc:description/>
  <dc:language>en-US</dc:language>
  <cp:lastModifiedBy>a</cp:lastModifiedBy>
  <dcterms:modified xsi:type="dcterms:W3CDTF">2008-11-05T02:42:40Z</dcterms:modified>
  <cp:revision>13</cp:revision>
  <dc:subject/>
  <dc:title>Religion and Superstitions </dc:title>
</cp:coreProperties>
</file>