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3E5-9482-4E56-978D-C59BA2E0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87F-BE8C-427A-9CC0-2177BB5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BD6-455D-49E7-A304-F29FA7AA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808-B95F-49E1-A60B-3294E6A2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373-3CB2-4825-BD81-44B96AD3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DF8-A89A-44DB-9554-8FEF7E30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946-1532-41B5-92C7-CDDA34BA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50B2-98B5-4BF2-B4F9-A9CD9932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7BE-105D-4487-9E21-7AB1F28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A5E8-7A7B-4ACA-93AB-509F466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0C0B-F374-4FD5-A2F9-A60D14E5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0A3-27B5-4765-922A-6D7833F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C44-D0E6-4A14-84F2-B2878CE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1FBF-BCCC-4393-AE5D-E43375A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464-1402-4EEE-BA31-06CEE6D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8F54-FF51-49D2-9E0C-DEF20CEF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434E-3359-4557-8B33-C6DE40F7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ACE-5C72-4A0F-A6F8-2C9E90A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639-144C-4307-89D3-B5AC29A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646-5C50-4E39-AEE6-E291DAA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F36-617D-46B1-9A45-DF33E88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09D-A10F-4588-96DF-D0C14B2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D31-8C87-4A94-AF7A-65657FF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5B4-9AC8-4934-84B1-12AE59C3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657B-3ACC-4648-B46C-5A2A060F4C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C17-E906-4BF7-AE3C-EFDFB8A530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ligion and Superstitions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: Lindsey Shirle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i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-5-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464000"/>
            <a:ext cx="2057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in Medieval Tim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a bigger role in Medieval times then it does tod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ther you were a king or a peasant everyone believed in God and the existence of heaven and h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ere taught that the only way to get to heaven was if the Roman Catholic Church allowed you to g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 was one of the only reasons people attended chu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alth of the Chur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one had to pay 10% of their money to the church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had to pay for baptisms, marriages, and buri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did not have to pay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edr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ed the wealth of the chu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built to last for centu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be only in  important c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drals were bigger than any royal pa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ize meant that they could be seen from miles away and would remind everyone of the great power of the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33920" cy="27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55627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doors alone are over 20 feet tall, while the 'porch' which surrounds it makes this doorway nearly 60 feet t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294360" cy="441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697120" cy="403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39117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264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astic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of the Desert and his disciple, Pachomius, are considered the founders of Christian monasticis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vement is based Mathew 19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felt that church was losing its true purpo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caused large numbers of people to join monaster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11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a Monaster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live a life of prayer, obedience, chastity, an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ing, eating, and sleeping was kept to a minim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ay of prayer began at 2 a.m. and ended at sun dow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also went through lectures on the Bible and reading and writing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riority of a monk or nun was to live as God’s servan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Day of Pray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95280"/>
          <a:ext cx="8762760" cy="52959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541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i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reet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praise God for bringing a new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bless the day of work ah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A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cknowledge the founding of the Christian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x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honor God’s divine light at its highest in the s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recognize the hour Jesus d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p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ive thanks for the benefits of creation and redemp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s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confess the sins of the day and receive forg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ersti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closely related with mag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said to come from the “ignorance of the workings of nature” and fear of the unkn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ianity was believed to be a superstitions by nonbelievers in Medieval Times because people were believing in someone that can not be se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81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43:55Z</dcterms:created>
  <dc:creator>a</dc:creator>
  <dc:description/>
  <dc:language>en-US</dc:language>
  <cp:lastModifiedBy>a</cp:lastModifiedBy>
  <dcterms:modified xsi:type="dcterms:W3CDTF">2008-11-05T02:42:40Z</dcterms:modified>
  <cp:revision>13</cp:revision>
  <dc:subject/>
  <dc:title>Religion and Superstitions </dc:title>
</cp:coreProperties>
</file>