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050-EEE7-43F8-9BCA-746A6CF2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E7D-A86B-4B9E-B400-5DE15CE6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484-F936-462D-BC89-7EE70B47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BE4-4253-4B2E-960C-33351932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1772-E2DD-41F5-BD4D-C4AC8D69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D873-0083-40C3-B375-911AE317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71C3-F3E5-47D3-AB44-C1177ACA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2C4D-5493-4B13-8CD9-4C63B928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520B-A9FE-4553-857C-37B42550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AF52-290B-4FAC-ABA0-E3599387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D3B0-A04A-4E1A-AB6C-46DB1F9B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8A7-083E-4240-B3C2-B868DD31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4CBF-7FD3-4C5E-A52A-A7E74CDE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A91D-5F91-47CD-BA4D-778E8897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FD07-426B-407F-BD21-3D6DC448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907F-B986-4C86-9E1B-DC9A4DAF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F05A-C0A5-4314-9A66-EC8FD265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2A8-2FBD-44B7-80AD-7EE62B27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54F-4DB8-4DBC-A919-7954459D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191-D0A4-49DD-8ADC-775BF92C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94D-1AD7-4BBD-83F2-84150AB2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DAA-70F6-4A50-84D0-5EABB3C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01D-6508-45EF-9BD4-755AF906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4B6-C240-43B4-AE05-7F74C886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12A2-3A89-492D-AFB0-6BD555C007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B262-F3AE-4D9B-9FF9-AFD572F210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Religion and Superstitions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y: Lindsey Shirle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erio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-5-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4464000"/>
            <a:ext cx="2057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ligion in Medieval Tim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a bigger role in Medieval times then it does tod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ther you were a king or a peasant everyone believed in God and the existence of heaven and h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were taught that the only way to get to heaven was if the Roman Catholic Church allowed you to go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ar was one of the only reasons people attended chu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alth of the Church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one had to pay 10% of their money to the church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had to pay for baptisms, marriages, and buria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es did not have to pay ta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48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thedr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ed the wealth of the chur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re built to last for centu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uld be only in  important cit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hedrals were bigger than any royal pa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size meant that they could be seen from miles away and would remind everyone of the great power of the chu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733920" cy="277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5562720"/>
            <a:ext cx="2895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 doors alone are over 20 feet tall, while the 'porch' which surrounds it makes this doorway nearly 60 feet tal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294360" cy="441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2697120" cy="403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67080" y="3911760"/>
            <a:ext cx="4876920" cy="3251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248520" y="152280"/>
            <a:ext cx="2641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astic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of the Desert and his disciple, Pachomius, are considered the founders of Christian monasticis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vement is based Mathew 19: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ople felt that church was losing its true purpo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caused large numbers of people to join monasterie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114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fe in a Monaster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ks live a life of prayer, obedience, chastity, and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lking, eating, and sleeping was kept to a minim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ay of prayer began at 2 a.m. and ended at sun dow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ks also went through lectures on the Bible and reading and writing cla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op priority of a monk or nun was to live as God’s servant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227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Day of Pray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295280"/>
          <a:ext cx="8762760" cy="529596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541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in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A.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greet the 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u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praise God for bringing a new 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A.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bless the day of work ah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A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acknowledge the founding of the Christian Chur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x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honor God’s divine light at its highest in the sk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recognize the hour Jesus di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sp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P.M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give thanks for the benefits of creation and redemp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se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 confess the sins of the day and receive forgiv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perstitio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closely related with mag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said to come from the “ignorance of the workings of nature” and fear of the unknow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istianity was believed to be a superstitions by nonbelievers in Medieval Times because people were believing in someone that can not be se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981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0:43:55Z</dcterms:created>
  <dc:creator>a</dc:creator>
  <dc:description/>
  <dc:language>en-US</dc:language>
  <cp:lastModifiedBy>a</cp:lastModifiedBy>
  <dcterms:modified xsi:type="dcterms:W3CDTF">2008-11-05T02:42:40Z</dcterms:modified>
  <cp:revision>13</cp:revision>
  <dc:subject/>
  <dc:title>Religion and Superstitions </dc:title>
</cp:coreProperties>
</file>