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35C0-7A11-4711-A940-19A2431A5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0DA1-0E69-4EFB-AC44-48D3A7C4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4728-6727-494D-BC19-1B25EB33B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1A96-5389-4080-B910-21ED7E790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3915-20E1-4960-855E-562765A9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434A-084E-46D7-86BB-8FFD6DCC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D810-11EA-4D89-B811-7DDCC2BF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8EB8-E3FF-4A77-BEF3-E5D4685A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B2AF-CB77-4FFB-8313-A46C9A7D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C0EB-5832-471C-8F63-7ED2B6CB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C415-C2CC-42CA-8409-1B1C5578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1C03-9501-4181-AF1B-5D321387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29E4-2C49-49A7-96D4-3C6FDE6B1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erent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n that was no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rential to the k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put in the sto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.- showing deference, very respectfu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30481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21:40:12Z</dcterms:created>
  <dc:creator>Brett</dc:creator>
  <dc:description/>
  <dc:language>en-US</dc:language>
  <cp:lastModifiedBy>wks1</cp:lastModifiedBy>
  <dcterms:modified xsi:type="dcterms:W3CDTF">2010-01-26T17:50:05Z</dcterms:modified>
  <cp:revision>2</cp:revision>
  <dc:subject/>
  <dc:title>Deferential</dc:title>
</cp:coreProperties>
</file>