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39E4-8219-4988-8A9A-6FB5DF19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B16D-4CD8-407F-9127-6CFDFB9D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28C6-D030-420F-8189-217652278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4CBC-56D4-4E99-9742-E3CCC4D9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AC81-AB9D-46BE-8B3B-7BA6D591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3C57-473D-4F9B-BA1A-75987B39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E39F-29E4-4B63-98FD-F5D17D8A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16D5-86B3-42F9-A9DC-44B00211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1AAA-E81F-4D48-8ABB-9E712E5E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A31F-5FC2-43FF-A019-D61D0910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9336-326C-41C6-9A48-26155FD0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28FC-97AF-4A4B-904A-3B307E6B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1464-DA14-4589-BDE1-1A3487B44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eren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n that was no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rential to the k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put in the sto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.- showing deference, very respectfu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30481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21:40:12Z</dcterms:created>
  <dc:creator>Brett</dc:creator>
  <dc:description/>
  <dc:language>en-US</dc:language>
  <cp:lastModifiedBy>wks1</cp:lastModifiedBy>
  <dcterms:modified xsi:type="dcterms:W3CDTF">2010-01-26T17:50:05Z</dcterms:modified>
  <cp:revision>2</cp:revision>
  <dc:subject/>
  <dc:title>Deferential</dc:title>
</cp:coreProperties>
</file>