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C3B-D744-477F-8396-4ABFEA0B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56C-6402-46D2-ADD7-CE3FD644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843-F66B-48D9-A8D6-7D777745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273-C7FB-489B-A847-875E5DDA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1E0-DC5B-492C-B1E4-EB302EC2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BCF-E372-4262-9EA1-6E02EB0C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C33-8E83-4F61-9E88-65E9A980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B3D-0F94-4C45-AA26-109FA76C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D756-9B4C-43F9-9E19-D70609E6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28D-F254-4CE9-822C-92158616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9DD-568D-4B12-AF86-0FE2305F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1D4-0DDC-4C37-A9F0-B386B472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6F26-1815-4C97-8314-62B1E3C92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er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 that wa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ential to the k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put in the st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.- showing deference, very respectfu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0481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1:40:12Z</dcterms:created>
  <dc:creator>Brett</dc:creator>
  <dc:description/>
  <dc:language>en-US</dc:language>
  <cp:lastModifiedBy>wks1</cp:lastModifiedBy>
  <dcterms:modified xsi:type="dcterms:W3CDTF">2010-01-26T17:50:05Z</dcterms:modified>
  <cp:revision>2</cp:revision>
  <dc:subject/>
  <dc:title>Deferential</dc:title>
</cp:coreProperties>
</file>