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BD0-3F48-4870-A6EB-DE435736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01B-EAEF-443C-B6A5-CC9B38E6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1B8-3C9B-4E4C-AD57-C5F844C0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FCB-1DE1-41C9-8FE6-43B37472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369-52C5-4E12-8E29-9057BF44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8AB-31B9-48B5-97CD-EB73AD73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C65-CEF7-4E49-80F0-04D941BB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B1B-48F5-4EB7-822A-CA72A760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B63-E584-4419-8C69-3E6CC8D3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C5F-03CB-4E2E-B9E3-11CD17FC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EBE-18C1-4546-A11D-D2B2C172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801-6665-4051-92AC-4242745B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D2BA-C238-4A36-AE44-40269ABE8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er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 that was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ential to the k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put in the st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.- showing deference, very respectfu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0481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21:40:12Z</dcterms:created>
  <dc:creator>Brett</dc:creator>
  <dc:description/>
  <dc:language>en-US</dc:language>
  <cp:lastModifiedBy>wks1</cp:lastModifiedBy>
  <dcterms:modified xsi:type="dcterms:W3CDTF">2010-01-26T17:50:05Z</dcterms:modified>
  <cp:revision>2</cp:revision>
  <dc:subject/>
  <dc:title>Deferential</dc:title>
</cp:coreProperties>
</file>