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E45-CED0-49CA-82E7-064E243D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1E0-93A8-46A7-823D-BB5BEFA2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424-E86D-4246-83AA-BA366A9F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1AB-B339-4AD2-84E7-47D79E4E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B3D-DB9F-48A6-827D-76C4126E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DAE-7BC0-44CE-95F7-2E096E19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03F-4357-4F79-AFA0-D170F72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10C-D7EE-47AD-83B0-465FBA6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E41-B254-4FB3-90B0-93B0A8BC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DD9-7AA9-49BD-8B4A-D954CDA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82D-3162-4558-AC9D-D247F71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C18-FC16-4A7F-99EE-55F934D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8E9-6A5D-432A-898A-C6721619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 that wa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ential to the 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ut in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.- showing deference, very respect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481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1:40:12Z</dcterms:created>
  <dc:creator>Brett</dc:creator>
  <dc:description/>
  <dc:language>en-US</dc:language>
  <cp:lastModifiedBy>wks1</cp:lastModifiedBy>
  <dcterms:modified xsi:type="dcterms:W3CDTF">2010-01-26T17:50:05Z</dcterms:modified>
  <cp:revision>2</cp:revision>
  <dc:subject/>
  <dc:title>Deferential</dc:title>
</cp:coreProperties>
</file>