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AF2-DF6D-4432-B10B-4596B7AC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088-0B07-4370-A420-91BAF97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894EB8-146C-42B2-89E6-89B20235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28109-B61C-4CBF-B79E-3F246CC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CA899-7B95-4EED-BA89-DFACEEA3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E96A0-A80A-4DA0-8B87-0967AF3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51B1B-3FF7-480F-98E9-63F201A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5D689-3D3E-4FE0-8F8C-2EEAC7A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447A1-DFED-48CE-875C-A0D13E1A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59846-EC1E-41D2-A03C-8744ECBA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7B81A-06AA-4A34-AA84-DE43FC38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3B7CCE-513F-4C7C-B1DF-9E8F5362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378-3731-4A39-915B-AD3024A5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E46F8-DD28-47D0-9CE3-C9DC944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006B7-0217-4FE3-98B1-9415DB8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47A7B6-AFB2-409F-87A6-509E74B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A0A28-E44E-4690-894C-D727682A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D2E0DA-B3E6-47B3-B5EF-5B5A8976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EA4FED-5D73-4B11-AA95-AB81E8C1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72755-F8F5-4123-BD09-B9E2DD3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8CB179-D11B-4EE6-8247-D4BB6AC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247316-D1B7-4DBC-8BB4-C2466FBD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323311-B656-4613-A6E7-818849CB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E08-D7CA-4E9B-A3D1-BACF7C35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D594DF-F0AD-48B3-B9DA-3DD0394A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25D5D0-1ED1-414C-8F0C-AF0F5C06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5625BA-D4A6-4EB0-837A-5875857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9C1D01-D796-4F9C-9756-7E9E6998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B318E4-95D7-4B29-84D6-C55E0AA5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65AF8-A129-4C08-8C72-24A07FE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5AA471-1F1E-455B-8B84-131F23AC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CC4CB6-D1B4-40EA-A701-1100C58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79CAF7-E029-4672-A060-49B2EDB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855E71-493B-4C0D-97F3-5211512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4AEF-521C-4C3E-A2A0-216A4BFB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A5D7E9-16B8-4831-B7EA-F1B816F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964507-1944-4668-8E96-1F5C190C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2521BA-8482-4BAC-B845-AE52012E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C823DC-0211-4BAF-9014-993CFF81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92B23A-10EA-4A3C-911C-505EA8E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05A276-0309-4CAB-B4D4-4F147987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379E88-6517-4D40-B681-43BBE8B7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08C02B-CD62-475E-94AA-ADAB5C65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5546AA-7C1B-44C6-904D-5EA2995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914993-513F-4867-B506-F34BFBB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58E-3707-48EC-A397-E1281981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3EBBA0-1D69-4EE9-A1F1-63C9AA2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130716-069E-4007-A462-49360E1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4B2A3A-B86D-4A86-9424-53665854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FD468E-22BA-47F6-99B7-729C2C7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B4C397-8319-4F5B-95CC-5FE1EC4C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106FA3-7905-41D1-9547-2541FC97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6520AB-DA87-4BBB-ADC4-9F7FFCB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C8E2EF-F167-46A5-8613-234B66B8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781673-60C7-450B-8323-F1455F9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7993B6-6713-47E0-B566-6C0DFDD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9F00-F35C-4982-A2BC-5527E4B2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86678A-6972-42D9-844C-8D705326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661EA3-8379-4F81-B0EB-DF17BBE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E72DB2-E159-4956-AC9B-E577949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11B79A-5C8F-4D06-9D5D-FB92366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5FE446-A861-4FCA-A010-3D0CF44A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D5B58B-FD5F-43B1-917B-C7AFEECC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CF6D3-5413-49BC-80E0-FAD85582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3546E5-F916-40FC-8E31-122AE26C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6ED881-6645-4FB4-9530-6C9FC1E2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D610F6-816D-423C-8224-915810E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8EBA-3BFC-4972-AEEC-ABA3674B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6B836A-EEA1-43F3-A3E9-DB25CA31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93F7AB-2494-41B2-B273-59F8D0A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EFE388-E351-4B9A-BDAE-1BF9EE20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7663E4-0614-4E18-8A05-DA64094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9C5A82-C174-4039-8DEA-224F0FA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A655E3-2EAE-4813-9EC9-7CB1ED3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5B2F5E-80F0-44F2-BA17-85C3D8E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0332F7-A562-48F4-A23B-1B5EE6CF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AEDE55-B65C-46EE-92FE-067B4597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A8A282-023E-4BFE-A6FA-9A772EA3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F8E4-4B8A-45FD-9E83-A39E91F8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31A2AB-EE15-4A31-AA33-6255296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3A1409-DEAE-4EBD-973A-F7C0D06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98E376-C82D-4A36-9B67-2D1E268C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45826D-6AEF-4DC8-A75D-5D95DA40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50510D-7F0E-4B0E-9B6F-921DA7D6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DD9289-0D68-4931-896A-1168BDD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40883C-08F7-471F-8957-EBE47D8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56428D-024D-4447-8D53-A9169FA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5680B8-8E15-43EC-B545-31E546C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4276F4-DD1A-41B9-B86D-6969FEE7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E285-CA16-48BD-BBA9-BC154BA3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02387F-467A-4A25-A854-96E15631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AF8C-3A13-4755-8224-0C54033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786-F39D-440B-8B44-91675BBA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EE7C-9742-4376-9B66-063F543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37F2-3B1C-4D2D-8F31-48C7C1B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5F7B-5217-4A12-B8D2-C0FF4D15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BF86-C584-45ED-B198-5511E6F0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9637-F630-452D-9A10-29326E8D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94D6-2E26-4559-B45E-A11DC899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C7F1-EDF2-45CA-B71B-582A562B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852A-6FF1-4A67-B27C-420735F5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B35B-64D6-47A2-93F9-4188ABE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4C84-49DA-47BF-B7B9-CD9EA8F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698-CD43-46C1-BF8D-92D48CA2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F289-7130-42E8-895D-B362188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9AC8-3603-4569-B67D-EAA732E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508B-76B2-43E7-8EB3-5FC33EB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14AE-39D0-4C64-916C-F37B679A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DFF0-77CD-4D1C-872B-3C58117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5A8C-38FD-4D9A-A8AC-48E5A433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3DE8-C789-4047-9290-D6C25267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5D6-5934-4941-8B9C-A70293E6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57DB9-77FD-4304-B05F-0A7DBA11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8C8-2E5F-404F-B9D2-2313BA2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CB262-3F8B-4087-8D57-B64806C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9C92B-FE30-45DD-B885-B7C37DE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AD362-F3CD-4935-A60D-F29C9AF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B0435-E229-45EE-8A46-54A9BF6D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616D2-E28F-4E11-8CED-73770D46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1C8D8-CC05-4B33-A238-C73D840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56E3D-4942-4BDC-B0D0-33CA18C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2DEC5-54A4-4C11-9A60-32C4A275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8CF40-FBE9-4EEC-A7FA-3EA7618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C8783-6128-4B6F-9EF3-20E390FD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041-BA8E-4FE3-B620-3163781A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052EB-EA25-4098-BC89-F9C4AD2D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9666B-D8DD-489C-95E5-1190375F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BAD23-DFEB-4876-A91D-E79F1045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8319E-18C2-48E3-8139-BEBAB0F2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F97CD-9C7A-4E3F-AD30-4DA30A6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536BD-4AF8-48E6-8E7A-828E1E6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96A55-4BCE-43CF-AE3B-D6266A48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E2540-31FA-49FC-A591-3002BBE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79DF9-4273-4D11-84A3-5CC2CC9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6FAB7-2A0E-40E4-9AFF-1A3F34A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51A-A65D-4078-B5FD-9790B61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D9D8F-2C3C-4D32-8670-57ACC310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0CA73-1803-42D0-9227-EEE2E19D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54125-84D4-4071-B68F-E642C330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85849-ED17-4968-B153-7F90B196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EBF15-763D-4E42-997C-21E78291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C28C9-01F3-480B-BA73-855AE811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B5BDF-08E2-49E4-AEAA-077641B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D144A-50B4-44F8-8E6A-DF2C917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1349C-5B89-4852-AB5C-1556441D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5B76C-A251-48EF-9992-2A9C1DB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113-56EE-4D67-A04F-0694905C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32EA3-E94A-40FD-88E3-EA78C13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1BD3A-86C0-4057-ABA8-7C0FC42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4F157-9030-4381-AFDB-D0FCD351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A2639-911F-4201-8B14-0FCB2B5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0DF5B-33F4-48BE-9AE2-83AAF569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296921-7226-416E-B46A-8F7D0F84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D8316-3FD5-488F-B8DA-0F8695E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4684D-1DF5-462B-8D38-2037FEA7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84D26-4D71-4B49-B06B-E9298C41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9C9FA0-C784-4B4B-A2EC-E5BF8E7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6CB-90E3-4D7E-9E43-6660276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2C806-9892-4B27-9D40-4D0BC1B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326BF-C9E2-403E-A030-DAEFB27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F451D-7B62-4A83-B539-8483F6C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7E865-5062-4D75-87CD-5ACC285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A819A-52F2-47FC-9B5E-A6D3381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E72D05-35F9-4D03-B400-8701E0F5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E801B-CB9F-45EA-87FE-53CE90FB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85343-A173-434D-9B78-3A2BD7DE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F50C1-FD6B-4440-A2A1-7CF16CB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A29167-ED45-4419-BD9B-F0BA723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1CC1-1E81-4C20-B6D4-2972706F7BB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0E0D-F35C-4FAC-92B1-8EF95F514CD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FF2-0AA5-4DA0-A325-7040C385BDE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FC71-FF56-47A0-B5BB-52420793DBF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992-BEE1-43CA-9C7E-EF8F23CA3F7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26A6-8CD3-4242-B1BC-FFB4087EB6F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6A3E-8A36-4C59-B579-3ADF09E38F9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F138-7569-4CC0-BBB7-1BBD70AAE8D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7D9-45F5-46D6-A486-4DDF83674AC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0BD9-BB60-4F53-9C23-4682236E0F0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F13-C22B-4293-A71A-3B44FB9F3C1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EA47-A77E-4BD7-82A3-AFDBEE0EDBC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134-6DD3-4E55-BDCE-C8CF4ADD612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3560-3801-4DE1-B1EB-87727E3C200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y Bradley Wilkinso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2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3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ntrasts on the light that shines on her face and the shade that hides her beauty.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talks about the waves in her hair and how it dangles in her f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says that even her thoughts are sweet because they are in her head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describes the beauty of her face and that she is quiet and calm yet eloquent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mments on the small details of her face that remind him of memori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he is at peace with  everything and loves innocentl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Recourse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terature book pg 773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4:02:52Z</dcterms:created>
  <dc:creator>EMORY UNIVERSITY</dc:creator>
  <dc:description/>
  <dc:language>en-US</dc:language>
  <cp:lastModifiedBy>GACS</cp:lastModifiedBy>
  <dcterms:modified xsi:type="dcterms:W3CDTF">2010-04-23T14:16:13Z</dcterms:modified>
  <cp:revision>7</cp:revision>
  <dc:subject/>
  <dc:title>She Walks in Beauty</dc:title>
</cp:coreProperties>
</file>