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33A-D177-410D-9C2E-309CE8A0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39EB-573E-47F4-9778-81F9EE87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F4F9DE-FDE6-4FC1-B55B-33D7BD63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CDC449-2685-4B0B-9220-3C36BD0F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5A302F-F3F0-49BB-ACA2-AF1CD497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6933B9-4FCD-4486-BE52-8F61FDEA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1D8E52-A276-4932-8F18-4DD30F4F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91A692-A372-4BB3-8E70-1375BB37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1C65EF-64E4-4F09-A1D0-41C19D96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573D35-8650-46FA-966A-EE52CF1C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2E1658-DEA6-403F-9FA2-B5E9BCB4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585178-4553-416E-9029-B517AC74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C4C-A717-491D-937E-27AD505B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553478-A059-4210-B886-25203CCF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4FEEE1-C783-408B-8503-37F24543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2F5790-EFDB-4E10-A924-1399D980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6EEF5E-7D6B-4B57-9D03-C4AB42F9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2F607F-DC02-424C-8AC9-43918010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7760A7-3E30-47E1-83E8-064C1E6D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7E34A3-0BF7-4111-A81E-FCBAD935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57BDED-8FC4-401B-A6D5-6B1D89DD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86DF91-FF89-4844-BAD3-51E8F135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7ADEB1-3861-4003-A87C-5E0AB52E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8E8-2A0A-4828-80DF-25267062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A11097-A501-48C0-AC9C-5F237687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845319-AFE8-45A0-8B1C-3EBCF13E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B65A60-AAEF-478E-B63C-2E38141F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02FB21-C300-460E-B841-2D5283F2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712999-A928-4163-BC39-013A3298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1CA806-BA6C-452A-BFA6-21DBB788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97AFFD-17F0-4620-BB17-C356587C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C75B9A-CBD8-48A7-8F9A-B9BF2E09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3C6054-DFEB-4E82-9A02-A5A2FFC6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0F9268-0CD7-4A40-B63B-A2795B0E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A20A-BE55-4744-A4E1-2B8A24C1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8DB4A8-CC15-48C1-8ECA-CF190222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532F7F-21E3-45A0-8A6D-88E4B95F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A4E555-9281-4F75-9B18-A1387970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6F793B-A3F5-4B52-958E-9749B96D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73E069-07F7-43C9-98EF-0C0CEE09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DC79A2-BB0C-4E0C-972E-9AA15195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FA4BF3-670A-453E-82B7-5643E059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494150-D32B-4151-B671-4C0AADD8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7403AF-A57A-491A-B88E-75E80A0B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0D27A7-3717-4DD9-983D-EC3EE731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AD1F-4409-49C0-82C1-A49CA95A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61138F-5B97-42F7-B8D1-2E74BC59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FF92C8-6145-44A3-8797-BDF8E3A1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F4934A-D015-419C-9A54-BB298D12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753882-DEBC-46D5-BD4D-B1A59C77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82445D-85EC-49B2-88F3-5398C2BE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430DD8-1015-4094-85F4-24B76094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3D295D-F40E-4DA3-9412-C6D166D6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471B06-C75B-4473-A455-FCBBCE6D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8B8F08-9445-4FB8-BA40-FCC30EA7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184BC2-3EBB-43EC-B828-DF3CC699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FD1E-D8D0-46CB-83F8-B4A80506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7AFCC3-B3D1-4A03-BB12-29F9CF18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5FEE01-7B76-4EB2-AFEB-D260B672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409E4D-9C09-44C3-BC08-6C775562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DC1C7A-94BB-4CCF-816F-D6254066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D53126-4883-413E-A5E9-29149B76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279962-4947-4EBC-AAD2-0AC3BD10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05ACAE-C720-4F16-96E4-D5B703A1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1432E7-9C57-46A8-91F0-D1A86C34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B508B7-3318-4F57-8BF8-AB1ED8AC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B8C202-5C34-4BE2-8838-0283D604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E6B5-81FD-4343-B418-E72199B1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72F681-BE3B-467F-8AB9-F8628704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2F7BFF-828C-45A7-BB0B-899C8921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FF5A6E-75CD-4310-B3EA-7FD978DA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A2239D-497D-4ADD-9BB4-68441B19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A70EEB-AC67-4BC0-85CB-548D55A4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47CB06-18C0-4514-9331-D89F1E18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316B45-9FCB-420A-9347-3550F941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683B42-9918-4B9A-A1DA-0D7FBF68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EBB02A-04D2-47B2-A96E-45574A20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A6D818-C575-4D56-9A87-CD5F5A2D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4177-05EB-4643-AF30-2E9FA987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3ACCDD-D4F0-4919-8EF9-46D141E1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FD6585-A321-41B3-BE69-F6639D43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7B8C81-27DB-4160-8FDE-4A6794DF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21D60B-FC49-4D9C-961C-03F66336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60EFF6-6297-45D4-B819-142DAA19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89F522-9E76-4E8C-8ACF-F56C5BF7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FFCC03-B342-4090-A478-9C670F02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F2A59A-1CAD-4BBE-9C6D-F14F5FE2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7030DB-2807-439B-A2BF-CC954022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887BF0-DF52-4866-BD0A-67FABA65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6835-A00A-478D-B86B-98829BA3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8DBF82-52CB-489B-9B8B-8A75B7D7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D3DA-A277-4B53-AE26-2B048E9F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63F-C50A-4561-BE26-9001ABC2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A2BF-3B71-48D9-9A49-596CDD13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76A4-C20E-463B-8A4F-8D659E6E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75BA-11CA-42BC-8141-F30C4825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2508-4252-4B2A-ADF2-4BC271B0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8616-7D83-4A28-8535-FB0CA666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09EB4-EEA3-4651-B7FD-8ACF6D80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7C17B-342F-471E-AF05-46A1D526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11167-2D3F-4C5A-8563-3050E754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9BB1-7E45-4264-BC89-640FFC37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18FEC-0467-4CF6-B69C-C1CBF039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E4C-13AD-40C6-B400-A6B28C52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A304-7D9F-479C-8919-E48657C2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39C9-314D-472E-B192-C5CCECF4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5282A-26DF-4D2F-91BE-E32369AE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97A85-9288-4A20-A577-32CE3DD2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A12D2-E17E-48D3-BB3D-D4D0ABEF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9814C-ED81-4597-8670-2A85D7D6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8DBF1-ACF5-440C-B7A4-640898F8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8CC-317E-4F0C-A4B8-C832672E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3DE56-C42C-460D-94BC-B1186316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F1E-6158-4C43-A09B-7D9C09BD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EB08EA-4CDE-4E4A-8291-7C6103C9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1E559F-07C9-4554-9B9C-6BA83B20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633C6-2455-4833-A410-0645B289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F0481-88C0-4E2C-B33E-6E251D8D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CA64B-A3F1-4CD0-BF72-44030E62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A9832-6447-4009-9C6F-3A1E824C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B8CAA-39EC-46BA-90B8-DBDD9D8A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7D6CB-3130-492D-95C8-D898DA61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95303-817E-485D-B0DA-0A513559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058D1-C051-4E2C-8C85-3CBB012D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4B3-48AB-43D1-9B59-0D93B46A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4B9754-27A2-4B1B-BE9E-9B8232FB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F9CA2-7DC1-4219-B79F-0264438B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78F50-3612-45CE-8FE0-6CA1E5B4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711256-EBD9-456E-B0CC-DE3E3940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B8F103-DC78-4AD7-A00A-45C4BFDE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1CA101-561E-4C6F-A0D8-D183887F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52352-FB1C-45A5-BA89-F94F127A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F1AE5-44AC-4D27-9026-2191D725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F3E2FE-6CA1-4171-BF00-9110DD5D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D9932D-06FC-43EF-A860-49C710FF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95B-6C29-42B5-904F-81B6B8E0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94DA9-942E-4346-85C0-1E474E0F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13474-2A00-4E2C-A0B7-4EC0C68F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75236-B025-47EE-9954-3AD5F638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A1AAF-67F1-4638-90E7-6C3A77B6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962CD-E62F-4D90-9F5D-980992DA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A7FB37-3462-4457-A49E-EFE238BD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A51C87-AA09-4185-B2D6-CB31C69B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35CCF-8A4A-41E2-9058-C18006D0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6C346-CF20-4AD4-B292-B3AAE6E8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1032FE-44EE-4A9E-9ECC-5BD55043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044-2FDA-4B63-8888-B70C8815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F4F90B-D1F4-4297-98DB-3A6B3264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78434D-E531-4BF4-B0C8-3F21745B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A1D844-9004-4BDF-B529-C9FBA28A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AB814-BB61-4498-B1D4-F8DA1C6D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FD73BB-4BE1-4CFA-81E7-BAA6D4F5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CEAC87-0696-4666-855B-FDBA6520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245397-97CA-4CD5-AA64-0240CC32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E29832-79F2-4AD2-ACE2-C0F8B163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8B7E64-33F3-448A-B2E0-B5CFB0EE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7922F7-BB94-45E9-B19D-27F6F432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140-C4FF-43F4-8723-74F3515D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01E3AE-5FD5-46AA-8FFB-C8F97BCC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211214-666A-447D-B8A4-C7FB0766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DC2F4B-054F-44AE-9D06-0CE0F6E3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4F4B36-AD3E-4665-9EE0-A03800DE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CBF314-9A3A-43E5-AE6D-9B97A4F3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E558E2-CCB6-47CD-A450-B3955E6B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093966-F818-4C64-BFDE-7AE14426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382A10-16A7-482E-8CA0-853E2ADB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5F5E13-38EA-445D-877E-D574124A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C3C1B2-B284-4B84-90E1-E5F58C6E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B0D7-8672-452B-B46B-79DD1472F69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09DE-3768-4BFB-84D1-77241A3AD7FB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6FA9-0674-49F6-BAE3-0EB618814F7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5A34-273F-4492-B5ED-DD17FCE6779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ACC9-9B13-482A-8540-E3FDDF5DCD7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8C75-92A4-46B5-8B37-940A1865D50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6479-193D-48C2-9DD5-233D428AA82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5080" y="580680"/>
              <a:ext cx="7745760" cy="568368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5080" y="6042600"/>
              <a:ext cx="774576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5080" y="563760"/>
              <a:ext cx="7745760" cy="24879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2901-C5F7-491B-AF5D-A04B44C3FB2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A0AB-FB2F-4E64-B164-258ADE9B7C1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40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56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95D9-20E8-4A50-B2E3-37A6DAB392B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F687-FBBE-4A40-85BB-56635DBCF29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7813-6C91-4738-9AE6-7C396B4E7E2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0FE4-18F6-4066-9D08-95FCFBAA0DB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8308-10D9-4A23-867B-D86D8165CFE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sto MT"/>
              </a:rPr>
              <a:t>She Walks in Beauty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Stanzas 2 and 3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By Bradley Wilkinson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Stanza 2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ne shade the more, one ray the l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ad half impaired the nameless grace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r softly lightens o’er her face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Stanza 3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And on that cheek, and o’er that brow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So soft, so calm, yet eloquent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Or softly lightens o’er her face;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38088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ne shade the more, one ray the l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ad half impaired the nameless grace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contrasts on the light that shines on her face and the shade that hides her beauty. 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ich waves in every raven tress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Or softly lightens o’er her face;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talks about the waves in her hair and how it dangles in her face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Where thoughts serenely sweet expres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How pure, how dear their dwelling place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says that even her thoughts are sweet because they are in her head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nd on that cheek, and o’er that br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So soft, so calm, yet eloquent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describes the beauty of her face and that she is quiet and calm yet eloquent.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The smiles that win, the tints that gl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But tell of days in goodness spent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He comments on the small details of her face that remind him of memories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 mind at peace with all below,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sto MT"/>
              </a:rPr>
              <a:t>A heart whose love is innocent!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She is at peace with  everything and loves innocently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34508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End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Recourses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Literature book pg 773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4:02:52Z</dcterms:created>
  <dc:creator>EMORY UNIVERSITY</dc:creator>
  <dc:description/>
  <dc:language>en-US</dc:language>
  <cp:lastModifiedBy>GACS</cp:lastModifiedBy>
  <dcterms:modified xsi:type="dcterms:W3CDTF">2010-04-23T14:16:13Z</dcterms:modified>
  <cp:revision>7</cp:revision>
  <dc:subject/>
  <dc:title>She Walks in Beauty</dc:title>
</cp:coreProperties>
</file>