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9C4-B322-41E5-8749-12A1496E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AB8-7B42-42FA-A636-14EE5CE1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FAD81C-0651-4E78-A30D-27290F41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CA0CB8-6900-49EF-BAA0-496A81F2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4771D3-D350-4CF8-9E7E-71F2295A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E65758-70A5-4926-A116-761F441B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170A7F-FA9E-408B-8543-A3847BC1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7138FC-8D3F-4753-A5C6-4291B28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F2316-BEAE-4596-B960-133231C6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F85C48-1CBC-4A1F-93A3-2376A493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AEE5CE-8985-4735-B179-78F291C2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148575-B664-4589-965F-39A60EC1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FA7-5AED-4755-BACD-6FACE4B8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E2D975-D468-4B7C-80F2-ECFBF125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174925-C244-4B8E-A086-A507429D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01FB8F-0CFA-4D99-B026-CA9C1FF3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8D9240-6F20-4A45-A217-789861D8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5CBBC1-3811-4C2A-8A24-21D194B9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1A455C-88FD-42A2-8A2C-86558F1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2F32FF-114C-4D48-9BBE-E9B01938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7505D9-A145-40C4-BD49-8C23B0CC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555A86-1686-4E4B-99C4-0927EA9A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451BD5-88D6-4538-9E47-F89DC39C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11A-9EF6-4C50-A242-916FEDD1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00CA82-9347-41D9-A15F-9034D876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E37D22-15D0-4783-9DCB-D66AD6BA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A90903-A6B7-4938-B3EE-351BE2FA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9549DC-B540-47EF-9C90-5007AB0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6183E9-F229-478D-8D38-F7553CAC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E17A99-58AD-4856-9F0F-5DA5E16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F9717A-EDAD-49C7-A7C8-4B5A5116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55E2AB-B6A1-473C-995F-C93851B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29FB69-D6A0-4076-943D-23FF7C83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B0B330-61F0-4B6C-83C0-260B48CD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142B-E17C-4ED6-A9A7-2E6E38EE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DCC275-2432-42A2-A70A-FCC60E0E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49F510-B826-4EE8-8EEF-0A3B71B1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6710DA-1513-44E2-A6C6-92F60358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B28554-9CE6-4FFC-B492-572ADBF0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879C34-909A-4681-8217-726EA83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34F849-D847-4189-BF8D-DBD5F34E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F02B50-ED39-4731-94A4-ABCA0A36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61C2C5-1860-45B6-8892-BA2B46CE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ADCC86-6501-460D-B3DA-A3C3132B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EB3659-9FDF-4651-8834-9ECA630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595C-115E-4E32-B421-A589F38C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6F0676-E77F-4B31-AAFA-8F3897F6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66DB13-E4F6-4817-BF65-46F50BB7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260836-2A0D-42C1-B9B1-93995196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5A0B57-D92D-4D35-9D23-D07E695B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A60DE9-3433-4430-9E21-8076E420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1AF1C8-0158-4079-9DD3-9B4970AA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1ABA7A-C353-4145-803E-486DA81D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58801B-69F4-4509-8949-BBB2EC48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625BA0-1F66-4577-BFD7-8112277B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D88EEA-2FD5-4F95-9886-E06CB1DB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CD0-90AD-4858-B905-4912BFF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E3ACC2-F9E0-4190-9250-6561007E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EF065A-05AB-45E2-B3EA-40A71BD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836CF7-9F29-456F-AA69-849131F2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8043DD-0617-4FD8-8751-7C04A932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858721-0A2B-4662-BD76-0D75C3F8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0FE492-BA79-4D2C-8560-E82CC522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2C7907-E6F3-4965-9F9F-6202C512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475246-2D6F-44A8-B482-C39836D7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DDCD3B-2DD6-4874-8452-82EBAA1C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ACBBE2-B715-4247-84C7-DE534E9B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4102-F54E-41EA-83BD-19F9846C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F75F6E-56E6-4FAA-A0CD-F39ECCBE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25B587-8934-4E0E-8071-1656EA5B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677936-5246-464A-8FEF-BD45ACF2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EC3C3D-4935-4FE4-8D47-831964FA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9F405F-23EC-4D01-9AC6-9ECF7D1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D4207A-F0AF-4074-98D1-F06485E7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3F67AE-CA03-4C32-A93C-97F57A53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EA030B-6BEF-4924-8E33-610F31F9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E63B7E-8954-416C-A2A8-D2D0D2C5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B43C0D-ADB2-4D41-A463-FF868515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E114-C8F8-49EB-AEEF-CA8751AC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F537DD-B513-4BB7-A2CF-DB61E976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FB1063-7137-48F9-A3F5-BFCF3BC7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A88B12-DDCD-4C40-9FF2-9F4F993D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4735EE-ED94-4A1D-A1EF-4F693241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51359E-783F-44CF-BEC4-43129D18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DF979E-F2CB-451D-8BF5-5A28EA6A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CEC2F1-581C-4BC0-8A4F-8218BCD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0D2746-2818-4797-9DA3-F350E2DB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9AFE59-F574-4D76-8B19-AFCA6E24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D8046E-6E6E-402C-B113-6153E593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4432-107B-4602-98CD-EC80A779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DA511D-F3D9-484E-B35A-2E242856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8C08-8743-4233-BFE9-9E2E1C1B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89E-C8A8-4CA1-9FB2-1CA0512C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E6D3-4428-4652-B706-F1744354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0EE7-1702-4F1E-B566-DE2819F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6302-A438-47E3-80C4-F388C962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2BDF-B485-4E2E-AC7B-AAD4662D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0F7D-FAFA-42AE-A30B-7F176EBC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AF63-C5DA-4BC9-B2DD-9EF08F0E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CF75-D4E5-4374-9783-064A4718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F65E-5973-4B9A-B991-3FAB76C6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3F57-C61E-491C-A02B-3C937F52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7FE9-2B4C-49DD-8660-D4C477C5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5AA-51E9-4382-8A13-7E89A116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58125-C7CB-4320-9AB3-AF7C6A7E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5851-A3C6-49F3-B868-DC405B79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6FC4-A3F6-48D7-AB51-39BABBA1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3814-8C4E-459F-8E70-83FAE847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650E-385B-4C76-824B-8B2E1399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014D-E143-4ACC-8A26-0BC1FC95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FEF5-900F-49DB-87D9-CA1F491F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95A-ADB6-4183-9E00-97C1E233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3F092-A9A3-4F01-A25A-634AADB0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09C-A9D9-48F8-81A4-67C871E9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535E6-80B0-48E8-A038-0D6C7B12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22037-4349-44E0-B317-6E3BA56C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3D4CA-97FB-427F-AFF7-9B59C7DC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61AD5-E147-468D-9FC1-993A4FD1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D350D-23D6-4736-BC90-95E97A77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2FA1A-4C7C-4D63-9B3E-F6BFC121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98B03-E658-41C0-8861-8E925C4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9A828-DB9D-4BC9-A0DD-62C17294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E1402-B18D-459C-A240-11ABDD7E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4EDA5-CF16-4229-88B6-E9CF396F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C66-05B8-4FE5-AC81-ACE1901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10838-448E-4C8E-8085-A9D5292C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97B1D-F621-4F69-A159-9419F128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1BF6D-E7EA-4F0D-A33C-60039029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204B1-48ED-4A90-B741-E348EB77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06122-DE8E-469F-AC37-ED2A365D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F7ABA-B4CD-4688-A0AD-BBE3863F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3B7B2-F700-4BA2-9B72-35698EDE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A61DB-727F-4EFD-925D-3A41F40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58386-E24C-41A6-A524-50F2219C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B34DB-D824-471F-9BFE-34EEE211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444-BBAF-4136-9676-57A29D94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2261C-BA15-485B-B02E-89E8C7AD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E7579-E7EC-48BC-86BA-3B53146C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933FB-4360-43C0-B5F7-32C9B788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F0A42-C147-45B1-A96D-15EBC394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67A22-5774-4F41-A1FB-239887E6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68ADF-840A-4214-9909-FD6C879A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11F96-1127-478B-BD57-2A22B37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F285D-BCE5-49CE-98C9-3CBA102E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B02F3-3DB8-4C95-970F-E5F47A3D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5E3F5-D20B-45C4-80EA-948F9BF4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780-A4F9-4427-B9F1-F04C4DE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7832E-B37B-432A-BEAD-0F5E728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1C673-4037-44DB-8E11-74C6E979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2B81A-B8F1-4BD6-B74A-E1FF9E45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FCD329-8488-4008-BC36-DECD0A8A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7293D-71AE-40C5-A8D8-C776DA7B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D33D59-841E-4F5D-8C24-B0773457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607B87-71E2-4ECC-B225-752C0E1A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6CA72B-75CE-43E9-8680-45BAA488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B071F5-F744-446C-985E-492DBD8E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B8EEC9-31B4-4D4E-AA87-9A824E77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191-851B-4682-8C17-85EB3906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A0D5DA-D01D-4909-AC0C-83C8C211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C7EA6-8EB3-4FA8-888C-7E8FC9A3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15C994-42A6-4407-B58B-6105220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ABEA70-E126-49DF-813D-5B01292F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817E4-6020-4595-A4E4-3ECD7DFB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3618B-9340-4F4F-8B5C-6D17249A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C032E-1688-4A9C-BDA6-DE1ADBA1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38BC70-66C5-4ECB-8BD6-9865305A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01EE46-8374-42FE-BFFA-A1D2B0FC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918A3-BF89-4EE2-AA24-81D74B8C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30E4-418B-4C2C-9803-73B49466ED0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28EC-A28E-4E29-9911-DA984124EA5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B424-6086-455B-8B7A-05A8CB3C0B2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BFB6-AD9D-4773-948D-643BB42E58E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681A-94B3-400A-88D1-06FE8081EAE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9C87-B35E-4266-A5E7-9CEE44D31DB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C15B-055A-4EC6-AE79-A7A3742087F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FB31-FE8D-4D90-95A6-04FD14A6573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7745-575A-4EA6-BFD0-8C234C185E9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828C-4353-4712-86CA-E8CE07B892D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7AA5-189D-440B-9219-3D4AE66255A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2D1D-531F-4634-BF29-0C58C5C94DE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C9CA-5D8E-493D-A970-6A93E3A37C6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B6B7-341E-4386-9596-3B53BC1B36D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By Bradley Wilkinson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2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3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ntrasts on the light that shines on her face and the shade that hides her beauty.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talks about the waves in her hair and how it dangles in her f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says that even her thoughts are sweet because they are in her head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describes the beauty of her face and that she is quiet and calm yet eloquent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mments on the small details of her face that remind him of memorie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She is at peace with  everything and loves innocently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Recourse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terature book pg 773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4:02:52Z</dcterms:created>
  <dc:creator>EMORY UNIVERSITY</dc:creator>
  <dc:description/>
  <dc:language>en-US</dc:language>
  <cp:lastModifiedBy>GACS</cp:lastModifiedBy>
  <dcterms:modified xsi:type="dcterms:W3CDTF">2010-04-23T14:16:13Z</dcterms:modified>
  <cp:revision>7</cp:revision>
  <dc:subject/>
  <dc:title>She Walks in Beauty</dc:title>
</cp:coreProperties>
</file>