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940E-165C-4750-BB6C-81AF4A94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76E-D4F6-47F8-A619-6BEB90B8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915758-AFAD-4497-A0AC-0ED96ED4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EC564C-8D16-4682-BBC9-8662F322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603192-DC9B-4260-8A54-69FBAEE5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FCCAA6-AD1A-4B42-A48E-3C0A1CE6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C92E12-359F-4C30-B4E5-D41FDD39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C72C94-F74D-45DD-A3CD-39DC9E52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8AB86B-4433-4E08-8A9C-B6F3F5AA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F8D518-A33E-47E7-A5C9-FB081C81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F1AEC5-FEC0-4E13-ABBF-8ED0BB35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D9E48F-34B4-4108-B543-F56A308A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6C1F-DEFB-4D65-81FA-933E9497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5C40FE-FD8E-4798-9F36-103B25CC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7EC33A-F4C0-41C0-ADE4-2C71AC14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1C8262-051C-44AB-81ED-B155E0D4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2B2127-B4C0-4DB4-9937-9FB463AD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20A4C6-14A2-4D3A-AC63-35010597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950D5E-5968-428B-A1E4-E47C6367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B0BFE6-9CCF-436D-99E4-B52474FA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6C4234-D1E8-4710-ACD3-0B7B93FA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4D957B-ED59-47E2-A3BA-17845DBC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C6B0A6-A814-4947-A9F7-8DDAB620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B20C-FEC2-4D01-8FE6-8EC58A36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B6D797-03BE-43E1-B0D4-912B975E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F40D4E-DD42-4303-B94A-B9774FAD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642C56-B096-41C3-A613-9220AA32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5E8AB7-6AA2-41A5-AB25-C8313724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126015-B6B6-4716-B05D-6F97A9C0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332EFD-9EB4-42D6-BEC4-42C079D5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AC09D6-B936-4D7B-92AE-5481AEF4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2F0475-FDE3-4A77-887D-A93D04E3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91DD9E-2663-45EC-AF24-B84B16DE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615987-9F34-4E5A-AAB2-86605E20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96AC-C8D6-4F7D-B8E2-FFBA61AB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3D323C-4C33-4317-A0EB-255824B5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5D978E-A30A-4645-BF0C-5E51125A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D9B24C-7CB0-43D3-A084-C9EF1EAB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31D459-BDB8-49DE-8AD4-20189481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A5C5E0-3C9B-4457-8687-7A1C5DA1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B8F031-0F89-4072-BC52-B9E1E519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703AC3-458F-4776-85BB-B58BB33E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069E45-4FDE-4A85-9BE3-D0B9C00A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8B3CED-A078-41D7-8F9C-1483E865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2E44C6-3F43-4043-ADAA-A67CD88C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2E45-48B9-42B0-AB18-CDAE0820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8D9335-6A26-4084-87F8-487AA580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6649D0-2206-429F-A5DD-A62EABCA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B3549E-0C76-443A-A570-F7C78FE4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19A34F-3676-4540-A064-9D443EC5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220B2D-8ABB-46D8-A5FC-67A4A0BF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737278-CBCC-44EA-9FB4-AD185186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512B24-578D-4869-B704-535745D3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7C030D-CD82-4042-9228-A80C569F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DB8589-C47A-486E-9027-FCCEC816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5ED1BB-19CE-49C3-9B25-6360C214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528B-0740-40B3-859B-BD846D51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3796B2-6BCE-4AFA-83BD-D7B26948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D92AA7-73DB-4D25-8766-E1B6BC4E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93126E-C2A6-41D3-BC60-620D7257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EF0DB6-7229-49B8-A84E-975EB68E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AA3001-74BB-4AE7-B6A0-7295D3FC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26A4C2-8577-420B-9948-049DF319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CDFBE4-BD96-4690-9082-1ED7C15E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872D74C-7726-4475-9908-D7F97000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A7CE957-8776-416C-AB47-562900DA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25DEEE4-BE32-4902-B77D-CB071A5A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6CC2-6BF7-4990-B276-B0FC43F9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120416B-BFA8-49A5-95E8-B2A7A283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6B29190-9B02-41D0-9DEF-C909099E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94C7A67-2046-4B50-837A-727F1321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59389C3-513D-48E7-AAFF-FED3AC0C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2A85032-3318-49CB-9C34-42B2C9A1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5B780F8-A66B-4BB0-8A01-9A14FD66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41F266-78CE-4EB0-84AF-FB6069BD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4F1A4EC-9308-4B04-B88C-621A3FD6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F66B30-CB35-4412-8BC5-84700EA1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8233C89-2069-4E55-A67E-455A910F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9165-30D5-49B1-B3D0-AF58647C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2AECAE9-3D35-430F-9528-E1C7FF95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018B65E-6D31-41A2-A725-65A98786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C12EA4-4568-4EC1-B702-877E70AE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AEC307D-4D36-403D-918A-6F285F43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7ABEB67-9655-46FB-ACF5-124A2227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0DC5FC7-788B-4C36-83EA-AAF4B73D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58517FC-D7E2-4CCC-9944-95BCA6EA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153DFF0-4B8D-443E-B803-94007B24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B942BD1-3B35-46E6-BA9F-740ED879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EA2CE2E-4B2E-4CC2-BB7C-CB6546CA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9306-741D-4E87-8F69-8942BD46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C68A101-F21D-4C9B-909A-10052827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E8AE-27DF-4787-B782-EE4DD968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ADDD-2B30-448F-8649-01BC6C13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CB02-9CF6-4FA6-9848-5CCD0C58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D096-B843-4CF0-8942-4C6551AE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596C-2A23-41C6-84D0-BFCEE53B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69D3-35AD-4F11-8C31-CAB7A924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8FDF-76F1-4E58-B987-903A270A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F1F66-A8C9-4578-A200-CB9C334E2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49C06-C86F-4CAD-AE53-7611D1EF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25459-691A-4125-BC8E-BA90A170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87A86-9A3D-45CC-8A59-3D1E1045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E3985-0FBD-4A95-99D9-4DD826CE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7002-E523-4705-967A-972FAAF3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BBB4A-AB9E-4140-A25B-3810AB8E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76AB5-34A4-4282-B5CF-4DB4B0BC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3F2A6-5126-4A93-80F6-70792371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CF287-4715-413C-B7B7-B5F8B126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7321B-FD19-4CB2-B932-1EC4952D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BF6B1-B0FA-4C01-A5EF-E47504F8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78074-BD90-4B09-8DE5-A64C6130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F6D3-570E-4BE5-A615-42147A7F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84A390-D76D-44C6-97AA-9C17873E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6FA0-638A-413D-A642-3C9A677D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BE38FC-1127-4118-A461-D726629C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5875C3-5CCB-4A59-8540-C76C11CB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23ED90-4589-46B3-AC02-5CEFDF60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71B6EC-6023-49BF-88BE-64ED3D19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F95C24-ADE3-4461-8988-6DD98757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E6DB66-F0AB-4CA6-A4A0-32BA5B65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5B8B08-3924-4EBF-9C80-EF39E8D2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6257B5-E20F-4EB5-878A-BEDF9982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D7888D-5007-4347-8871-05E4E437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29F5D9-0F4F-4D4A-A801-AE5BD1C4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B09A-409D-4D60-99C3-CADFFF49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300283-10D5-4683-90CC-3B3020FB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032A06-8597-486E-8536-F01CD578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05B5CE-33EE-4C1B-BA56-3C3270F5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B2F743-7B40-499D-85D5-3537B3CA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4B9091-6A10-4415-A20F-779D6C9B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00665C-B01B-4440-BE41-AA6A5B4A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67BF87-8D76-435A-B2CA-4C4CFA87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687191-45C3-4830-8B53-141B13C6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364617-3C21-4209-8537-5F9CE783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0CB18E-DF5A-453A-A5D3-69127E77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EE05-9C7F-4E09-AD31-E75700E7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5145DA-15C4-4118-BE62-FAE65077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454868-97CC-4D8A-A047-566F3E14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318D32-CEE9-4968-B9AD-5E301D49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795D96-BCB8-4306-9C2C-1D31872D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E66234-9140-416D-9EF4-E5832E6D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28773C-DAB5-40E8-8940-C3BA62EE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941E2A-C5ED-4606-A846-2201E7CB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F81BFF-266F-43AD-8817-462BA48E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BB5EB6-4A8D-4950-9313-565B43FF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907D49-96E9-4284-AA26-E882C817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8391-7C04-4A4E-8B04-1B61AEDB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589E86-0D5A-4DFB-8D29-64E268F6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327C3D-2D5F-43D5-B7B2-13FA789F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B19CF6-7632-4F63-B4D3-17DB03E6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144A1B-2C70-466D-B802-55820332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F914E9-0745-4948-93A6-707F8EF7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C45231-5BFE-4C4A-93BA-B02AB3DA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4F5836-B9A2-4D37-8FC4-F02D6B92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C7BADA-7D88-4C60-8D08-812074E9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C5720A-178B-411C-96D9-01C56BE5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7319EE-7410-45E3-AB7B-425CC72D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0F5D-93D5-4AB9-9BEA-74E21EAC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FA1EB8-51B7-47A0-9791-DC5C5E77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5251C8-5B7C-4E97-8977-0F1B1649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90017D-08EC-436C-ADF0-4B153E1D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8871E0-D866-4F5F-B70B-738CC0EC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79957C-A7E7-4934-831A-F36F9A03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74961E-3B91-4F63-84F1-55E16C86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E990C2-7F5F-46D5-9D3A-E62BB032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171D94-6B92-414B-9338-7FCCF878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0B859E-CE00-4A70-A4AE-FCEC9478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004122-4AD1-4919-AA62-2AA83C44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7D51-8C0B-46A7-B40F-49A2706F9342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15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16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7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418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0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7AE9-0DC7-423A-8C32-F924BC113DD3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6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6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5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466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8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3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4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E7F3-CC10-413B-AFFD-EA8869FD2540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32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51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51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5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516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8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3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4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5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DA5C-F160-432F-8117-3A1C1802332B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561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2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563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5" name="Rectangle 11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7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8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ADDF-2447-4E05-8A7F-492032BFA325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0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0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611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39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0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1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DF95-951B-43B8-A699-B58CF694E5E4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5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7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658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0" name="Rectangle 11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268A-E4FA-44DE-B4E2-A8FE3CFA680D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42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8"/>
            <p:cNvSpPr/>
            <p:nvPr/>
          </p:nvSpPr>
          <p:spPr>
            <a:xfrm>
              <a:off x="685080" y="580680"/>
              <a:ext cx="7745760" cy="568368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685080" y="6042600"/>
              <a:ext cx="774576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85080" y="563760"/>
              <a:ext cx="7745760" cy="24879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5CE4-33D3-4EDC-B8AC-D1F56BC4906A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5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88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90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C1CE-2E93-460E-AE3F-2A61F17325B1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PaperPanel-Title.jpg"/>
          <p:cNvPicPr/>
          <p:nvPr/>
        </p:nvPicPr>
        <p:blipFill>
          <a:blip r:embed="rId3"/>
          <a:stretch/>
        </p:blipFill>
        <p:spPr>
          <a:xfrm>
            <a:off x="360360" y="298440"/>
            <a:ext cx="8418600" cy="6254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1"/>
          <p:cNvGrpSpPr/>
          <p:nvPr/>
        </p:nvGrpSpPr>
        <p:grpSpPr>
          <a:xfrm>
            <a:off x="563400" y="476280"/>
            <a:ext cx="7982280" cy="5888160"/>
            <a:chOff x="563400" y="476280"/>
            <a:chExt cx="7982280" cy="5888160"/>
          </a:xfrm>
        </p:grpSpPr>
        <p:sp>
          <p:nvSpPr>
            <p:cNvPr id="136" name="Rectangle 8"/>
            <p:cNvSpPr/>
            <p:nvPr/>
          </p:nvSpPr>
          <p:spPr>
            <a:xfrm>
              <a:off x="563400" y="476280"/>
              <a:ext cx="7982280" cy="58881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9"/>
            <p:cNvSpPr/>
            <p:nvPr/>
          </p:nvSpPr>
          <p:spPr>
            <a:xfrm>
              <a:off x="563400" y="613440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10"/>
            <p:cNvSpPr/>
            <p:nvPr/>
          </p:nvSpPr>
          <p:spPr>
            <a:xfrm>
              <a:off x="563400" y="342756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6952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638680" y="6124680"/>
            <a:ext cx="289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8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182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45AE-8159-41CA-BC25-4F55623C63C6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2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228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5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6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7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92D2-67AC-4B04-94CB-1373D632A6A1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73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Group 8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275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Straight Connector 12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13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8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9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0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AA03-FCFC-4A4C-B92E-517DF66C630F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8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22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324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D4B2-A94F-4707-A2DE-01E858F42DF1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6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0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371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3E80-4A48-4059-9956-CEA442836338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1123560"/>
            <a:ext cx="7342200" cy="192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040"/>
                </a:solidFill>
                <a:latin typeface="Calisto MT"/>
              </a:rPr>
              <a:t>She Walks in Beauty</a:t>
            </a:r>
            <a:endParaRPr b="0" lang="en-US" sz="5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Stanzas 2 and 3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By Bradley Wilkinson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Stanza 2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One shade the more, one ray the less,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Had half impaired the nameless grace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Which waves in every raven tress,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Or softly lightens o’er her face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Where thoughts serenely sweet express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How pure, how dear their dwelling plac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Stanza 3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And on that cheek, and o’er that brow,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So soft, so calm, yet eloquent,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Which waves in every raven tress,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Or softly lightens o’er her face;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Where thoughts serenely sweet express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How pure, how dear their dwelling plac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 txBox="1"/>
          <p:nvPr/>
        </p:nvSpPr>
        <p:spPr>
          <a:xfrm>
            <a:off x="38088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One shade the more, one ray the less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Had half impaired the nameless grace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 contrasts on the light that shines on her face and the shade that hides her beauty. 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Which waves in every raven tress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Or softly lightens o’er her face;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 talks about the waves in her hair and how it dangles in her face.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Where thoughts serenely sweet express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How pure, how dear their dwelling place.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 says that even her thoughts are sweet because they are in her head.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38088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And on that cheek, and o’er that brow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So soft, so calm, yet eloquent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 describes the beauty of her face and that she is quiet and calm yet eloquent.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The smiles that win, the tints that glow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But tell of days in goodness spent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 comments on the small details of her face that remind him of memories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A mind at peace with all below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A heart whose love is innocent!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She is at peace with  everything and loves innocently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90360" y="2971800"/>
            <a:ext cx="734508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The End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Recourses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Literature book pg 773 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4:02:52Z</dcterms:created>
  <dc:creator>EMORY UNIVERSITY</dc:creator>
  <dc:description/>
  <dc:language>en-US</dc:language>
  <cp:lastModifiedBy>GACS</cp:lastModifiedBy>
  <dcterms:modified xsi:type="dcterms:W3CDTF">2010-04-23T14:16:13Z</dcterms:modified>
  <cp:revision>7</cp:revision>
  <dc:subject/>
  <dc:title>She Walks in Beauty</dc:title>
</cp:coreProperties>
</file>