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1E1-437D-49B4-8A0D-716F92B1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DE8-3421-46D9-A38B-53888EB5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C0DFC8-F3FC-47F3-857A-7688ABF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63C936-9713-45A4-BB50-1096AEE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D0D98A-2A44-4CEB-8B08-6F90C738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0AD72-83A0-4649-81A4-46BD453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16E59D-8638-4875-ABFF-79F0A89D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06E5E-FA9D-4CB8-B4F3-A50B9C03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F47E1-A379-4D6A-A658-9C1FF44D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469077-7BB8-4EDB-BFDF-D6EB23AF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F0D86E-D82C-4E14-997D-3D8356B4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818AEF-97B2-47FA-B723-ED939D97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579-0CCF-4F00-93CD-FD531B8B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68526F-493A-4DCF-B94E-C578CD76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338740-990C-4D6E-9678-AB3E1B3F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E2E7C0-5C90-45BC-B43C-184B11E7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078B8A-90E7-46AD-8636-1887726A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DEE7C9-952E-4DD0-AE1C-4E3431E6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0EFA16-0F32-4D10-BE1A-20A0CA03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76EC4D-42BB-4B7C-AAA9-8A510359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68D16A-81A8-4D47-8161-89234425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C9C1D0-AF49-4314-AB1D-49E47158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9446DD-DD0E-4141-9E15-9C9CD438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AE1-E564-4C12-BD05-446A422C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49CFD1-83B8-43DA-A1C4-048FA52B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7B67E1-03BE-4F42-9DEB-17FC7E23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740310-3D6D-4EC6-84C3-AB8767E0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7059B-BA03-42E4-8DFC-8F1BCC25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2BFDA3-C6FB-4040-B780-D222D1CB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F20803-11EF-40CA-B96C-025DC5D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CF92BC-8B6E-47FD-962E-DED9E48F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E26C71-5D06-4ACE-80CB-DD6F7504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0CAD90-7754-47C8-B1CD-40C3047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0245FA-BA99-4580-8F9C-A1917196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81C8-C56A-4740-A2BA-2AEA1652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A499A4-2428-4681-94B8-58DBC09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82861C-0F58-4892-B009-1FF1EE6B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678E73-72C8-4B52-9C82-42D1838D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42BE72-5C69-4620-AFF6-EA7989FA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A66B80-7620-4399-82AC-ECA5A85A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AF3803-1181-4702-8302-DAC90C8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CD9C67-D485-412C-88CA-9BDEAE16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A76636-2E85-4974-B598-7CC463E5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62DF68-E9C6-4C98-A7A0-D9EAF1A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0D16C3-26DB-472D-942F-EE5628E8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43EA-2C33-432B-8881-94286079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2FA035-4DC6-4111-A96E-CE9BDAA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F41488-473C-4DA7-867A-D2F8EF62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515EF0-2D39-4FDA-82B2-7111D197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04AACA-254C-49DC-9712-F6F4E358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C77F11-E5F7-45ED-87D2-32A5153F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01946C-F967-4FC7-A750-87882EBD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74D10E-B8BC-4040-AF91-D1E7BD27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FB5022-B5D5-4C1E-AEBE-00B40BCF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0F2FBE-09D5-42B3-8CD2-D6E97908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CB989C-FAE0-4F35-B837-574A91CD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846C-16D9-4744-9013-FE6FAFB2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06A557-2742-490B-8002-0F88DD8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86C96C-61C2-4975-A7F0-B1D6CAB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2A0E87-848F-4872-A2E5-D16BE358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FB184E-F4EB-4F42-82A3-92B1EACF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A3B359-0E63-47BC-8901-38867BDF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D6BE61-D5F8-4654-AC41-5F281F63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A9F0F4-E21C-4F49-A1DC-49FF5F31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578A45-144A-426D-A34E-A565D15F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328063-AB91-441B-8896-99FB299F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82542B-BBDE-4C87-9566-1FDD094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C672-47A8-419F-8BF4-87099938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13D217-A919-4F14-8D47-436AA89F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E1948C-2BE8-4587-BB9E-A5C440C6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BBE0FF-FD4C-4575-8212-5F4584C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F0B391-833C-4F24-B2E1-DAEC0923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109985-7A19-438D-BB59-59E1E8A7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1A9DBC-F49C-490A-83F7-C63DD1CF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DAFEF2-73DC-4A16-983B-4A76923A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AEA0A7-F448-4EA3-AB7E-5B41E167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34003B-9C13-490F-B253-6B099D5D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BFF16C-25CB-4633-B8C1-66C060B8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20B9-DB7C-4D52-8655-5A451293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2EF227-4B1D-4C31-AFED-C7502F56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27B8AF-FBA1-4897-A635-9199CBD5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351346-4646-4815-825F-34B23B42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4AA99E-3EB2-41F1-AB92-46265063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CF8A65-5C58-4122-A289-81D8C7B9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FE7D33-DEA9-4A08-B1C4-0B5A7BA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A36CFB-5CC6-4CC1-B325-3200ECD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D0EE44-E510-4B51-90ED-74AD8FD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DA8BBA-AAAC-4054-839B-86D06476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C8A046-182E-48CA-AFBF-B2D7523A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4D75-A094-4DE6-8FBC-7C66A126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2A712E-E75D-4B04-A107-7D87A716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A8B3-0973-4446-92EF-8912B09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F15-035E-4DCF-9C86-F2FF02EE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EB41-88D4-4DBF-BE89-7D1AC9AF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2ED8-5AC7-4696-8358-8B82E4E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3695-6831-429A-B3C3-E8030AE0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8E1B-3C9A-4D3F-8D84-BE61E009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E6DA-87D0-4CC1-AA43-FD165C60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8FB0-6EC1-4BEF-A4F5-0AE0460C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DF5A-AFED-4BEC-95A5-E04336A6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039E-4AFB-427D-85D3-45EB1B4E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C415-A905-4213-B3A7-ECA801F4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9D3D-C178-4DFB-AE9B-9A4083FE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7C9-80DD-4EE0-940D-2A9CFC6C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3181-2A26-46B7-8631-9A44D0E5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1842-6382-4904-82D6-AD18888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4B9A4-C720-4C46-BE18-69196E7A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3A43-EA97-4E40-94CB-EAD8B30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E1C2-57D1-4BC9-A682-EDAC320A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FF07-91C1-4ED5-A122-6FDED6D4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9D01-597E-4900-88F2-4C22B5D6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E31-BB75-4764-A96C-39936070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75B34-3C26-477D-91EC-DD5679EB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8F3-D231-4C8D-BA83-3E9E722B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362EE-B829-4F86-AC51-A3FA40B0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BD893-9E67-46DA-8264-DB3A1CCB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A1629-2CC2-47B7-8E43-C67CE258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BD64A-AE4F-4E9A-9D52-97B4CB0C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993F2-FD53-4A98-B1C6-56F90DE2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E3A19-B419-4902-82F3-DC8B37A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2180C-EFCA-4159-892E-0B91031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311AE-3AAD-486B-965C-216EA56F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FD78F-AFFA-47FC-9948-759C30AE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E1D08-01D2-4E14-8588-4522A019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E49-9CDB-477C-9105-0698742F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40D8E-58B8-482E-9473-3478C0DE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65D1C-710D-436D-A7DD-20DF728C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02AA3-8FC6-4966-B022-5C08043D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F1B8C-FBE7-41A8-A0F9-F09E1E7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5B512-DC6B-4104-B662-61ABA2F3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2B414-C34E-4C01-B3DB-1144F4DE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358A9-DBF7-46E9-B3CE-A20FDD63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DDAB8-71E3-48C3-96A6-5C919048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27894-1AD0-4F69-8369-215EA0AA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57A3B-6D91-4055-889B-E70730E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243-7307-4E25-AFEB-4BA60D47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4DF5B-2E90-4F0D-A199-81D731AF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38991-6AAF-4BD4-973B-1207484D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2C271-BBDB-4E1E-914C-BC7442B4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E4F52-CF33-4E91-9D62-64D97D9C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5003B-3FBB-476F-9E25-BB6FF2A2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165B4-F4E0-4B22-A314-5312D732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50415-F8AC-44B4-889C-4BCC340E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7CDE1-3E7D-4AE0-874E-B7923922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F8E27-2AF8-44D3-9F7E-0310372C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6CD8D-22C1-45B9-91B5-3CC47CB3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B01-CC69-4001-BAF1-C54DDE99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AA8CE0-CDF7-45BD-B6F0-17ADA50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AAEDD-CE4C-4B5D-9BA8-2A62009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E8796-F451-4B4A-B1BE-4B66E8B8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B029D-7D5B-4A00-8718-240E7C92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EBC81-0969-4A3F-A215-9FEF2833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71D0C9-A62F-4ACF-B7C8-74B66622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A5A5D2-65A3-4EE5-9384-D88C07B7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6025B7-4435-40BB-8C2D-36B5BA4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8EDE0D-C0E3-46CA-A2BF-393A98CF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BC4665-C31E-4B91-91C2-AC8A7126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FA2-B542-4EAE-9D7A-C9EEEE01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A8CE4-A0F3-4FC4-889C-84E887EB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F9C60-6874-42DE-B845-701F7B33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D545C-D06C-4573-A0D9-2B0E0F49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1FB4B-AC15-4731-8B92-9A1E605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F57584-B11B-4433-BC0F-D4552DFD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70DDC9-F21B-4E60-AE0F-47CA5407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9923BF-7568-45F0-8479-3EFFE69F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E74FB8-ED02-47C1-8577-DAA47057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615C14-E3F1-4C7E-8B46-C2D2F52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99C370-F2D9-4D5B-B819-11A064FE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7AC0-4EB3-40B5-8A67-4DB7A4325DF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5CF8-9A17-4B97-BEF8-AC17578C7AA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FE25-952A-4558-88D4-39AEFF0837D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E10A-CF83-4447-9F7E-0287BF1C94B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F2F7-E1DD-4F75-8953-74A9041D47D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383A-B5BE-4881-AFD6-747A3F613DC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AAF9-9A6A-4C10-A240-D200F32FAFE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A29A-9141-417A-9404-DDB52F35E8B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552B-F729-4D2B-A4D0-F47FA0086A9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08DE-5A91-4D3A-AC67-ABDAC861321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AE9C-999C-43EE-82F7-D47E605E16D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D155-38F8-4FD7-94DC-2829B2D03D7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9BD0-870C-4C4F-A39F-2677B7AB003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44BE-682B-4D5D-B5F8-4E89A1EAF30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By Bradley Wilkinson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2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3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ntrasts on the light that shines on her face and the shade that hides her beauty.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talks about the waves in her hair and how it dangles in her f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says that even her thoughts are sweet because they are in her head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describes the beauty of her face and that she is quiet and calm yet eloquent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mments on the small details of her face that remind him of memorie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She is at peace with  everything and loves innocently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Recourse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terature book pg 773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4:02:52Z</dcterms:created>
  <dc:creator>EMORY UNIVERSITY</dc:creator>
  <dc:description/>
  <dc:language>en-US</dc:language>
  <cp:lastModifiedBy>GACS</cp:lastModifiedBy>
  <dcterms:modified xsi:type="dcterms:W3CDTF">2010-04-23T14:16:13Z</dcterms:modified>
  <cp:revision>7</cp:revision>
  <dc:subject/>
  <dc:title>She Walks in Beauty</dc:title>
</cp:coreProperties>
</file>