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8F2-815C-448B-BA74-66040BE2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EE5-190A-4808-96B1-F9E4648B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5C1C6-65F9-4E69-B2C0-039ED4F5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F55122-610F-4E18-91B6-8EA199A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DC306-941A-442B-94A3-68D85F37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28E65-2C97-4CDE-93CE-046401E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188669-4B12-440F-BD60-9A138D6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CE3D9-66C6-48D2-80DC-084B4B0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0B587-F401-4448-9ABF-58DB293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355A4-2E52-499C-A552-DE7AB544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7AB95E-BFC6-4EE0-BEB5-E696C409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9C65DC-E630-4C5B-B1F3-D354FEC5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D51-C411-4C97-9353-E5E1CBC4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65D87-D7B2-447C-8516-3252E06E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1BD44-B8D3-4397-AB64-18155B2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08A0B1-B5E9-401E-9D9F-0F4D021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F9F00C-A87D-4F01-8A27-4D08BD49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72130-C1C2-44B4-83B1-C64A473F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02280-2377-411D-86AA-A1E3D69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DB6D09-205A-4588-B91A-B4230034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B89061-22C3-4630-80C5-CB40E46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EFC80-8D65-4EC6-8626-E5E23E58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58EF26-AD99-4DB2-A6C7-76590A0F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502-B4ED-40A7-96BB-0421B06A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7FCBC-ADD9-4221-AFC0-CD2E0343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4E4FC6-3F95-4B42-A9CE-2F6DB135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4A7517-A960-48CD-9F1A-485F3A2C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9ED14-79D1-4BAB-8DD1-433AB8CD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8D8F09-55B3-4B75-8DE0-8EF63CAF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A2C1EB-D66E-458B-8A85-8D4B88D0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018F5-7074-4FF7-B582-989E7633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E10845-01A2-4BB3-8EDE-94398377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6C15A3-0C55-40FF-AF21-DBAB376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B4141B-41D6-4778-A637-2FD154A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C178-0493-4DDE-9E6F-4798CD88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CDDE3B-148B-4CC4-86F1-1972827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0B55CB-CF1E-42DB-88A9-06F9FE32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32C778-E381-4F09-8CB4-714BE101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02DB24-E5AB-431C-8404-8054379F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6B8585-78E8-4BA4-BE6F-E784E646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DFD09C-8A9D-497F-A11F-4CF8D18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498425-21FF-4482-B893-93738FD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C8ABAC-1725-46CA-B950-AD28F4AE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54EE2A-DD28-4613-8EB9-63A20200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E3F35A-42E3-4A96-AE23-1F97831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3BB7-9B31-4164-AAE0-B5DA32E2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8B14BD-2E51-4704-B0EE-E6522DE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6E30A8-2782-46B9-A8D1-71F9F634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7513D1-847B-42C2-B23B-FF796054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C1788E-2218-4AC4-ADB8-7849EDB8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3DCD65-6EED-4E9F-9959-55FE41E8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2FF0A7-A444-473F-9364-DCF03B8A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91413-2CBF-4FE9-8E06-D25D655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806C36-3642-4901-B742-9CD51E9F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4BDFE1-78E9-49F1-B8B7-3839521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F50FB9-932F-4E1F-9D8B-A42D7620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51EA-5742-42D2-852B-8D9407D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9EEFE-1AA4-42C9-8539-79B22571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970A83-DACD-4098-A257-3A51F26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3CA9FD-9887-4F86-B1DD-FA4AAE82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88784B-7705-4D55-832A-CA503C2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6D741C-DAAD-49BF-B73B-BAB30AFB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3CC86-96A0-4CFE-9942-DD0838E2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ED7D9B-8687-4A36-9C6E-BB2C49F4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9B9E18-DA15-46BB-A739-CF05B4E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9577BD-66C0-499C-8BA2-27392EE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CCCA92-0B9F-4A7B-8E10-39F24C6D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A00-3C9A-4BD2-AAAE-7580C2F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67F341-F206-4396-8713-D9BF9B39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ECCA2A-C1ED-480F-9FBD-F5FFA84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A6E69C-B626-412A-AC5B-50770A45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256DBB-40E0-4053-BBB2-B6AE917D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903C38-3F50-42FB-9C03-3439BB9C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FD7FAD-2949-414E-9584-1BFF37C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91124A-D938-4219-BA80-F9C6266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DEFC65-68AB-4AF6-9213-DAEB3044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344EE5-7864-41CD-86A9-979799C9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D0B459-E236-4D81-A1E4-97B74953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B649-49D1-45F1-9143-5B27B287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F9B00D-D18B-4F85-B438-0D12EE04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BADF27-34A5-4C52-B8F2-3B9AE49E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0DDA76-0BD1-4EE6-99D5-D89177B7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23C928-7BE2-4B5E-8963-E4F0CBE1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6FC6DA-DA83-49AD-95CA-C2459B47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A1093F-792E-49BE-88D9-67D560C9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A76CE6-5A63-4147-9D3E-BBB4950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B480BF-11F4-449B-A833-9A0267E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0E40F4-4376-45E0-B8F0-F4257AC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D86C56-F1FF-4F54-A5BD-E234EC55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D43C-C099-44BC-AC84-A629748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066408-12AD-4ECA-B218-745B1D82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F8B-4E6A-4C33-9554-619179C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F63-46BD-4C6B-A25A-286D2730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C9CB-4F90-441F-9F0B-990FF71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B05C-0BC3-40DB-9ADD-2D65D47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562C-C8F9-4A93-A203-759CA68F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E082-F032-4853-AE30-5C0D38A5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B3AB-31A2-4C16-83DE-B5935788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3241-BC7D-4EEB-9F3C-FEF0BDD6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98E8-F24C-40AA-AB4B-3CBD2C07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3169-771E-45CD-872E-7A4438E4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0318-773E-441E-95BE-45477B3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5C78-37E3-4C72-A802-F46C55A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3D7-FE46-4FB5-9E1D-0BD91423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7088-2305-4167-8EF9-DF3BB618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44F6-C196-477D-9408-09DA2293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7FA1-CE42-46A9-98F8-C4121C8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0A16-42E1-4946-B5DD-86721AC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96A0-660A-4892-A3C3-1A518944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8146-68D9-48FB-BD5B-70CA1C1B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02D2-0340-4E32-9623-F6697204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CE1-D762-4BFC-81C3-9E9597A4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7E8CF-DAB2-4A26-AED1-AD3EB10E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341-2590-46CF-BA26-40B3B018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47BFB-8579-4FF4-86E0-AE5D6E70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4A8E4-0398-4BB6-B111-4547B64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A67FC-7A5C-4357-A2E6-521B20ED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42141-76B7-45DE-94C1-C2C6423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740B9-AE81-4141-88A2-1E17ECAB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53070-97F1-4E1C-8535-CA6B03D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753E8-DA0C-46C7-AACE-D210F1D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B9B12-02B3-4FF0-BF11-B94A8BF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D1587-3D2F-4AE4-8287-6A0D1BAD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B4ECD-1190-453A-9C98-A694B9ED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E5B-C897-4554-A44E-61842A94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C2B66-B3BF-43E0-8B97-D3E7DADE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18D9F-FB3D-49CF-8341-97F2F649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EF51F-A81F-414C-A8E4-125B1D8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E797A-7E29-4A09-BF8F-883B1B7A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9F62D-4B2B-4108-95A2-32F6A244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D6498-D949-435C-B42C-7033D4C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9B488-AE06-4E78-8220-9FBF1963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4A95F-4638-40C7-8980-0294D57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4DB9B-FC03-4C0B-A8B2-31F4BD7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FC39B-2380-4123-8202-31C7587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AB0-E051-4A22-A894-45BB87F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A8D50-229D-4E6B-B0B2-2FC4BB1C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1F5D0-E2E7-4118-8F26-045DF813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8C28D-2CF8-471A-9700-C135EF27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C7A0E-57E8-4206-8463-39C985D1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3168C-C8BF-4A29-BC7A-A9935D2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EADC5-F51F-4B0D-A7A9-2F10AFC8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E4805-D83D-4874-8C9A-CA7ECA9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9C1B5-75D4-4056-ACA3-D32667B7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A6A1C-51F7-4BC6-A11E-CE90FF6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2B283-E905-4CBA-B958-4D5F48ED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EAF-7E9A-47EC-AFE6-9E62175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8E359-DF70-4313-9C79-B355F54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2775F-A303-4FBC-AC64-EDFB0AC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70954-16F2-4D63-9777-67B5B8D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B447A-14E6-47E8-A65D-5B49CE0D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368FC-DE64-4125-AE06-11E429C7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205E2-4C84-4C98-9EFB-BB2C0AF7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933940-90FC-4050-B85F-B3DE218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EA6B4-FE42-421D-9E66-9496A78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5DC2B-9884-46E9-B346-BEA2C631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E2C67-5B2D-41DF-89EA-6347394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B93-E84E-41E5-A691-C40D8A9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1A554A-7235-4615-8A2C-7706C078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B3871E-81ED-4713-87E6-5C7E787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CC5C3-04F9-4993-B407-0A6F5AD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BF03E4-11C6-49B3-BBDC-9E87EE0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FF5867-30A0-4B17-8134-5C881A14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AD13C-4235-4662-A163-A4E1A554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7E73CF-F333-448E-A544-E3FE9961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627B8-22B7-4B2F-A988-9DEC8F2F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D5D784-EE0B-4AA5-AB87-FC13CF7C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7BA606-65F4-4946-AC84-5A15454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818-A3FE-4BDF-8CD4-FC30FDD2014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0216-BFA8-4224-BCB3-0D304F7C359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28B-FF44-4831-A346-5CA71A59F9F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B5C-9F50-4ACE-88FC-0D23FC8EE5D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5AB4-4DC7-466B-9F5A-98DFF9E3716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41B9-9EE2-4F5E-AA71-4177A99142B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E93-0791-46A5-9A17-5D25C6299A1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1618-209F-4B74-A023-1641EE4788B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8AA-6D49-47E5-AADE-58F7B5878DA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5917-97C4-4163-82A6-8A4B800F7EA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B0AB-9AD4-40E0-9A49-0A8CEE77B13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E9A5-6852-4AC3-8788-9CEACA1ACDB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CBC-29AA-43F2-B390-930F38453FC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D87-E02C-4969-93DB-096125E1E42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Light and darkness are contrasted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hair is mentioned as dangling in her f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thoughts are in her sweet head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Beautiful but eloquent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mall details of her face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he is at peace and loves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06:54Z</dcterms:created>
  <dc:creator>EMORY UNIVERSITY</dc:creator>
  <dc:description/>
  <dc:language>en-US</dc:language>
  <cp:lastModifiedBy>GACS</cp:lastModifiedBy>
  <dcterms:modified xsi:type="dcterms:W3CDTF">2010-04-19T17:43:43Z</dcterms:modified>
  <cp:revision>4</cp:revision>
  <dc:subject/>
  <dc:title>She Walks in Beauty</dc:title>
</cp:coreProperties>
</file>