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EF4-88A1-4BEF-AD08-2969227F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327B-5975-499D-B36A-5B1380E7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F96F8C-5E2D-4926-8992-61F6E1A9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629FD0-CB20-4CB6-B075-6A4B57F0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2C1457-EAFD-420E-AE32-C41343E5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691A31-EFBF-4819-B99C-5537ECDD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063846-2E53-461A-84B2-97BC6AFC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6EF375-1A04-4CD5-9C11-1F3BF37F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CC2218-C25C-48FD-B137-CDA3B228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C74F89-5429-46E0-A293-4C352BE8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F3205E-0A5C-4DFA-98B3-A4B6511D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BF6D24-57C2-4EBD-B80D-4C316E6F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DDC4-565F-4656-8EF9-0BCB477F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694076-0EF5-49AB-9B98-1CE73ACE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0960F8-97F0-499F-916A-E5851CCD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948B2F-B557-486D-90EC-37D291DA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90DA62-5CD3-4306-8071-C38A257E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33694A-7DA5-464A-8331-BD5D753E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4DE748-EF69-4BD8-BD95-A489C56B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9C3470-5CB6-4E42-968B-997B4997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2EDE8D-809B-4A0A-88DB-56E63090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7FA4B9-C8AF-4F74-9DF0-058DD7BF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197594-C253-4CF0-AD24-F186A104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9A2-A409-4A7D-9D8B-7EA8F6F0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ED7448-A7E8-411E-8544-3C02C83C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92C935-5387-48D6-A8BB-6501E472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ACAA38-1F15-4682-91EA-DB42BE2B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3ADB7D-64C6-445C-9490-BAC332E1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427100-0750-4A7C-8D26-8EC8F440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796C20-EABF-42BF-96E2-44DB64A2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A62431-B39D-425C-A28C-79406DAD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35D5E6-5A13-48D7-BD18-798B1BF8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CF61DE-8F9B-411D-B527-CEB904B4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26A544-F7EC-4163-B014-43EE1E35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AFFF-6642-4EC7-AB78-7C51DDDA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42C8C5-9532-4320-B82D-6043CE79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738F48-BF6C-4C50-B57F-C3DEE23D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95EFE0-BD14-44A8-BADA-DA538759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78E651-4BB6-48E2-A524-15A508CD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B822C3-C905-49D1-B383-5D5B9638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909AA1-81C7-40F4-ADA8-53F9D753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106F1A-E8BA-456A-8D2E-3E2F6643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15AE5F-A89F-402B-B3C9-4D8F1CC7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7BC546-C4D6-421D-8176-736E7D2D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CC169E-027D-420B-AD76-199CE800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0C30-24DC-4ED6-8DE8-EFD1B9BE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779925-9E33-4864-AD4B-33F070FC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258F9C-1418-41FE-93D5-24B74B98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9CD0B3-59D5-4576-A342-30010ABB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FAAA67-1085-4014-9C5F-C27765BA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5C69A3-B968-4761-848F-2135E6ED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EE9D90-B3F3-4D6D-9245-7DAE55A7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3D9431-023B-4FB0-BB62-3D80173E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9B00EE-5DB0-4351-8951-57D87243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23C5D0-0DB5-4BC3-B084-07461EEE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65F8B8-7D9C-40AB-93C6-673CBDC8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7F98-C262-47EE-950B-315EC4DD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BF2793-B46B-4ADE-8F31-1F2217EE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35D9CF-5AC2-4169-8A4D-5D9761E3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4DC847-3F5A-4CFE-BAFE-294262D0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143ED0-5435-40B8-83D7-2C56A405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18F2B0-39B1-4889-B1B6-FDB10FDF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2319C6-A568-411E-B0CA-094A209C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8EFAB6-3C92-43B2-B014-4030D172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CC2CAA-6467-4D18-9D8C-384C6AD9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63ED73-CC8E-40E1-B72D-931EDC95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D40C60-5DCB-458B-B05F-0FB32FA1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4E6E-E085-4CEC-8FCC-3A4D05E3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F4E9F9-F3A5-42CF-9865-DEBF5BA7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7EF735-B627-43D2-BFCF-DCA85736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26298C-EAAC-4B72-B33D-6895F0AA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B75E44-37FF-4080-958F-517316F2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B398F6-E46C-44E2-8856-C3FE2FFC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636509-B493-44CE-A8F0-4951482B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C708A5-8E35-4E85-A5EA-B0BB68DC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06BF71-97D1-499C-8708-D94D6806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877B76-1134-4E96-B3DB-A0716A46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EEF771-CCE4-4F14-8625-ABA88F24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FA25-5124-4809-80BF-2ABABE3B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DB39B2-EDD7-4A98-B0CB-52B3E83D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1FD88E5-228D-44E9-9E90-6E8A0FCE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46D6E9-2D22-4D00-B58E-E5A5C818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74A603B-AADF-4173-8C55-5C35C2A5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E2287C-8AF9-4846-BCFE-CEC85A86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D19E0A-A940-4B58-88AC-006C16A2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0813DE-66E2-4BF9-846F-E1794B89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009047B-5B8B-4CA8-980A-0F0A2149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E8F8BB-E2BB-4AD3-922B-6912DC6F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2BE473-9540-4B34-AF1E-CF1B4DD4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D3A4-F4B8-4EFF-AC39-73BFED28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28006C1-11F7-4C0D-AAE2-5C35FBCC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A1DC-B1C8-4688-8A73-7B1E2327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5E7-D523-48EA-9F47-E7058C3C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0B88-4759-4873-9822-82371792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1E57-533F-4123-B7F3-5FBFF755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5F05-9ECF-4B49-8A14-3A11573E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24A2-5812-4629-90CC-93F53979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94FC-EAC8-4687-B4C2-6D7E2980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792D9-4199-4FDD-9DDE-62185733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B38DE-616A-4D5C-AE6F-B6513BF4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1553F-6064-4A4C-9294-3BCD2354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9A163-35A0-41EA-A144-94B71CBA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5A36C-DEB2-4E14-969D-D48A7FB7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DAC-2012-4BE1-8402-C47F50AD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D272C-26BC-4323-9778-FA8C7D10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EB012-C4D0-4A6F-9816-E0AB65B2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CD694-532B-4311-AFB7-431C88B1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E22FE-F5CA-43AF-AF2E-0DD1CE99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9E6C3-A02D-45D3-8B01-6E42073C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62C61-58C1-4887-89E6-6B9CCB21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27C1B-C04C-459A-A104-50943763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451-4933-4C5A-B0B3-0CCCD65F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DD138-F166-435A-A425-A70C3B88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45F-F797-45A2-BAB4-BA5E9515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9CEE9-AF89-4C34-84C2-106C8EB9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A3E89-F779-4A3F-9135-3CB436AC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25CA0-2250-4E67-99FB-0D7AF8CC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46C73D-3A1C-4528-BD62-8C74B727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82AE5-7669-48CD-B282-2436EA3C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DA23FC-C293-4184-B3C6-A0B130C9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C186B6-DC1E-4110-A95F-D9970938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04E57B-79A6-47A4-AE0F-BE71053C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C3A986-4E88-4FD5-A9E5-86DDBE4F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EEBAA7-033F-42B9-84C1-337FD5A1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76A5-9174-4C2E-817A-7CA661A8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464B99-24B5-4CB7-9B14-5D43D723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4BAE49-E524-4778-8641-A62B120E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87196F-F401-4808-8253-40E2735F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4ACC89-0DC7-4E08-8143-F7555FB8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352896-632F-4DE8-8FC9-C4D8922A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8D9FE1-B385-4D5C-B940-32D4F57E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7136D9-AD8F-4029-8281-5E79A0C5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3E8090-26F3-4AC3-823C-B97DFD2C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D97A4A-6A70-4A43-B11D-8D7C6B13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0F61AD-2DD4-413B-B6E1-24E338FC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579-FC23-43D2-867F-6A67E98F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FB8E2E-B29E-4B85-BC3D-6A8C952E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11807A-C0EE-4503-AA2B-361E82DC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C04D95-15B2-44A5-AF54-D3F943BF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C648AD-2C12-47E8-AC1B-72882E7D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F43E88-9334-4F1F-99AE-FAA76FDF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C8EFAB-CF99-4A7D-B6AA-63D446A0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5A71B8-6350-4AAD-81F2-FB8DA586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609BF5-4366-4B97-A33A-F91655B4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58EF20-A3C8-47EB-9830-8B1ED8B9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D3CA05-0EEB-48B0-B431-5356AD82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94B-DC41-4C63-ADB9-04CAEE46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04EFD2-E737-4563-B178-DD6A4C8B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AF5896-921C-42DF-A995-3EF1EE0A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4EDF7E-ADA4-4141-AA24-4B2BB87B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2CFC16-CD54-46BF-8D53-E49DA0BC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901BC7-BCCC-478F-8867-D74BAC4A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B55885-C856-484A-808C-355C1E98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6626C1-81F6-4C3A-A89E-957420C1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BDDAC2-539B-43EE-831E-FBC14CD0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AABDF1-F01F-4828-9B84-40AE013D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0F8297-653B-425A-8E21-F9BDE16F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5C1-A96D-43EA-82D2-37E94B6A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F9AA66-8B38-4174-B0D9-119DF8A3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5C027A-5576-4D4D-BAC6-EE24B445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B09E7F-29E9-4645-8E34-11F77EA4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ED2121-AE31-49D0-8B62-6218533A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5F50F0-FC84-4F62-BE61-40515A94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40FA40-562B-408B-9F52-D7443046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CBBCE1-BDC2-4AA6-852E-9FEE2D45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0B97FE-6E5E-471F-8D35-030AB5D3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20B369-4553-4433-AF2C-FAAC1C19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BCC1F5-140A-4182-9837-955AA6C0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AFAB-AB89-4D7B-8FA1-0BC228854D4C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0CF9-ABC9-457A-8893-F888C768F55F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C19A-09AE-4B5A-8644-863BEDAF20E3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EF0B-E0F3-4D95-BE36-4652A7E42482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C911-9E6E-4C5A-AFD5-B78477E70EC9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055E-1377-493C-8936-0EF6CDF73C29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7E47-9B9C-4274-8AEB-FFAF3ACD5D88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4360" y="581400"/>
              <a:ext cx="7746480" cy="56829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4360" y="6042240"/>
              <a:ext cx="7746480" cy="108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4360" y="563760"/>
              <a:ext cx="7746480" cy="24883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F997-594D-4595-AAB8-4BEF27D6FFA6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A370-5C82-4F36-A767-E8B787762FA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04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92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2276-E58F-44EF-9036-4436C615DD3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1505-026C-404A-BCB5-DEC5CAAAD0C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120E-BE42-4150-AB94-04DF1500D5E2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995D-180D-4973-A902-38D811B7E97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2EDB-381E-442E-BEFF-5EAFD7465D6B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alisto MT"/>
              </a:rPr>
              <a:t>She Walks in Beauty</a:t>
            </a:r>
            <a:endParaRPr b="0" lang="en-US" sz="5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Stanzas 2 and 3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38088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One shade the more, one ray the less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Had half impaired the nameless grace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Light and darkness are contrasted 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Which waves in every raven tress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Or softly lightens o’er her face;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r hair is mentioned as dangling in her face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Where thoughts serenely sweet express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How pure, how dear their dwelling place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r thoughts are in her sweet head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38088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And on that cheek, and o’er that brow,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So soft, so calm, yet eloquent,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sto MT"/>
              </a:rPr>
              <a:t>Beautiful but eloquent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The smiles that win, the tints that glow,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But tell of days in goodness spent,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sto MT"/>
              </a:rPr>
              <a:t>Small details of her face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A mind at peace with all below,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A heart whose love is innocent!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sto MT"/>
              </a:rPr>
              <a:t>She is at peace and loves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90360" y="2971800"/>
            <a:ext cx="734508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The End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2:06:54Z</dcterms:created>
  <dc:creator>EMORY UNIVERSITY</dc:creator>
  <dc:description/>
  <dc:language>en-US</dc:language>
  <cp:lastModifiedBy>GACS</cp:lastModifiedBy>
  <dcterms:modified xsi:type="dcterms:W3CDTF">2010-04-19T17:43:43Z</dcterms:modified>
  <cp:revision>4</cp:revision>
  <dc:subject/>
  <dc:title>She Walks in Beauty</dc:title>
</cp:coreProperties>
</file>