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77C-D5FC-46AC-87CA-76AB730B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96E-2A1B-4518-AE2E-12C2BBF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92C3D-A956-4B9E-BBDD-74E7F4D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57568-172C-478F-8B16-DD1B975C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CAA02-98E1-4A5A-BCBA-4CEE8AB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4DF4C-D510-483C-A2E7-0A4E035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7C40B-C420-4AA4-826F-F854913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61AEB6-CB55-41BE-BBD9-A4C7291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12D0B-073F-4445-AD1B-59AF021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6A844-CF31-46DF-9C2D-AC787468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38E2A-904C-4F23-8686-AFE9BA8C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99B9F9-315A-4F3C-AFA1-7F0915F8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882-F4BB-4BA5-9467-E777AA7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AB918-6CA8-4CD7-BF66-103E45C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BC1DC-28A2-40A0-909C-566567F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9C3EFF-0F90-40EF-A733-314C231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DF1D1D-4DBE-432E-A9C1-326C1AEC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23D9C-0B9B-48AF-B835-EEF05B0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04624-38F9-4514-B79F-B12AF4F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160FF-3047-4A06-A83A-A71C669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D66437-E8D4-4F56-8C3E-DCB36BB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C2430-A092-4F79-B429-9D356DD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1B1F7-9001-4FFA-8C9D-29C6B044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335-DB40-4174-9652-87410C8A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55CE82-4895-4014-9364-AA2EA428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8D63D7-6C74-42E5-BBE9-D147F04C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D3A15D-8EFE-4B14-97AF-D934C50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1CE59-28E4-4D1F-B7CA-5BE41FA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EF4B47-FDF0-4CF3-A356-4E58DFB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606807-0C95-4FEF-8865-7905113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25E09D-A909-4AB5-A118-8F0F56C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39F2AA-B74B-45F2-BBFE-513EE6C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5CBE79-2DAA-453F-986A-5DC11708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852A9B-4723-439A-B495-4333782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099-7C81-46D5-B623-7025D03B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4E8A6B-E360-439A-BD5F-7BB2CF44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4242F5-EF1D-4ACC-8F48-AE0A2088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3A7C8-D477-4DE1-853B-A3FDF6F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3D48C1-E4E0-4745-9B12-AB745888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41BA0E-C671-4148-BAD1-04DF46C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52F5A8-8662-422D-817D-DA57FC6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91D780-8097-4F54-95DF-DB3AF186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73A19B-766D-405D-A6B8-C8FC5EA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00DAB1-F2DA-4EE4-8A4A-C2627950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0203C-9EB9-4606-B117-E28FAA75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5D0-4EB2-464A-9AE5-A9AC2D14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EAC2C1-15D1-4BE1-88E3-9A09991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D8EBE7-8B33-43FC-867D-A0615D1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516303-BAF1-4224-93B3-9E616969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89DB46-08C3-46DC-9231-E0B367AF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EDFB76-DAB2-439B-94AA-58D143B6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93B0FC-F037-40B7-9DDE-A809DE7A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1646F2-E90F-4227-ABDB-AA20B544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0F7317-90DF-41EF-8FBB-0E4BC9C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713CF8-557F-4878-A750-02F49510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093051-A311-4AE7-873A-BE5A388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FA6-E42A-473F-9DF0-48A6B57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9688D7-9991-41E0-9CCF-2E60E2A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7ADB6-FD57-4418-BC8D-E30B5EC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3F304C-783B-4CCF-A757-9477DB9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C6A74C-A268-4FEE-98FA-5A7D4D4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6615BF-0A31-4C80-876D-2A401E2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75120-463E-4475-BF73-BB4C2E6E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32DAE7-FCA7-435F-992D-CAF4807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DC308B-6B37-4D3E-9C36-0A97D92F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509449-DDE2-40A0-A4AC-D0796CD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41FDA7-0E48-4716-8B9F-6B0C2F6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5D46-3F6E-4806-BA7F-B5F273D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C15E6B-21BB-4577-BB00-07C83E89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AFCFE7-225A-41D8-9AA6-C1AF5FC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6DF723-5E6C-419B-8BF8-A164B8B8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80D73C-8144-4BA9-8E24-AB3E91B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7E730C-1E7E-47EE-B423-32DA961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5B55A3-EAD9-4F67-844F-983B3F9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450E74-1860-4681-BAA2-5C47801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F2EF38-8024-4242-A949-E86AE1AF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221CFE-4360-4176-8EDF-4AC4E3DA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5C59ED-01D1-4A49-92D8-32F07F41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D043-88B6-4A3C-BBF6-D85C393E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E25AC3-6153-49EA-9BCD-8B0DFF74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620F8D-5FAB-4A68-8119-10CC2AC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6A4C72-411F-4844-8983-96972215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FEBEA3-2397-45BC-933B-40BF4135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746067-E29C-4CAA-BB1E-FED7A1E9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C7188E-1A36-41C8-97F6-6A3B744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463638-7DCF-48D4-8DE2-F6704F4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82DBCD-1AF5-4DDD-9A1C-ED57BC6B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252302-BE04-4B6C-B953-44A0A350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15EB02-CA47-4042-B26E-6CB4AF68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9A9-6D4A-4C33-B4FA-24FE92F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E338F8-B0C0-479C-AB35-2F763B66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A28D-F343-407A-8659-34BFAE6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6A9-1892-4FDC-8F11-57CF9AA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04F2-FD06-40FF-852A-B76DB56C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2A42-4881-4E5F-AE62-4ACA081C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D5BC-DA1E-4313-8C28-003F1C1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E8CE-1DCD-48A5-BD12-77B4AE77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B274-B22A-4B90-9F73-1522508A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FCA9-D294-4328-8025-4D0EFAA6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2A2A-5900-449F-8193-1F10EE0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65A4-E895-4BD4-9B65-61600E33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C992-4312-4409-9739-3FE795F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B672-959B-4E6E-881F-DC87D10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4A7-841F-45EC-AE99-06038D1D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1339-BB6F-454B-A31B-09C9873C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F016-9BE8-4619-8BF6-9654169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90B7-7E64-45E7-92A9-9B704E3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E53D-116E-4559-B243-3A22CA6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FC14-FBA9-44DE-A918-7A1C7BD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F256-5A71-4C52-8B19-52CF5E61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6955-DD99-44EC-8C07-3C26E6F9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2E7-EBF4-491D-B1A3-71E3BE66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A6565-DED7-4DE0-B36B-EFC31F73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07E-72AD-48AE-A892-E8BAD62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7FD03-7BE5-41B8-9B45-0507AA06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B683D-4F28-4C57-A471-70C9A7DC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F3177-60B4-45E8-8F8C-0AB0B20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258AC-DED6-4141-A0C0-7D93C0B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B8DEC-4B48-4F32-B7EE-8F51596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0DA37-257E-4BBE-AD6A-7B7EF02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3F81E-81F6-4BCF-8128-88A8D27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0BBC3-5396-4A55-8649-770FC3A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619B2-2D23-44A1-A7BA-2E21E31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8DB7A-A5A2-4DA4-BA15-9D17CB31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57E-EB1D-4C7A-89C4-8D35733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DBA5E-AB94-4BCE-982D-BAAC363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D699F-76CA-4E79-93EB-5196D7DE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D2268-DE1E-4917-BE76-91A3A1E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85A1A-F4F3-44B5-A70A-AC8D8841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FD982-11F6-4648-B0AF-DD73657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7D20E-B9A1-4A59-9C37-DD3A7C82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773FC-AA22-4F0B-9EDC-C283DBC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7274E-CF05-42DF-879C-FB01846E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5A407-7FF9-4C19-8013-79E0C49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AD5FA-FD00-44E4-B5E2-2741FDA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B69-DD50-43D9-8DA1-DA6D1D7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8861C-BC6D-485F-88B3-76BAB654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64E89-6DAD-4F66-A38B-3F093FBE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625D6-552F-40F9-8BD6-179D6A17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F4FF2-C1F4-4091-BD96-F0532360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130FE-0F48-42EC-B3D7-5D230767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70D3E-7827-40DD-A7C7-5FB6852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31697-DDF0-48B4-B113-842ED97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FD8E6-DEE4-4724-96F2-A0E424EC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5155D-9369-49C2-A799-B730E1E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3A9B4-B89E-4400-83FE-2304762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6AB-8DDC-4C5B-A6E6-005C8C19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AD611-4574-4753-ADC3-C0B2F17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3A9BA-09A0-4A83-9567-F43ABF6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2EF6F-1400-4F77-9E49-A49DA01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B7A38-D877-4E90-B365-7BCEC680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8E87B-9E12-4BD1-9E07-867ABF18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1B77E6-533D-4CBF-9DDE-63781D96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C1836E-33D6-4D83-A038-C74477B1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B7552-5B6A-4335-B70E-981B7866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B477B-64A8-44D8-9906-29AD9E0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C56A3-FFD9-4BD1-87F0-6343203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B44-CA47-40B8-94AF-1EE7036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12835-DB44-4DD2-B0C3-8B724EF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A9918-11AF-43F0-BA8B-AAAAA9E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D943C-5D0E-4F8D-B2DA-4BED8C7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797C2-9FA8-4F46-A7E1-45BA41B4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79CC5-1BE9-421B-BD95-7196481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78331-7C94-461C-BB64-5613F7D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5BA20-284D-461A-90A8-AF046300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85134-1DAB-4D16-B6C5-F4F1CF4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15CF2-1499-496D-9AF5-B77DE96F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BD3D2-55EF-48B8-81CD-6E933E9F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A47-4C48-47ED-8D10-500D9200D3D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CEE-1668-4B42-8977-3DCD258F8C9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0D31-75D3-4CFA-8A32-1191A3D99C4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7A0-8CA5-460C-A835-0DB79EF0A9D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A687-34E2-48D5-A8DB-DA6F1675DD4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A14-D07D-4D81-A6A8-4A108357B64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B15-B112-4CA4-A731-8D9D4EA5E9D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D19-4632-4810-AC26-218066B1730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5080-5247-45BF-8B46-5845E4973D1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9168-CAC2-4B4A-9FAB-AC033AAE4AA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E73-F8AC-48EF-8E30-CD73297B2AD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2B6-B159-49BB-9AD9-877CD4087CF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61A1-8E49-4BE9-B17A-264B0AFB2A7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89F3-C10A-4F42-B4D8-B7591E42931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Light and darkness are contrasted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hair is mentioned as dangling in her f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thoughts are in her sweet head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Beautiful but eloquent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mall details of her face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he is at peace and loves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06:54Z</dcterms:created>
  <dc:creator>EMORY UNIVERSITY</dc:creator>
  <dc:description/>
  <dc:language>en-US</dc:language>
  <cp:lastModifiedBy>GACS</cp:lastModifiedBy>
  <dcterms:modified xsi:type="dcterms:W3CDTF">2010-04-19T17:43:43Z</dcterms:modified>
  <cp:revision>4</cp:revision>
  <dc:subject/>
  <dc:title>She Walks in Beauty</dc:title>
</cp:coreProperties>
</file>