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CC8-DE7B-4113-B661-CC2DDBA6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315-75E8-4601-BF49-F19E4A59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B74657-66D9-4159-AA01-0C67BC5C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B49604-3769-4903-AB48-BAC929B1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4F0C68-F3EC-4480-A4D1-69891352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350AE1-F50E-485C-ADD6-5A6499CC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35F70B-932E-4C32-BCB5-FC67AB0D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95E6DB-532D-4D98-BA55-17285837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48A7FC-EE85-4E13-BD81-4ECA038D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EAD958-9D70-47BB-933C-36E70FE1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D0341B-002A-45F8-A3A7-00C0CE16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0F721E-23C3-46B8-90FD-A4C74B94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32D-CF31-4A25-B481-56A1BFF1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208406-6A5A-41E8-8D2C-EDB85973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BC9EF1-C6EB-43F0-9DD3-4F6893F7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DE85E2-377A-41C0-90E2-6DB82896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1B6A25-6552-4334-A177-7F50A46A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A40F97-C54A-4BF0-B674-129A1B6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DF0D7C-ADB8-4CB5-8B27-C3BB2D8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24D1D7-E237-439A-93F0-6D877905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0B2B4E-8B29-4549-8CFF-FC715073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A48486-1FB6-48CB-B661-037C0479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93A0C9-6FE6-44DA-9419-6510FB44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9DD-BA02-4C4C-84F2-21847243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B7D920-9CB3-4437-AC61-C3F55879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E278EC-BD00-430C-B34F-1CED51B2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E818BC-B419-4F4E-A1EF-77AD1AF8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3E6639-90E1-41DA-A0ED-FB38FE5E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69DC6E-BE92-4F04-9BA1-4A786D32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E21E81-033D-41EA-8592-9F147819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D14586-48B1-425E-8F6A-2DF18892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131836-6AD3-46C0-A95C-A79169E7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DE7A4B-BAFC-48ED-9763-6B705CAC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31ED2D-BD96-44D7-A7B7-61AC5DB6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40CA-2A32-4D37-9FB8-26C6BE47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62F5F2-48E3-467A-A306-DB77D192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FBF8EF-7A9D-466E-872F-EE0EBAA8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B13879-9264-468E-A248-853E827C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089B2F-6AB9-4F6C-B213-17FB73A5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552312-8B11-4E33-852E-2EAC0BDA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B08528-CEFA-4E4A-9C5D-2D202A45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B8FE5E-4A4F-4133-97CC-827547BB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08D250-1849-4BD6-824D-8F411800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7B0D02-D7FD-444D-805D-74B806C4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17E860-F4B0-4E45-BD20-86D0AC70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4A9E-7A38-410F-B030-957DDAB1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F27C1D-7A98-4B8F-809E-37C29A48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3E3FCD-FB75-410F-9AA2-E45BD0D3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26B481-7CB2-4126-8658-58D8EDF5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DA87F3-96AB-4AC2-9CE7-DAF693A6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8F4009-3436-4144-8B31-DB19661B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7E03A4-5C8F-49E4-94E2-706FAAA9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312B6C-604F-43D2-8994-5B3E2387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940E7A-4E80-44BA-9A18-905D475E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C17437-120B-45A7-A86D-630E425E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F67F80-CF70-4998-A238-2AF8174E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6300-47BE-4E33-82F1-4D4C4F45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5A4647-3016-48C9-979D-ADB79F8F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696B00-C96E-44B8-8A67-9E75BB09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D5612A-D160-4DE5-BBE9-C6881290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35182B-91D8-4756-AF1F-475B24E2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EB314B-7C27-4CAB-AD60-2B3D7714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FF0F84-0DAE-42F6-8C0E-D22CD070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4C8F35-14F7-4202-9857-5A29372E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72B1E8-0BE0-4736-AF7B-67502939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CA6F54-F570-4A71-80FA-0CC20FA3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4BFDC4-B800-44D5-8224-07D846CC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3D4E-AEC0-4A52-B991-F7A914FC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01A240-730A-43A7-983F-931786DD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4F0AF7-B69A-4330-934C-862A21C6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C659EE-2A9B-4FE1-AAB7-B0B1FDEE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9505F2-0425-48DA-9543-17B99049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2A7D24-AACB-4B5A-83DF-D2003598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A36C68-4B71-47C9-9E62-F8164E10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381790-B14B-4F69-94A5-90AFF3FB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01D54C-217C-4CCB-A1A5-26B68F03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9D1A31-65F8-43F6-BB67-5437DF03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739BAA-EAA5-424F-9692-5901B8E4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05E6-93C6-433A-98F8-BDC2DAF8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0BCB1A-D889-49E2-A659-74321155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FC0DAF-2D9F-432B-B5E8-8D43755B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91929D-A1AC-470C-ACD5-EF4E62D8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752DB9-53F1-46C3-9C39-6A12CCE4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CC85DA-519B-4741-A20D-399FB2CF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87D06F-997F-4D0E-BCF7-0752A3C5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5EB8DF-0D94-418D-8EF2-71F76753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972E48-E538-4A12-8956-0F48314D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643AD1-BFD8-48E9-8D40-9B33780F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C186F3-7056-4C82-BD61-25618FE4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74FF-1732-45EA-A682-7F63D297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441736-A4B6-451C-9C9C-388BA461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ECE0-EFF6-4DE5-8D59-DD245031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215-134F-41D6-A5EB-B8C6F0E5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E9CD-371F-4229-A171-E4DFCF01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60BA-186F-4E2B-B6D2-2B65A164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8FB8-8A1C-4473-B3AE-04F278B5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EEF6-5CC5-422D-8345-365B2F44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C309-D03D-4933-A27C-632BD851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5839-E0E0-4072-891E-71045BD8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427F1-9D98-4579-9269-9BE21065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2533-2C1E-4214-BCD1-7810D781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855E0-B4A4-4755-8546-9629BF9C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C48BC-4888-4F77-9250-6605DBAD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CCC-8793-4905-A4D4-FCFEAED7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D764F-9CC0-4B9B-A563-77CD2258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AD53-EF19-4C33-AA55-7D7A9BD9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6E7E0-9D33-42D0-BB4D-60D0E449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ADA7-F353-448B-B9A5-224056F3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7F6CC-CC04-464D-A8E2-E9E850D6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E374-4DB6-418D-83AC-35FB9DF6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887E-AD50-4DB8-A53A-2BB13169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5C1-99DA-4483-9D67-072ABFE4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6BADE-5FFB-4D8B-A393-EDEC56C1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FE1-4F4D-4CD7-81CB-37D9346F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6E307-AACB-4BBE-828B-18A8E862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3E008-6CB5-4CF7-9827-687644C6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1D96B-9AF4-4C4E-89F8-065E3E46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56FE8-6D22-485D-975D-4E14CB17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A9A9C-9A97-414E-82D8-333E6CEA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F2B28-AD80-4D8F-A997-BC08AB32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E6169D-1363-45D4-B740-DE34C6EE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21DC4-3862-4F24-85F2-C0211788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C563C-591B-4907-9C38-D210F8D1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E4DF1-AF33-4A3B-BBBE-D17A8951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ABE-A9C5-4318-ABF4-38E0486B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0ECC2-3106-4D7A-A99F-7061A73C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BD899-EDC5-4233-9E71-C5A69648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8727F-7E9A-47DC-B490-A4160C14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389E7-159C-44FF-A0F4-D1CAB3D4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5F8F2-3450-4042-BA9C-E151ACB5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DD477-4C65-4F6C-A306-A5EC51E0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CB4DA-654E-403C-8A12-C1838EAB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B2F71-F88C-48E4-BF24-5C469478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70EC5-C3E0-4605-BC36-68E2893E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587D7-C0D1-43A6-9FA8-5E99FA8F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725-20E3-4FF5-9578-32AE2465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A0D8BF-1C7C-4844-9CA5-9A5E54A8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F10A2-E154-462E-9658-C277E73B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A8270-AE0D-4377-9F38-832AE315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3281C4-64FF-4AFC-880E-B8894D04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F9867-2169-469A-8405-A8F92950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3FE07-670A-4D69-821B-1F0D6111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8A724-1594-487A-A1CD-7E970F46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7D4A2-9808-443F-AFA7-C492BEDC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A168B-7A96-4B99-B764-DAB91B83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295464-ADA4-416E-ABAF-BB9CB0DB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0C4-4CE7-4B1A-9AA3-327E6143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00870-4B5D-4C87-A6CE-21973DB7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0EFBA-F1E6-4AAC-A2A6-E747EDE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43720-46D0-42DC-99E7-49DB8369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DAE5D-86E0-4FB9-84A3-CEF5DF2D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C6C32C-117E-4D8E-90C8-DD934BAB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2CEFD2-E2CC-4F47-AB5B-85F3CB13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B8F348-A27D-4E8E-BF1D-6B0A6D40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63EF40-FD41-43B9-8585-3F2D26A3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2E88D6-F410-4158-A0EC-6ABECD05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9E37AB-3265-4DF5-AB78-8662105D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6E2-0222-43C0-836C-621FBE33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C26F9B-CC8F-414D-9BC3-A1618C51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3A06D1-B160-47F6-AFAA-D4E9539D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419D66-CD61-4122-8B3C-6BA9CA51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90F9A3-8C99-44CB-A335-8868CF79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1FB932-06D5-4739-BFDB-03E0B845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E74A85-0B44-41F2-9413-2E96A48C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D4067A-19C4-4AA9-BFE9-0FDC7043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EDA998-B257-4D2F-9CE7-EE1B4597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310086-7525-4C2B-A234-C7E4DC46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8E1DAF-46B0-44F3-B481-00438F24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5758-F82F-43E7-8B32-A97A0F1715E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9C94-AD7F-45DA-8632-A2FA6628191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3221-12E4-4B2A-AD03-19D35231D58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97DA-479E-43FC-AA8F-DD22375849D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3B4F-12AE-43F3-AEBD-B8DF4E24CE8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A8A3-7FA0-4D40-96B4-CAB3C8693F5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21D1-2DE3-4A33-89D1-59C742FCCD1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D405-8AFF-4CD2-BEB2-23F8DBB6B01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114E-F508-451C-891C-8E909E27254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04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92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6E72-E45C-4552-9613-25119974699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8551-FB99-48BD-985C-553B696C190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99CC-CD9A-494D-896C-65A409281E6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01C9-D10D-4EBE-9C80-1A66CD91DE5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99E3-03F8-4CFA-8337-9A558DB2706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She Walks in Beauty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tanzas 2 and 3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3808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Light and darkness are contrasted 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r hair is mentioned as dangling in her f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r thoughts are in her sweet head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sto MT"/>
              </a:rPr>
              <a:t>Beautiful but eloquent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The smiles that win, the tints that glow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But tell of days in goodness spent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sto MT"/>
              </a:rPr>
              <a:t>Small details of her face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A mind at peace with all below,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Calisto MT"/>
              </a:rPr>
              <a:t>A heart whose love is innocent!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sto MT"/>
              </a:rPr>
              <a:t>She is at peace and loves</a:t>
            </a:r>
            <a:endParaRPr b="0" lang="en-US" sz="15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3450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End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2:06:54Z</dcterms:created>
  <dc:creator>EMORY UNIVERSITY</dc:creator>
  <dc:description/>
  <dc:language>en-US</dc:language>
  <cp:lastModifiedBy>GACS</cp:lastModifiedBy>
  <dcterms:modified xsi:type="dcterms:W3CDTF">2010-04-19T17:43:43Z</dcterms:modified>
  <cp:revision>4</cp:revision>
  <dc:subject/>
  <dc:title>She Walks in Beauty</dc:title>
</cp:coreProperties>
</file>