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3CB9-90B3-4445-A8DD-ED5C3EB48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FF13-FB69-4585-8C2B-86F7C7FA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2081-742B-45F0-BE7A-310B81C3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49CC-5A2B-4E80-AE9E-5D22DEA14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503C-D5D4-4BCF-AB7D-6030CC59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613F-B007-466D-B031-4F1231BD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D605-A445-4698-B2E5-5ABD4058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3EB4-A141-4922-ABFF-7677FD82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B4B7-0B6A-476C-AD59-1EF733B3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8DC7-99CF-44E5-8340-6284A8D5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B5A4-A582-4AA5-A2BD-81E58DB4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692D-AE87-46B5-A735-9F941237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24B7-E268-4A8A-AF6F-4FA77C9B5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ege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ll Miz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ction Trebuch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raction Trebuchet used manpower to fire a stone project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983120" y="1600200"/>
            <a:ext cx="336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ed by space under the trebuch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several to break down a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unterweight Trebuch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unterweight trebuchet is a trebuchet that used a weight instead of manpower to throw a project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913280" y="1600200"/>
            <a:ext cx="3508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s rid of the peopl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several to breach a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unpow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troduction of gunpowder to Medieval Europe revolutionized the thinking behind siege weap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npowder is a mixture of charcoal, sulfur, and saltpe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9621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nn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nons were used to throw metal cannonballs into walls at relatively low traject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l was finally able to use because the gunpowder was able to throw the much heavier object far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952880" y="1447920"/>
            <a:ext cx="3461040" cy="2298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638680" y="3962520"/>
            <a:ext cx="2305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traje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tru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onsis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ow m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iral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piral effect of trying to stay technologically ahead of enemies drives almost all major technological advances. This effect is evident in the medieval arms r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gineers build stronger castles, so besiegers develop more powerful weapons. This process repeats forever and ever until there is no longer a need for more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8098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in use of siege weapons was to destroy a castle wall that was being laid siege 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int of using machines to do this was to throw heavy objects long distances to breach those wa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0" r="0" b="9524"/>
          <a:stretch/>
        </p:blipFill>
        <p:spPr>
          <a:xfrm>
            <a:off x="2133720" y="3733920"/>
            <a:ext cx="4800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ttering 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attering ram was used to try to knock down a part of a wall by using a large log to ram into the side of the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57400" y="3048120"/>
            <a:ext cx="50958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hit the same spot tw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ow to 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ily sto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ly Catapult / Ona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arly catapult was first used by the Greeks and Romans and continued to be used until the early Middle 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onager was similar to a catapult but used a sling instead of a c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562720" y="1295280"/>
            <a:ext cx="2279520" cy="2343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207040" y="3886200"/>
            <a:ext cx="332748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ged at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effective against individual 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predic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ngo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ngonel replaced the onager because the mangonel could fire many rocks at one time, while the onager could only fire one stone at a time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angon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lso a word that means engine of w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38280" y="4267080"/>
            <a:ext cx="350532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ged at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le to fire more than one projec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effective against individual 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predic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ebuch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rebuchet replaced the mangonel in the late Middle Ages. The trebuchet was much more effective that the mangonel because the trebuchet could fire a heavier projectile far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400800" y="380880"/>
            <a:ext cx="2155680" cy="2779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911920" y="3429000"/>
            <a:ext cx="224136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1:11:12Z</dcterms:created>
  <dc:creator>Julie Mizell</dc:creator>
  <dc:description/>
  <dc:language>en-US</dc:language>
  <cp:lastModifiedBy>Julie Mizell</cp:lastModifiedBy>
  <dcterms:modified xsi:type="dcterms:W3CDTF">2008-11-05T03:08:36Z</dcterms:modified>
  <cp:revision>4</cp:revision>
  <dc:subject/>
  <dc:title>Siege Weapons</dc:title>
</cp:coreProperties>
</file>