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7AB-1767-422F-8271-4E4A16DE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82F-0297-466B-9583-12E70133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A38-AC33-4667-A556-A08754CB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F94-E3D4-4122-980A-A8F9881C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B2F-D1F5-4728-89A9-4CE546D8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8C9-12E3-487F-9557-C121D5BF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A08-2887-4135-801B-AC9C0711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2A4-06D6-4CB3-9F86-7E179F05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BD3-355E-40A2-A3D5-530F1BA2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ABF-40FF-4E34-9320-E72DCF1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C76-7345-4F0D-A89D-D7EF8FA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96A-9B7C-42DC-A75C-D79160ED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19DF-9EC2-41E0-ABE7-7CA89689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eg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Miz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ion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ction Trebuchet used manpower to fire a stone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by space under the trebuc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k down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erweight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erweight trebuchet is a trebuchet that used a weight instead of manpower to throw a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rid of the peopl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ch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npow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roduction of gunpowder to Medieval Europe revolutionized the thinking behind siege weap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npowder is a mixture of charcoal, sulfur, and saltp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ns were used to throw metal cannonballs into walls at relatively low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was finally able to use because the gunpowder was able to throw the much heavier object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61040" cy="22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05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 effect of trying to stay technologically ahead of enemies drives almost all major technological advances. This effect is evident in the medieval arms 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ers build stronger castles, so besiegers develop more powerful weapons. This process repeats forever and ever until there is no longer a need for mo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use of siege weapons was to destroy a castle wall that was being laid sieg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using machines to do this was to throw heavy objects long distances to breach those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2133720" y="3733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ering 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ttering ram was used to try to knock down a part of a wall by using a large log to ram into the side of th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095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hit the same spot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Catapult / O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catapult was first used by the Greeks and Romans and continued to be used until the early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nager was similar to a catapult but used a sling instead of a 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2279520" cy="23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07040" y="3886200"/>
            <a:ext cx="33274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go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gonel replaced the onager because the mangonel could fire many rocks at one time, while the onager could only fire one stone at a time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go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lso a word that means engine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5053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fire more than one proje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buchet replaced the mangonel in the late Middle Ages. The trebuchet was much more effective that the mangonel because the trebuchet could fire a heavier projectile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155680" cy="277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11920" y="3429000"/>
            <a:ext cx="2241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1:11:12Z</dcterms:created>
  <dc:creator>Julie Mizell</dc:creator>
  <dc:description/>
  <dc:language>en-US</dc:language>
  <cp:lastModifiedBy>Julie Mizell</cp:lastModifiedBy>
  <dcterms:modified xsi:type="dcterms:W3CDTF">2008-11-05T03:08:36Z</dcterms:modified>
  <cp:revision>4</cp:revision>
  <dc:subject/>
  <dc:title>Siege Weapons</dc:title>
</cp:coreProperties>
</file>