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3C9F-9CF2-4617-AC58-B26CCEA3B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6854-36C1-4850-BF28-CA2E86BAF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1481-63E8-4D50-90C6-E5CAD619A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DFD1-728B-41A0-B749-35692D69E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17CC-4690-41E6-9ED7-9529256E7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E83C-CBBC-4757-85F3-2C783663B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4468-D71F-4EDD-A4B9-AC6BF37B6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6F45-E204-4E42-B211-5728A4F98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C462-F0D9-4A89-9076-B335BF7C4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9E2C-ECEA-4D43-AB94-63225E82A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0AE0-0526-4591-AC6F-42CC2B2AC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64AB-5C5A-4DD0-99BA-8F55F85EF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0a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4CD94-FBA1-4D33-9C62-F66BA99F1D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0a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iege Weap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ll Miz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0a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ction Trebuch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traction Trebuchet used manpower to fire a stone projecti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983120" y="1600200"/>
            <a:ext cx="3368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0a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s and C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wer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mited by space under the trebuch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several to break down a w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0a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unterweight Trebuch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ounterweight trebuchet is a trebuchet that used a weight instead of manpower to throw a projecti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913280" y="1600200"/>
            <a:ext cx="35085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0a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s and C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ts rid of the peopl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power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several to breach a w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0a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unpow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introduction of gunpowder to Medieval Europe revolutionized the thinking behind siege weap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unpowder is a mixture of charcoal, sulfur, and saltpe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876920" y="1676520"/>
            <a:ext cx="396216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0a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nn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nons were used to throw metal cannonballs into walls at relatively low trajecto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al was finally able to use because the gunpowder was able to throw the much heavier object far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952880" y="1447920"/>
            <a:ext cx="3461040" cy="22986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638680" y="3962520"/>
            <a:ext cx="23050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0a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s and C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y power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w trajec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tru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n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onsis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low mo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0a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piral Eff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piral effect of trying to stay technologically ahead of enemies drives almost all major technological advances. This effect is evident in the medieval arms ra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gineers build stronger castles, so besiegers develop more powerful weapons. This process repeats forever and ever until there is no longer a need for more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876920" y="1752480"/>
            <a:ext cx="380988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0a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ain use of siege weapons was to destroy a castle wall that was being laid siege 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oint of using machines to do this was to throw heavy objects long distances to breach those wa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0" t="0" r="0" b="9524"/>
          <a:stretch/>
        </p:blipFill>
        <p:spPr>
          <a:xfrm>
            <a:off x="2133720" y="3733920"/>
            <a:ext cx="48006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0a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attering 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battering ram was used to try to knock down a part of a wall by using a large log to ram into the side of the w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057400" y="3048120"/>
            <a:ext cx="509580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0a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s and C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sy to hit the same spot tw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low to m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sily stop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0a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arly Catapult / Ona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early catapult was first used by the Greeks and Romans and continued to be used until the early Middle A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onager was similar to a catapult but used a sling instead of a c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562720" y="1295280"/>
            <a:ext cx="2279520" cy="23432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207040" y="3886200"/>
            <a:ext cx="332748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0a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s and C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nged att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effective against individual tro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predic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0a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ngo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angonel replaced the onager because the mangonel could fire many rocks at one time, while the onager could only fire one stone at a time.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Mangone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also a word that means engine of wa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438280" y="4267080"/>
            <a:ext cx="3505320" cy="24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0a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s and C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nged att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le to fire more than one project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effective against individual tro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predic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0a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ebuch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rebuchet replaced the mangonel in the late Middle Ages. The trebuchet was much more effective that the mangonel because the trebuchet could fire a heavier projectile far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400800" y="380880"/>
            <a:ext cx="2155680" cy="2779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911920" y="3429000"/>
            <a:ext cx="224136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4T01:11:12Z</dcterms:created>
  <dc:creator>Julie Mizell</dc:creator>
  <dc:description/>
  <dc:language>en-US</dc:language>
  <cp:lastModifiedBy>Julie Mizell</cp:lastModifiedBy>
  <dcterms:modified xsi:type="dcterms:W3CDTF">2008-11-05T03:08:36Z</dcterms:modified>
  <cp:revision>4</cp:revision>
  <dc:subject/>
  <dc:title>Siege Weapons</dc:title>
</cp:coreProperties>
</file>