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49A-4C3A-4295-ACCB-595B09A6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FDA-4FE0-49D9-8876-B26CB3CA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F68-BA9B-4849-B8B3-462A8D75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911-4502-43F5-9771-40EDE6AA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0EF-0330-4994-A8E9-BA88DA62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79E-51A1-42F7-A0DF-EBAECFDE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D07-8939-4ADF-9140-6EC919E3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02B-8E04-48CC-B690-1DB7140D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7C7-DDE2-4448-B76C-0DF4C339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31C-38B8-4AAC-8DC9-70A5BEE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5DA-F905-402F-9F89-FDF73DF9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32A-CF8E-44D9-96CD-E927557A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D3E5-55AA-4A0C-A29B-9925FADE5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ege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Miz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ion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ction Trebuchet used manpower to fire a stone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by space under the trebuc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k down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erweight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unterweight trebuchet is a trebuchet that used a weight instead of manpower to throw a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s rid of the peopl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ch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npow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roduction of gunpowder to Medieval Europe revolutionized the thinking behind siege weap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npowder is a mixture of charcoal, sulfur, and saltp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ns were used to throw metal cannonballs into walls at relatively low traje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was finally able to use because the gunpowder was able to throw the much heavier object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61040" cy="229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305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al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al effect of trying to stay technologically ahead of enemies drives almost all major technological advances. This effect is evident in the medieval arms r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ers build stronger castles, so besiegers develop more powerful weapons. This process repeats forever and ever until there is no longer a need for mo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use of siege weapons was to destroy a castle wall that was being laid siege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using machines to do this was to throw heavy objects long distances to breach those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9524"/>
          <a:stretch/>
        </p:blipFill>
        <p:spPr>
          <a:xfrm>
            <a:off x="2133720" y="37339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ering 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ttering ram was used to try to knock down a part of a wall by using a large log to ram into the side of the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095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hit the same spot tw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Catapult / O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arly catapult was first used by the Greeks and Romans and continued to be used until the early Middle 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nager was similar to a catapult but used a sling instead of a c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2279520" cy="23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07040" y="3886200"/>
            <a:ext cx="33274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go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gonel replaced the onager because the mangonel could fire many rocks at one time, while the onager could only fire one stone at a time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gon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lso a word that means engine of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5053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fire more than one proje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ebuchet replaced the mangonel in the late Middle Ages. The trebuchet was much more effective that the mangonel because the trebuchet could fire a heavier projectile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155680" cy="2779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11920" y="3429000"/>
            <a:ext cx="2241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1:11:12Z</dcterms:created>
  <dc:creator>Julie Mizell</dc:creator>
  <dc:description/>
  <dc:language>en-US</dc:language>
  <cp:lastModifiedBy>Julie Mizell</cp:lastModifiedBy>
  <dcterms:modified xsi:type="dcterms:W3CDTF">2008-11-05T03:08:36Z</dcterms:modified>
  <cp:revision>4</cp:revision>
  <dc:subject/>
  <dc:title>Siege Weapons</dc:title>
</cp:coreProperties>
</file>