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2F3-3B85-405A-B0F5-1B9CCAD9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5C0-A870-4099-8FD3-85D470FC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8F0-4F07-46EE-86EE-030AA170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3D1-FA63-4949-AF03-F18C3479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0E7-6250-48D5-8E16-A90700B4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B10-114F-4507-B1A9-3C94D771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15D-6FE3-438D-8F2F-8297D91E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F6E-A9E4-411A-BFFB-2292500D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AF5-CFAF-4821-8F18-E11A2A47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3D5-37E0-41AE-8294-FB3BD5A0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992F-70F2-4191-A708-087BAD44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0BD-2615-47DC-B101-9F98EB9C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6986-85B3-4A38-8105-D751A7B08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ege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 Miz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tion 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ction Trebuchet used manpower to fire a stone projec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83120" y="1600200"/>
            <a:ext cx="336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by space under the trebuc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everal to break down a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erweight 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unterweight trebuchet is a trebuchet that used a weight instead of manpower to throw a projec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0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s rid of the peopl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everal to breach a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npow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roduction of gunpowder to Medieval Europe revolutionized the thinking behind siege weap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npowder is a mixture of charcoal, sulfur, and saltp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962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n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ns were used to throw metal cannonballs into walls at relatively low trajec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 was finally able to use because the gunpowder was able to throw the much heavier object 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461040" cy="2298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638680" y="3962520"/>
            <a:ext cx="2305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traj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ral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iral effect of trying to stay technologically ahead of enemies drives almost all major technological advances. This effect is evident in the medieval arms r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ers build stronger castles, so besiegers develop more powerful weapons. This process repeats forever and ever until there is no longer a need for more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in use of siege weapons was to destroy a castle wall that was being laid siege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int of using machines to do this was to throw heavy objects long distances to breach those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9524"/>
          <a:stretch/>
        </p:blipFill>
        <p:spPr>
          <a:xfrm>
            <a:off x="2133720" y="3733920"/>
            <a:ext cx="480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tering 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ttering ram was used to try to knock down a part of a wall by using a large log to ram into the side of the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095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hit the same spot tw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to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Catapult / O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arly catapult was first used by the Greeks and Romans and continued to be used until the early Middle 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nager was similar to a catapult but used a sling instead of a c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2279520" cy="2343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07040" y="3886200"/>
            <a:ext cx="33274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d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ffective against individu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go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ngonel replaced the onager because the mangonel could fire many rocks at one time, while the onager could only fire one stone at a time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ngon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lso a word that means engine of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35053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d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le to fire more than one proje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ffective against individu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0a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buch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ebuchet replaced the mangonel in the late Middle Ages. The trebuchet was much more effective that the mangonel because the trebuchet could fire a heavier projectile 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155680" cy="2779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11920" y="3429000"/>
            <a:ext cx="2241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1:11:12Z</dcterms:created>
  <dc:creator>Julie Mizell</dc:creator>
  <dc:description/>
  <dc:language>en-US</dc:language>
  <cp:lastModifiedBy>Julie Mizell</cp:lastModifiedBy>
  <dcterms:modified xsi:type="dcterms:W3CDTF">2008-11-05T03:08:36Z</dcterms:modified>
  <cp:revision>4</cp:revision>
  <dc:subject/>
  <dc:title>Siege Weapons</dc:title>
</cp:coreProperties>
</file>