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685800" y="6507000"/>
            <a:ext cx="105156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BOL, BLEM : Greek BALLEIN “to throw, to 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2"/>
          <p:cNvSpPr/>
          <p:nvPr/>
        </p:nvSpPr>
        <p:spPr>
          <a:xfrm>
            <a:off x="457200" y="6172200"/>
            <a:ext cx="891540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Diabolical </a:t>
            </a:r>
            <a:r>
              <a:rPr b="0" i="1" lang="en-US" sz="2400" spc="-1" strike="noStrike">
                <a:solidFill>
                  <a:srgbClr val="000000"/>
                </a:solidFill>
                <a:latin typeface="Broadway"/>
              </a:rPr>
              <a:t>adj.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Of or like a devil; very wicked or cr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3657600" y="68580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UNIT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914400" y="1773360"/>
            <a:ext cx="4457880" cy="3941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5715000" y="2751120"/>
            <a:ext cx="38862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 wicked witch of the west constantly performed diabolical acts to get what she w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1371600" y="685800"/>
            <a:ext cx="73152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UNIT 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57200" y="6534000"/>
            <a:ext cx="8686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GREG : Latin GREX, GREGIS “herd, flo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85800" y="617220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adway"/>
              </a:rPr>
              <a:t>Gregarious </a:t>
            </a:r>
            <a:r>
              <a:rPr b="0" i="1" lang="en-US" sz="2600" spc="-1" strike="noStrike">
                <a:solidFill>
                  <a:srgbClr val="000000"/>
                </a:solidFill>
                <a:latin typeface="Broadway"/>
              </a:rPr>
              <a:t>adj. </a:t>
            </a:r>
            <a:r>
              <a:rPr b="0" lang="en-US" sz="2600" spc="-1" strike="noStrike">
                <a:solidFill>
                  <a:srgbClr val="000000"/>
                </a:solidFill>
                <a:latin typeface="Broadway"/>
              </a:rPr>
              <a:t>Liking to be with other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743200" y="27432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029200" y="2743200"/>
            <a:ext cx="4354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oadway"/>
              </a:rPr>
              <a:t>The gregarious seals shared one rock among themselves to get warm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42:17Z</dcterms:created>
  <dc:creator/>
  <dc:description/>
  <dc:language>en-US</dc:language>
  <cp:lastModifiedBy>GACS</cp:lastModifiedBy>
  <dcterms:modified xsi:type="dcterms:W3CDTF">2009-10-13T17:38:34Z</dcterms:modified>
  <cp:revision>3</cp:revision>
  <dc:subject/>
  <dc:title>Slide 1</dc:title>
</cp:coreProperties>
</file>